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C482-835C-482A-95FC-F900A2115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E593-5B99-4236-B00F-46A02702E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157D-E2E1-473D-9C66-05710CADD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373F-AB35-4806-B80D-494FB0AB0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0422-3961-4256-B76C-38380DE5A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84CB-E285-47C4-B549-527FC786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5670-8CA8-4028-8F0D-25ED902FF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FBBD-1968-4F13-A4F0-1AC9C333D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D006-28A9-478C-A74C-B40B69C14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D82E-7341-4CCE-A51E-792B1FA4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9D1E-3E11-40EF-B245-B476AB2B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377C-F1C5-4B8D-8352-9BF925CE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B9C10-5D77-42CB-82B7-CA89504420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0T00:16:47Z</dcterms:created>
  <dc:creator>Stephanie Salvatore</dc:creator>
  <dc:description/>
  <dc:language>en-US</dc:language>
  <cp:lastModifiedBy>Josh Lyon</cp:lastModifiedBy>
  <dcterms:modified xsi:type="dcterms:W3CDTF">2023-02-01T19:31:39Z</dcterms:modified>
  <cp:revision>8</cp:revision>
  <dc:subject/>
  <dc:title>PowerPoint Presentation</dc:title>
</cp:coreProperties>
</file>