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ED9-B2C1-40BD-8D41-58BB07E7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C4E-81E5-4BE3-93F5-A2C72413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D8A-55A0-4189-A9B5-75B577C2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3DF-E531-4320-9740-0452930B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6C5-AC08-4AFB-9929-B3FE68EC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472-2756-44E9-B19F-E8D5B852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BC5-7253-4E13-A2D8-2DC803A5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36C-956A-4C1A-9C56-81CB29B1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F3A-D584-4DE1-9220-DAF0E226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63C-15A1-4492-96F1-2D3B4A7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D36-48F6-4489-A5F0-A6B8948D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91D-2053-4EF8-A5B6-35028583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1E9FE-B9C1-417F-A52D-C995F8A55D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43718-37A2-42C8-A637-2860F0B91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538440" y="26798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13:31:00Z</dcterms:created>
  <dc:creator>Microsoft Office</dc:creator>
  <dc:description/>
  <dc:language>en-US</dc:language>
  <cp:lastModifiedBy>Kaitlin Redmond</cp:lastModifiedBy>
  <dcterms:modified xsi:type="dcterms:W3CDTF">2022-01-17T19:26:36Z</dcterms:modified>
  <cp:revision>41</cp:revision>
  <dc:subject/>
  <dc:title>PowerPoint Presentation</dc:title>
</cp:coreProperties>
</file>