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C55C-155D-4366-AB81-B7A3D43D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C96-BAFF-4EA1-9D70-922B0ECF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827-19F6-485B-84F4-1456EB2D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655-48B8-4F8C-8F62-44C05466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B8A-B0D8-4EBC-8C2C-9A74DED6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D8A-69CB-4409-BD7E-6F3E9D40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E3D-C15B-4587-8FA3-7ECE7E64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895-0E7A-4256-B68A-B8AC763F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167-8B77-4365-8052-1A930492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10D-3EAA-4027-BF51-74BC2862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74D-284C-4027-ACDC-D99ED014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BB0-7B72-405F-B236-4114937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C2914-7025-44D8-8E33-5ACA579ED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9T04:21:35Z</dcterms:created>
  <dc:creator>Jon Rodda</dc:creator>
  <dc:description/>
  <dc:language>en-US</dc:language>
  <cp:lastModifiedBy>Jon Rodda</cp:lastModifiedBy>
  <dcterms:modified xsi:type="dcterms:W3CDTF">2021-09-27T19:55:48Z</dcterms:modified>
  <cp:revision>2</cp:revision>
  <dc:subject/>
  <dc:title>PowerPoint Presentation</dc:title>
</cp:coreProperties>
</file>