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82B-9938-41F9-A7EA-47B44DE5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353-3E26-4BCA-B4E4-2EFAE49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4487-D9FE-46E6-8186-EC84CBCF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C6-E0A4-404F-9FC4-8506471E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33CC-7D0D-412A-9505-9684ED07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068D-19E6-4905-B61C-8DD8E6E5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12E-776E-45BC-8FC1-4F582CA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F6D-2AD7-47C7-BCD3-3DB04753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BAD-083B-4436-872D-6D2D14F5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90C-F803-4E36-86A2-16E8561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E0A-DD27-4D6F-AD1D-70A4BDD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ED7-22DD-4911-BED6-5F2104D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B7B69-A490-4166-B1CE-2A45B48779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28320" cy="70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92160" y="-92160"/>
            <a:ext cx="9379080" cy="704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4:21:35Z</dcterms:created>
  <dc:creator>Jon Rodda</dc:creator>
  <dc:description/>
  <dc:language>en-US</dc:language>
  <cp:lastModifiedBy>Jon Rodda</cp:lastModifiedBy>
  <dcterms:modified xsi:type="dcterms:W3CDTF">2022-03-07T00:19:23Z</dcterms:modified>
  <cp:revision>4</cp:revision>
  <dc:subject/>
  <dc:title>PowerPoint Presentation</dc:title>
</cp:coreProperties>
</file>