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404-C841-4B13-89B2-9F54F39D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3E1-94F1-4150-8920-3A90F1C8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6F1-3738-4383-AA70-E6925E6C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BDA-5A8E-4449-A9DC-E24F6D6F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FA6-BF0D-4D72-88F7-F9B60BF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910-7A51-4E1A-A258-5FF777C9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80A-85DC-4045-BAF9-D541489C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3EB-D288-4ABB-A7BE-6B40A69D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CE4-54D9-41DD-B8F3-81244CF7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001-858E-47B6-9413-99B9163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3F0-9DA7-4273-A2AF-A2E346D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DB7-CB2A-4A5B-82DC-67C44FE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40302-510E-4EE9-9334-7687AA27C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1-08-19T04:23:37Z</dcterms:modified>
  <cp:revision>1</cp:revision>
  <dc:subject/>
  <dc:title>PowerPoint Presentation</dc:title>
</cp:coreProperties>
</file>