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C6F5-D41A-4908-B1B3-574A941A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CD44-3231-409A-A231-2CD4476C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35C8-2727-4EBF-BE20-9EC2B3620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CC0C-9C8E-4BED-8F6A-731033BDB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A89D-8D1F-4A9E-94C6-8B612492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AF2C-7A5E-4603-8E35-121391A2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C22F-C223-4F64-8EF5-3094A500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1DB6-CBE9-44A6-9D9F-6DAC557D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0CDE-BB70-4F66-92D1-9BD691B5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8BDF-20A1-4053-AC19-79DF67E3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FA5E-7E4C-4C6B-B170-36F812A4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EAB4-B458-4FF9-BCD3-145F42FC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FF1CB8-E9B9-4F74-A8B4-FA6DFAE482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9T04:21:35Z</dcterms:created>
  <dc:creator>Jon Rodda</dc:creator>
  <dc:description/>
  <dc:language>en-US</dc:language>
  <cp:lastModifiedBy>Jon Rodda</cp:lastModifiedBy>
  <dcterms:modified xsi:type="dcterms:W3CDTF">2021-09-27T19:55:48Z</dcterms:modified>
  <cp:revision>2</cp:revision>
  <dc:subject/>
  <dc:title>PowerPoint Presentation</dc:title>
</cp:coreProperties>
</file>