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01401-55C1-481E-BE7B-E5BFAFF53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317DC-8415-4581-AACC-E041ADECF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23C5D-D920-4041-B217-68A21FF93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CD846-889C-4FE4-9F8D-07E06FE85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F9041-282B-4B80-9FF2-D7DF3F3CF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CA065-A48F-44AE-BC9D-493D3617A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A3F86-563A-436C-AB93-08E7D314C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1BC0B-8CB6-4501-93F8-EBAAE7A27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02B5D-4A70-4274-8192-6FF64A73E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C68BD-8870-4F6F-86EA-356346662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ED076-1E47-4756-9615-C810A8ABF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E0B6C-6EF5-41C9-B757-4EDAFE1CA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8F73EC5-E9B2-4378-818E-422CFE553DE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5DEB208-A766-4DCD-A45D-F44F98ECB4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1"/>
          <p:cNvSpPr/>
          <p:nvPr/>
        </p:nvSpPr>
        <p:spPr>
          <a:xfrm>
            <a:off x="3538440" y="2679840"/>
            <a:ext cx="185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04T13:31:00Z</dcterms:created>
  <dc:creator>Microsoft Office</dc:creator>
  <dc:description/>
  <dc:language>en-US</dc:language>
  <cp:lastModifiedBy>Kaitlin Redmond</cp:lastModifiedBy>
  <dcterms:modified xsi:type="dcterms:W3CDTF">2022-01-17T19:26:36Z</dcterms:modified>
  <cp:revision>41</cp:revision>
  <dc:subject/>
  <dc:title>PowerPoint Presentation</dc:title>
</cp:coreProperties>
</file>