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B3F0-A735-4D07-AC12-F9048CCA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475B-F20A-44B2-8AE0-EC5F30EE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53FB-841B-442E-8921-1F38680A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7A2D-E60A-46C9-B76A-FA6EAA37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BB45-E784-4A5E-8382-BBBF6151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56B4-F09D-47FC-BF89-A909C4CB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ED81-7495-402B-AAF3-8011EC59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18D-DF0C-4032-ACF7-C87B11D5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82F-2184-4ADF-86B6-605621DD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0B1D-63FE-4803-977B-E800095F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9AC-02E1-42E1-B726-5DA996AB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FD43-47C5-4D26-9F8F-68647283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AC65A4-D94A-4C9A-97CA-6C3D816BA08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1440" y="0"/>
            <a:ext cx="1218852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8"/>
          <p:cNvSpPr/>
          <p:nvPr/>
        </p:nvSpPr>
        <p:spPr>
          <a:xfrm>
            <a:off x="1440" y="0"/>
            <a:ext cx="1218852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0T00:16:47Z</dcterms:created>
  <dc:creator>Stephanie Salvatore</dc:creator>
  <dc:description/>
  <dc:language>en-US</dc:language>
  <cp:lastModifiedBy>Josh Lyon</cp:lastModifiedBy>
  <dcterms:modified xsi:type="dcterms:W3CDTF">2023-10-22T03:07:4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2</vt:r8>
  </property>
</Properties>
</file>