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98F-F7A8-4EEF-A5BC-91619890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EF7-0C82-457A-B26A-8043B665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34B-FC2E-4965-A6FE-5F991BD8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3A0-291B-443D-BEB8-2FDE36B3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326-EE94-4461-B17A-527EA27B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91E-B68B-4088-94DA-21C414F1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6E58-C97F-4E13-AE81-3E9899C0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770-F559-40F2-ADA4-34865975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A6F-42A8-4FBE-9D6B-DCBAAB2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9F2-457D-47D4-922D-D2DD90E8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C39-C98B-48E9-AB2B-67C36E0D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ABCA-C00A-4AB1-B4CF-EEDD35E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12EEB3-A57F-4B8E-BE13-45E132B9C61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1440" y="0"/>
            <a:ext cx="1218852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0T00:16:47Z</dcterms:created>
  <dc:creator>Stephanie Salvatore</dc:creator>
  <dc:description/>
  <dc:language>en-US</dc:language>
  <cp:lastModifiedBy>Shiloh Stufflebeam</cp:lastModifiedBy>
  <dcterms:modified xsi:type="dcterms:W3CDTF">2024-02-09T03:10:1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2</vt:r8>
  </property>
</Properties>
</file>