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31F8-1308-44B8-B1D1-84C9B82CA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2A9-40A6-458A-AF9B-3C3D04B88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440-25A0-45E2-893F-6DD9546B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1B6-25F6-467D-989A-6F7936D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BAC-99E4-4F57-B15E-47C577D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B1E-2DA6-4EF3-A48B-7C2E91A0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F5-01BF-4A99-907C-A6AF027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0DDF-11DD-4DAA-A2DA-1910889B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0BC4-A206-4D15-BC6A-238D1405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8056-C0D9-4F98-B7C6-13FF254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5835-FB9E-4934-BA40-85CAD563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7B26-7089-4A53-8BAC-3041F969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218F-0C61-4066-90DC-6997048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D2C-B534-427F-8D7A-AD97676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BCE-6A82-4D61-AC35-94A67C96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DCC-989B-4E84-9E79-89BCC6F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D8FE-D753-4267-8558-CA4DD04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BB45-43CF-4D4B-B3ED-EBF29783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5962-E6BA-4E7D-B348-D209D5D5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39C9-64F1-4991-9F81-3551E3B5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E149-8BAC-4F9A-AD62-C11C2EE7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DFF1-8574-47EF-A4F1-D17C130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4901-C55F-4D2C-9588-C13A5E0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D225-93B8-4E8A-901B-2C44DBD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09A6-E759-4F5E-AD5D-1B08CF8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EC2-7890-4829-A4A8-FA750D9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1708-CACC-4F8D-856A-E314192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C53D-2B7B-41A1-997C-C47A13E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71B6-22EA-4176-98FE-DDCFFED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778F-E05E-4405-A906-FE4020D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DC59-C1A3-464A-932C-E4614D57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841D-B650-42E8-8A53-90E63881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4A64-CD55-44D8-94CC-408B35D7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0F95-143F-426F-ACB0-D3C1883E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3C02-158B-46D8-AD33-5AB4FD81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6B47-C451-4021-936D-62D0240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521-277F-41EE-87A6-0D37503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1BD7-C057-4FE2-879F-2138C05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A75D-E1FD-4528-B821-C630693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B6CD-4017-4CB4-99B4-E064AD2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1187-38B6-4DF5-86A3-B75C51A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F2C2-B1B2-48E2-83D2-759CF24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2CEA-5B1F-45AF-A605-E4D150E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409C-F698-4DFD-AF2C-1EE06FD8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4716-4D1F-4197-AB18-A8092AC6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B804-D91B-418B-8DC1-A608F4FB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D819-BF51-4F83-ACF7-C69E51AB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4E7-3CAC-4872-B9E2-D8414706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78FF-12E7-4FF2-8C74-C94C1F6C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EEF2-4DF3-4A40-8EDD-60EC232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BD01-5778-4610-A496-1358911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541F-5AF3-4EF6-87E1-99150A29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641E-C15A-4DDB-AD6D-6EF216D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DC41-8ECD-4955-9850-5275597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796FA-52C0-4889-A307-D3A0690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769A-D27A-4635-B149-55F29C2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367EC-1548-4CF0-8E25-5515F92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B9B9-6FDF-4DE7-9B39-C0569CBC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C0F-B639-4E28-9E91-87F7FAB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7440-95C5-4B96-A3BB-B1DD6A44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C9006-3297-43A0-BD04-4CAE66AE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7B8A-A12E-4FDC-9CB1-3ECE434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B0768-3FDA-46E3-A701-9A14F9B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2702-3B50-4C20-97D3-4798986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44E10-578B-462C-A4D9-DDB3FCA0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5BDF4-A519-4705-A221-8C72AC3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3F15-0E7F-46A9-AAC7-C2A6152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2FE0-C94E-4896-A485-8D28FC3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A6541-1ECA-4E95-B51A-EF0D806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A67-254E-4EB5-8045-B2E2395F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6961-D897-49EF-BA64-B63C308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538C-1F92-4800-B887-E359E884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CD5B8-FA2E-4588-935D-9B7A286E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63ED-BCC7-4C58-9AD6-FB13B2BC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AC62-F115-41F1-B13F-FC6A84B1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4CE0-2049-4751-8DFD-B2F16FB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3ACB-63B6-49DB-AE38-5C50034E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86CB-D696-4A32-A367-7F1EB686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4668-09B6-4DE8-89EC-5D232F6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47BE-E5C1-404B-8572-8EE65E6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7B5-B6F9-45CF-8E2C-E1574E3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8857-C08F-4BC1-96CC-676E98D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2024-5D7F-4862-85ED-FCED2E71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DA7D-5AF1-4C6A-A281-507ADD2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DE1FE-0F7F-425E-88BA-7F425D7C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C088-2AB8-48B5-8F1B-56D6D632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455-CB9C-47C0-AAC0-F073D06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891-307F-42CD-BCED-A7DE5CA07B7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A18-B73C-4025-8FA1-9EC444FF27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7FD2-5BCE-4452-A739-E6CF8B7CC12C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CB7-FD3D-44F5-93BC-6528A37B2F2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E8E-316F-4AE2-846E-255B2FA3794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B668-0024-4AE8-BB2F-35A8A91EC42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8D2-6176-4C1D-81D3-A65003D6C99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D08-D502-4D9B-AA43-63474A41D40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F05-3251-4B9D-8F87-F7E98DC9148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A44-A52E-4441-AF21-38A6BCDC7F7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E6A-A3CF-43BD-98F2-15E8CB71B9B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67D-E3A1-4987-8507-6F022166A2D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629-BFD5-42A7-A353-9A403429CAE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3508-259C-4FC1-84A1-BE583FCF6E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dmccrar\Desktop\Transformational Class Pre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Oval 8"/>
          <p:cNvSpPr/>
          <p:nvPr/>
        </p:nvSpPr>
        <p:spPr>
          <a:xfrm>
            <a:off x="1371600" y="1522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7744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al Intentionality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achers intentionally build relationships with the preschoolers in their clas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ways to build relationships with preschoolers and their famil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600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228600" y="1522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228600" y="5335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onal Inten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2438280" y="4724280"/>
            <a:ext cx="4267440" cy="368280"/>
          </a:xfrm>
          <a:prstGeom prst="rect">
            <a:avLst/>
          </a:prstGeom>
          <a:gradFill rotWithShape="0">
            <a:gsLst>
              <a:gs pos="0">
                <a:srgbClr val="dc302f"/>
              </a:gs>
              <a:gs pos="100000">
                <a:srgbClr val="9f201f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1260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GROUP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C:\Documents and Settings\dmccrar\My Documents\Downloads\childpraying_think_200322960-001.jpg"/>
          <p:cNvPicPr/>
          <p:nvPr/>
        </p:nvPicPr>
        <p:blipFill>
          <a:blip r:embed="rId1">
            <a:lum bright="20000"/>
          </a:blip>
          <a:srcRect l="0" t="13748" r="0" b="0"/>
          <a:stretch/>
        </p:blipFill>
        <p:spPr>
          <a:xfrm>
            <a:off x="0" y="1447920"/>
            <a:ext cx="9144000" cy="5259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ayerful Dependence-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fore Clas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uring Clas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roup Tim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Levels of Prayer: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Class,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Community,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and Commission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6705720" y="22860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4046040" y="914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5638680" y="457200"/>
            <a:ext cx="129564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9343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5638680" y="76212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ayerful Depen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shi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How does this apply to Preschool Sunday School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rything we do in a session with preschoolers supports the Life Applic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preschoolers hear these things they are lea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ening (learning) demands obedi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edience is worship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3733920" y="3049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1148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2971800" y="1522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orsh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Choose a Bible-learning activit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a Leader Guid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Discuss what preschool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l do and lear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Discuss how teachers can help preschoolers worship through the activity and Life Applic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438280" y="2133720"/>
            <a:ext cx="4267440" cy="368280"/>
          </a:xfrm>
          <a:prstGeom prst="rect">
            <a:avLst/>
          </a:prstGeom>
          <a:gradFill rotWithShape="0">
            <a:gsLst>
              <a:gs pos="0">
                <a:srgbClr val="dc302f"/>
              </a:gs>
              <a:gs pos="100000">
                <a:srgbClr val="9f201f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1260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GROUP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ty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unity allows people to care for and trust each other and builds a sense of belong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How can we create a transformational community within the preschool departmen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 What hinders the growth of community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3733920" y="3049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962520" y="914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743200" y="9144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743200" y="1371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2438280" y="3886200"/>
            <a:ext cx="4267440" cy="368280"/>
          </a:xfrm>
          <a:prstGeom prst="rect">
            <a:avLst/>
          </a:prstGeom>
          <a:gradFill rotWithShape="0">
            <a:gsLst>
              <a:gs pos="0">
                <a:srgbClr val="dc302f"/>
              </a:gs>
              <a:gs pos="100000">
                <a:srgbClr val="9f201f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1260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GROUP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1774800"/>
            <a:ext cx="8610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-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ssionary Mentality—how you THIN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ssion—how you A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R’s of a Class on 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lea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odu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Oval 3"/>
          <p:cNvSpPr/>
          <p:nvPr/>
        </p:nvSpPr>
        <p:spPr>
          <a:xfrm>
            <a:off x="3733920" y="3049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886200" y="838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5105520" y="9144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5181480" y="1371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“holy conversation?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*Colossians 4:2-6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*1 Peter 3:15-16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can we do to get more people to join our church or clas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can our church or class do to make our community a better place to liv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Oval 3"/>
          <p:cNvSpPr/>
          <p:nvPr/>
        </p:nvSpPr>
        <p:spPr>
          <a:xfrm>
            <a:off x="3276720" y="21337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"/>
          <p:cNvSpPr/>
          <p:nvPr/>
        </p:nvSpPr>
        <p:spPr>
          <a:xfrm>
            <a:off x="1676520" y="38098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5410080" y="388620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124080" y="4419720"/>
            <a:ext cx="129564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1219320" y="3048120"/>
            <a:ext cx="129528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8"/>
          <p:cNvSpPr/>
          <p:nvPr/>
        </p:nvSpPr>
        <p:spPr>
          <a:xfrm>
            <a:off x="838080" y="4876920"/>
            <a:ext cx="129564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9"/>
          <p:cNvSpPr/>
          <p:nvPr/>
        </p:nvSpPr>
        <p:spPr>
          <a:xfrm>
            <a:off x="6400800" y="33526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0"/>
          <p:cNvSpPr/>
          <p:nvPr/>
        </p:nvSpPr>
        <p:spPr>
          <a:xfrm>
            <a:off x="5029200" y="50292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4876920" y="34290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2"/>
          <p:cNvSpPr/>
          <p:nvPr/>
        </p:nvSpPr>
        <p:spPr>
          <a:xfrm>
            <a:off x="4572000" y="18288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3276720" y="2666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1676520" y="4419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6"/>
          <p:cNvSpPr/>
          <p:nvPr/>
        </p:nvSpPr>
        <p:spPr>
          <a:xfrm>
            <a:off x="5562720" y="4572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7"/>
          <p:cNvSpPr/>
          <p:nvPr/>
        </p:nvSpPr>
        <p:spPr>
          <a:xfrm>
            <a:off x="4648320" y="21337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nt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6400800" y="3657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brant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4800600" y="380988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elational Intentiona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1295280" y="3505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1"/>
          <p:cNvSpPr/>
          <p:nvPr/>
        </p:nvSpPr>
        <p:spPr>
          <a:xfrm>
            <a:off x="312408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2"/>
          <p:cNvSpPr/>
          <p:nvPr/>
        </p:nvSpPr>
        <p:spPr>
          <a:xfrm>
            <a:off x="838080" y="5257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3"/>
          <p:cNvSpPr/>
          <p:nvPr/>
        </p:nvSpPr>
        <p:spPr>
          <a:xfrm>
            <a:off x="5029200" y="533412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ayerful Depen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3276720" y="21337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1676520" y="38098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5410080" y="388620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3200400" y="44956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1219320" y="3048120"/>
            <a:ext cx="129528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838080" y="4876920"/>
            <a:ext cx="129564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6400800" y="33526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5029200" y="50292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4876920" y="34290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4572000" y="18288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3276720" y="2666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1752480" y="4495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5562720" y="4572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7"/>
          <p:cNvSpPr/>
          <p:nvPr/>
        </p:nvSpPr>
        <p:spPr>
          <a:xfrm>
            <a:off x="45720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nt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400800" y="3657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brant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9"/>
          <p:cNvSpPr/>
          <p:nvPr/>
        </p:nvSpPr>
        <p:spPr>
          <a:xfrm>
            <a:off x="4800600" y="380988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elational Intentiona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1295280" y="3505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"/>
          <p:cNvSpPr/>
          <p:nvPr/>
        </p:nvSpPr>
        <p:spPr>
          <a:xfrm>
            <a:off x="327672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762120" y="5257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5029200" y="533412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ayerful Depen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 imagine what a Sunday School class would look like if it reflected the seven elements found in transformational church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e premise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group of people or a class that intentionally pursues the sev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ements will likely become such a clas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Transformational Class 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a Department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preschool teachers working as a team to transform the preschool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teachers of a specific class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achers of a specific age-group or class working as a team to transform their cla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42640" y="1774440"/>
            <a:ext cx="7543800" cy="348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ary Mentality-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r department or class has a commitment to intentionally reach out to others … in our case, preschoolers and their famil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3581280" y="5335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3526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5105520" y="304920"/>
            <a:ext cx="129528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800600" y="609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s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438280" y="5181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will commit to reach other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id Sunday School begi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id it start in church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has the emphasis of Sunday School shift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2438280" y="5486400"/>
            <a:ext cx="4267440" cy="368280"/>
          </a:xfrm>
          <a:prstGeom prst="rect">
            <a:avLst/>
          </a:prstGeom>
          <a:gradFill rotWithShape="0">
            <a:gsLst>
              <a:gs pos="0">
                <a:srgbClr val="dc302f"/>
              </a:gs>
              <a:gs pos="100000">
                <a:srgbClr val="9f201f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1260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GROUP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brant Leadership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NOT AUTOCRATIC..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NOT HEAVY-HANDED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3733920" y="3808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5257800" y="2286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9880" y="106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334120" y="5335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brant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Diagram 8" descr=""/>
          <p:cNvPicPr/>
          <p:nvPr/>
        </p:nvPicPr>
        <p:blipFill>
          <a:blip r:embed="rId2"/>
          <a:stretch/>
        </p:blipFill>
        <p:spPr>
          <a:xfrm>
            <a:off x="658800" y="2712960"/>
            <a:ext cx="2724120" cy="2041560"/>
          </a:xfrm>
          <a:prstGeom prst="rect">
            <a:avLst/>
          </a:prstGeom>
          <a:ln w="0">
            <a:noFill/>
          </a:ln>
        </p:spPr>
      </p:pic>
      <p:pic>
        <p:nvPicPr>
          <p:cNvPr id="359" name="Diagram 9" descr=""/>
          <p:cNvPicPr/>
          <p:nvPr/>
        </p:nvPicPr>
        <p:blipFill>
          <a:blip r:embed="rId3"/>
          <a:stretch/>
        </p:blipFill>
        <p:spPr>
          <a:xfrm>
            <a:off x="4621320" y="2712960"/>
            <a:ext cx="4248000" cy="3638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orp red_wndo"/>
          <p:cNvPicPr/>
          <p:nvPr/>
        </p:nvPicPr>
        <p:blipFill>
          <a:blip r:embed="rId4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5"/>
          <p:cNvSpPr/>
          <p:nvPr/>
        </p:nvSpPr>
        <p:spPr>
          <a:xfrm flipV="1" rot="10800000">
            <a:off x="838080" y="42660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ransformational leader is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humbl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confi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realizing their primary goal is to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ex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ose carrying out the vision and 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752480" y="236232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ibrant leader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shares respon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empowers existing tea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enlists new tea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52280" y="21333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Vibrant, transformational leaders expect new          people every week … and this will change everything about the strategy of preschool Sunday School. How?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eachers wil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riv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early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eachers wil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ec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new preschoolers every week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eachers wil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par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extra Bible-learning activities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eachers will activel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li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ther adults to join the ministry team and start new preschool classe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2:33:50Z</dcterms:created>
  <dc:creator>Lori</dc:creator>
  <dc:description/>
  <dc:language>en-US</dc:language>
  <cp:lastModifiedBy>LifeWay Christian Resources</cp:lastModifiedBy>
  <dcterms:modified xsi:type="dcterms:W3CDTF">2010-12-06T19:57:53Z</dcterms:modified>
  <cp:revision>83</cp:revision>
  <dc:subject/>
  <dc:title>Slide 1</dc:title>
</cp:coreProperties>
</file>