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0375-6887-46F1-AB51-8A1261B57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C93-FB7D-4366-AA97-2621DCF22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EF10-5991-4377-9FA3-4A3669827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5A31-FE49-4061-8CE0-A2CD44E5E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598D-01E2-441E-9CA1-D73A78749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1519-A38F-4B44-8F6F-A8EB7D924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AD14-4930-4F9C-9B53-5BA47FF66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461-2C5A-4759-B180-D638C5A4F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C9C0-1FC4-4BCD-96D1-7227C2A49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1273-DE14-41D7-9284-DA951D153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A4B0-7BA7-41D7-B1F4-8E684AB31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42EA-B0F5-4C91-942D-85F7F1C85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E1E-0C6E-40D7-9200-4D416DF22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81C7-4CF5-47C1-974D-E33E14A27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BD95-EFCC-45EF-9709-CA7F4B4C9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4830-2452-4327-998D-DA767CADA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88E7-8388-43AE-8918-93D1C5C2E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4E3-9F6C-44E3-8F7F-C2151BA9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759-63D2-4795-A214-6D4A06FD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044-B50D-4F76-8907-EC7428C0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196-41E2-43EA-B02B-457E830F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31B-61D6-4B52-BE9E-42B3B316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5E8-01C8-4C05-90A6-80E8913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339-479A-4B54-B071-C636C35C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6EC-0E88-4E4D-A4C0-26F8295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EF7-BFD1-45B3-9C67-81411718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E21-921B-4E70-9669-C46A134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F89-2A3A-4898-AD3F-5829708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AE9-DA6B-4D20-BB2D-41837EB6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6BE5-2B57-499D-A1C3-1881C4C80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7543-17C0-4217-9BEE-753EFA51F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900000" y="2076480"/>
            <a:ext cx="7083360" cy="2687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E62E-BBD7-4A4D-B174-213CDF086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-3240" y="9360"/>
            <a:ext cx="10109160" cy="781056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50000">
                <a:srgbClr val="c2d69b"/>
              </a:gs>
              <a:gs pos="100000">
                <a:srgbClr val="4bacc6"/>
              </a:gs>
            </a:gsLst>
            <a:lin ang="5400000"/>
          </a:gra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76720" y="838080"/>
            <a:ext cx="624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que asisten cad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en mi lista que nunca as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que están pasando un tiemp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ícil en la escu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que tienen 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cuyos padres les apoy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que vienen con sus abu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que son tranquilos y tím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que quieren contestar c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g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iños que tienen neces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pe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CBEC-BB27-4255-A4A3-B6028045B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600" y="706320"/>
            <a:ext cx="31212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6"/>
          <p:cNvSpPr/>
          <p:nvPr/>
        </p:nvSpPr>
        <p:spPr>
          <a:xfrm>
            <a:off x="0" y="0"/>
            <a:ext cx="914400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73" name="Oval 5" descr=""/>
            <p:cNvPicPr/>
            <p:nvPr/>
          </p:nvPicPr>
          <p:blipFill>
            <a:blip r:embed="rId1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dad misi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177" name="Oval 10" descr=""/>
            <p:cNvPicPr/>
            <p:nvPr/>
          </p:nvPicPr>
          <p:blipFill>
            <a:blip r:embed="rId2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180" name="Oval 11" descr=""/>
            <p:cNvPicPr/>
            <p:nvPr/>
          </p:nvPicPr>
          <p:blipFill>
            <a:blip r:embed="rId3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183" name="Oval 12" descr=""/>
            <p:cNvPicPr/>
            <p:nvPr/>
          </p:nvPicPr>
          <p:blipFill>
            <a:blip r:embed="rId4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Box 14"/>
          <p:cNvSpPr/>
          <p:nvPr/>
        </p:nvSpPr>
        <p:spPr>
          <a:xfrm>
            <a:off x="3048120" y="1600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9"/>
          <p:cNvSpPr/>
          <p:nvPr/>
        </p:nvSpPr>
        <p:spPr>
          <a:xfrm>
            <a:off x="5181480" y="293544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cionalidad en las re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vib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a     en la 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5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9939-EDC6-460F-8000-40B101AEC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6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9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98" name="Oval 5" descr=""/>
            <p:cNvPicPr/>
            <p:nvPr/>
          </p:nvPicPr>
          <p:blipFill>
            <a:blip r:embed="rId1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dad misi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7"/>
          <p:cNvGrpSpPr/>
          <p:nvPr/>
        </p:nvGrpSpPr>
        <p:grpSpPr>
          <a:xfrm>
            <a:off x="901800" y="2809800"/>
            <a:ext cx="1403280" cy="1249560"/>
            <a:chOff x="901800" y="2809800"/>
            <a:chExt cx="1403280" cy="1249560"/>
          </a:xfrm>
        </p:grpSpPr>
        <p:pic>
          <p:nvPicPr>
            <p:cNvPr id="202" name="Oval 7" descr=""/>
            <p:cNvPicPr/>
            <p:nvPr/>
          </p:nvPicPr>
          <p:blipFill>
            <a:blip r:embed="rId2"/>
            <a:stretch/>
          </p:blipFill>
          <p:spPr>
            <a:xfrm>
              <a:off x="901800" y="2809800"/>
              <a:ext cx="140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211" name="Oval 12" descr=""/>
            <p:cNvPicPr/>
            <p:nvPr/>
          </p:nvPicPr>
          <p:blipFill>
            <a:blip r:embed="rId5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14"/>
          <p:cNvSpPr/>
          <p:nvPr/>
        </p:nvSpPr>
        <p:spPr>
          <a:xfrm>
            <a:off x="3048120" y="160020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5"/>
          <p:cNvSpPr/>
          <p:nvPr/>
        </p:nvSpPr>
        <p:spPr>
          <a:xfrm>
            <a:off x="914400" y="40384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luc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10666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9"/>
          <p:cNvSpPr/>
          <p:nvPr/>
        </p:nvSpPr>
        <p:spPr>
          <a:xfrm>
            <a:off x="5181480" y="29718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cionalidad en las re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vibran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a    en la ó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2"/>
          <p:cNvSpPr/>
          <p:nvPr/>
        </p:nvSpPr>
        <p:spPr>
          <a:xfrm>
            <a:off x="58672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6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221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8593-4425-45CD-867E-471089814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7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9"/>
          <p:cNvSpPr/>
          <p:nvPr/>
        </p:nvSpPr>
        <p:spPr>
          <a:xfrm>
            <a:off x="0" y="0"/>
            <a:ext cx="9144000" cy="69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01 Hear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02 Know"/>
          <p:cNvPicPr/>
          <p:nvPr/>
        </p:nvPicPr>
        <p:blipFill>
          <a:blip r:embed="rId2"/>
          <a:stretch/>
        </p:blipFill>
        <p:spPr>
          <a:xfrm>
            <a:off x="3276720" y="13492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03 Do"/>
          <p:cNvPicPr/>
          <p:nvPr/>
        </p:nvPicPr>
        <p:blipFill>
          <a:blip r:embed="rId3"/>
          <a:stretch/>
        </p:blipFill>
        <p:spPr>
          <a:xfrm>
            <a:off x="6324480" y="26449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609480" y="25146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Í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048120" y="37116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O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477120" y="48546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4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A361-0C59-4A81-977E-D4B1A3FDB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5"/>
          <a:stretch/>
        </p:blipFill>
        <p:spPr>
          <a:xfrm>
            <a:off x="152280" y="558792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1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238" name="Oval 5" descr=""/>
            <p:cNvPicPr/>
            <p:nvPr/>
          </p:nvPicPr>
          <p:blipFill>
            <a:blip r:embed="rId1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dad misi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Oval 7"/>
          <p:cNvGrpSpPr/>
          <p:nvPr/>
        </p:nvGrpSpPr>
        <p:grpSpPr>
          <a:xfrm>
            <a:off x="901800" y="2809800"/>
            <a:ext cx="1403280" cy="1249560"/>
            <a:chOff x="901800" y="2809800"/>
            <a:chExt cx="1403280" cy="1249560"/>
          </a:xfrm>
        </p:grpSpPr>
        <p:pic>
          <p:nvPicPr>
            <p:cNvPr id="242" name="Oval 7" descr=""/>
            <p:cNvPicPr/>
            <p:nvPr/>
          </p:nvPicPr>
          <p:blipFill>
            <a:blip r:embed="rId2"/>
            <a:stretch/>
          </p:blipFill>
          <p:spPr>
            <a:xfrm>
              <a:off x="901800" y="2809800"/>
              <a:ext cx="140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val 8"/>
          <p:cNvGrpSpPr/>
          <p:nvPr/>
        </p:nvGrpSpPr>
        <p:grpSpPr>
          <a:xfrm>
            <a:off x="669960" y="5010120"/>
            <a:ext cx="1414440" cy="1262160"/>
            <a:chOff x="669960" y="5010120"/>
            <a:chExt cx="1414440" cy="1262160"/>
          </a:xfrm>
        </p:grpSpPr>
        <p:pic>
          <p:nvPicPr>
            <p:cNvPr id="245" name="Oval 8" descr=""/>
            <p:cNvPicPr/>
            <p:nvPr/>
          </p:nvPicPr>
          <p:blipFill>
            <a:blip r:embed="rId3"/>
            <a:stretch/>
          </p:blipFill>
          <p:spPr>
            <a:xfrm>
              <a:off x="669960" y="5010120"/>
              <a:ext cx="14144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88740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248" name="Oval 10" descr=""/>
            <p:cNvPicPr/>
            <p:nvPr/>
          </p:nvPicPr>
          <p:blipFill>
            <a:blip r:embed="rId4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251" name="Oval 11" descr=""/>
            <p:cNvPicPr/>
            <p:nvPr/>
          </p:nvPicPr>
          <p:blipFill>
            <a:blip r:embed="rId5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254" name="Oval 12" descr=""/>
            <p:cNvPicPr/>
            <p:nvPr/>
          </p:nvPicPr>
          <p:blipFill>
            <a:blip r:embed="rId6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14"/>
          <p:cNvSpPr/>
          <p:nvPr/>
        </p:nvSpPr>
        <p:spPr>
          <a:xfrm>
            <a:off x="3124080" y="16002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5"/>
          <p:cNvSpPr/>
          <p:nvPr/>
        </p:nvSpPr>
        <p:spPr>
          <a:xfrm>
            <a:off x="914400" y="40384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luc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10666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7"/>
          <p:cNvSpPr/>
          <p:nvPr/>
        </p:nvSpPr>
        <p:spPr>
          <a:xfrm>
            <a:off x="685800" y="5486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9"/>
          <p:cNvSpPr/>
          <p:nvPr/>
        </p:nvSpPr>
        <p:spPr>
          <a:xfrm>
            <a:off x="5181480" y="293544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cionalidad en las re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vib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a    en la 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7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232B-3BC4-4D5A-A76F-4F1C0954A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8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272" name="Oval 5" descr=""/>
            <p:cNvPicPr/>
            <p:nvPr/>
          </p:nvPicPr>
          <p:blipFill>
            <a:blip r:embed="rId1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dad misi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Oval 7"/>
          <p:cNvGrpSpPr/>
          <p:nvPr/>
        </p:nvGrpSpPr>
        <p:grpSpPr>
          <a:xfrm>
            <a:off x="901800" y="2809800"/>
            <a:ext cx="1403280" cy="1249560"/>
            <a:chOff x="901800" y="2809800"/>
            <a:chExt cx="1403280" cy="1249560"/>
          </a:xfrm>
        </p:grpSpPr>
        <p:pic>
          <p:nvPicPr>
            <p:cNvPr id="276" name="Oval 7" descr=""/>
            <p:cNvPicPr/>
            <p:nvPr/>
          </p:nvPicPr>
          <p:blipFill>
            <a:blip r:embed="rId2"/>
            <a:stretch/>
          </p:blipFill>
          <p:spPr>
            <a:xfrm>
              <a:off x="901800" y="2809800"/>
              <a:ext cx="140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Oval 8"/>
          <p:cNvGrpSpPr/>
          <p:nvPr/>
        </p:nvGrpSpPr>
        <p:grpSpPr>
          <a:xfrm>
            <a:off x="669960" y="5010120"/>
            <a:ext cx="1414440" cy="1262160"/>
            <a:chOff x="669960" y="5010120"/>
            <a:chExt cx="1414440" cy="1262160"/>
          </a:xfrm>
        </p:grpSpPr>
        <p:pic>
          <p:nvPicPr>
            <p:cNvPr id="279" name="Oval 8" descr=""/>
            <p:cNvPicPr/>
            <p:nvPr/>
          </p:nvPicPr>
          <p:blipFill>
            <a:blip r:embed="rId3"/>
            <a:stretch/>
          </p:blipFill>
          <p:spPr>
            <a:xfrm>
              <a:off x="669960" y="5010120"/>
              <a:ext cx="14144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8740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Oval 9"/>
          <p:cNvGrpSpPr/>
          <p:nvPr/>
        </p:nvGrpSpPr>
        <p:grpSpPr>
          <a:xfrm>
            <a:off x="2730600" y="4559400"/>
            <a:ext cx="1403280" cy="1251000"/>
            <a:chOff x="2730600" y="4559400"/>
            <a:chExt cx="1403280" cy="1251000"/>
          </a:xfrm>
        </p:grpSpPr>
        <p:pic>
          <p:nvPicPr>
            <p:cNvPr id="282" name="Oval 9" descr=""/>
            <p:cNvPicPr/>
            <p:nvPr/>
          </p:nvPicPr>
          <p:blipFill>
            <a:blip r:embed="rId4"/>
            <a:stretch/>
          </p:blipFill>
          <p:spPr>
            <a:xfrm>
              <a:off x="2730600" y="4559400"/>
              <a:ext cx="14032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944800" y="47498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285" name="Oval 10" descr=""/>
            <p:cNvPicPr/>
            <p:nvPr/>
          </p:nvPicPr>
          <p:blipFill>
            <a:blip r:embed="rId5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288" name="Oval 11" descr=""/>
            <p:cNvPicPr/>
            <p:nvPr/>
          </p:nvPicPr>
          <p:blipFill>
            <a:blip r:embed="rId6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291" name="Oval 12" descr=""/>
            <p:cNvPicPr/>
            <p:nvPr/>
          </p:nvPicPr>
          <p:blipFill>
            <a:blip r:embed="rId7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14"/>
          <p:cNvSpPr/>
          <p:nvPr/>
        </p:nvSpPr>
        <p:spPr>
          <a:xfrm>
            <a:off x="3048120" y="1600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9072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luc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9907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685800" y="5486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8"/>
          <p:cNvSpPr/>
          <p:nvPr/>
        </p:nvSpPr>
        <p:spPr>
          <a:xfrm>
            <a:off x="297180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9"/>
          <p:cNvSpPr/>
          <p:nvPr/>
        </p:nvSpPr>
        <p:spPr>
          <a:xfrm>
            <a:off x="5181480" y="3048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cionalidad en las re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vib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a     en la 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2"/>
          <p:cNvSpPr/>
          <p:nvPr/>
        </p:nvSpPr>
        <p:spPr>
          <a:xfrm>
            <a:off x="5867280" y="40384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8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303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E6F1-455D-4261-A4D8-7B162CD30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9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dmccrar\Desktop\TCGoes2SS_Bkgs\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7391520" y="5748480"/>
            <a:ext cx="1752480" cy="66492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BE33-2218-4851-A6B0-988E6B2B0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3"/>
          <a:stretch/>
        </p:blipFill>
        <p:spPr>
          <a:xfrm>
            <a:off x="4773600" y="-6480"/>
            <a:ext cx="43768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152280" y="66024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ienvenid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1828800"/>
            <a:ext cx="464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 su etiqueta de identificación y siga las instrucciones para formar los grup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cubra la pala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776840" y="0"/>
            <a:ext cx="4367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22F-4124-44ED-AD7B-DF565E729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3124080" y="16002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91440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luc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5867280" y="40384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42D2-4686-497B-AF42-AE738EF72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69" name="Oval 5" descr=""/>
            <p:cNvPicPr/>
            <p:nvPr/>
          </p:nvPicPr>
          <p:blipFill>
            <a:blip r:embed="rId1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dad misi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val 7"/>
          <p:cNvGrpSpPr/>
          <p:nvPr/>
        </p:nvGrpSpPr>
        <p:grpSpPr>
          <a:xfrm>
            <a:off x="901800" y="2809800"/>
            <a:ext cx="1403280" cy="1249560"/>
            <a:chOff x="901800" y="2809800"/>
            <a:chExt cx="1403280" cy="1249560"/>
          </a:xfrm>
        </p:grpSpPr>
        <p:pic>
          <p:nvPicPr>
            <p:cNvPr id="73" name="Oval 7" descr=""/>
            <p:cNvPicPr/>
            <p:nvPr/>
          </p:nvPicPr>
          <p:blipFill>
            <a:blip r:embed="rId2"/>
            <a:stretch/>
          </p:blipFill>
          <p:spPr>
            <a:xfrm>
              <a:off x="901800" y="2809800"/>
              <a:ext cx="140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Oval 8"/>
          <p:cNvGrpSpPr/>
          <p:nvPr/>
        </p:nvGrpSpPr>
        <p:grpSpPr>
          <a:xfrm>
            <a:off x="669960" y="5010120"/>
            <a:ext cx="1414440" cy="1262160"/>
            <a:chOff x="669960" y="5010120"/>
            <a:chExt cx="1414440" cy="1262160"/>
          </a:xfrm>
        </p:grpSpPr>
        <p:pic>
          <p:nvPicPr>
            <p:cNvPr id="76" name="Oval 8" descr=""/>
            <p:cNvPicPr/>
            <p:nvPr/>
          </p:nvPicPr>
          <p:blipFill>
            <a:blip r:embed="rId3"/>
            <a:stretch/>
          </p:blipFill>
          <p:spPr>
            <a:xfrm>
              <a:off x="669960" y="5010120"/>
              <a:ext cx="14144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8740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Oval 9"/>
          <p:cNvGrpSpPr/>
          <p:nvPr/>
        </p:nvGrpSpPr>
        <p:grpSpPr>
          <a:xfrm>
            <a:off x="2730600" y="4559400"/>
            <a:ext cx="1403280" cy="1251000"/>
            <a:chOff x="2730600" y="4559400"/>
            <a:chExt cx="1403280" cy="1251000"/>
          </a:xfrm>
        </p:grpSpPr>
        <p:pic>
          <p:nvPicPr>
            <p:cNvPr id="79" name="Oval 9" descr=""/>
            <p:cNvPicPr/>
            <p:nvPr/>
          </p:nvPicPr>
          <p:blipFill>
            <a:blip r:embed="rId4"/>
            <a:stretch/>
          </p:blipFill>
          <p:spPr>
            <a:xfrm>
              <a:off x="2730600" y="4559400"/>
              <a:ext cx="14032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944800" y="47498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82" name="Oval 10" descr=""/>
            <p:cNvPicPr/>
            <p:nvPr/>
          </p:nvPicPr>
          <p:blipFill>
            <a:blip r:embed="rId5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85" name="Oval 11" descr=""/>
            <p:cNvPicPr/>
            <p:nvPr/>
          </p:nvPicPr>
          <p:blipFill>
            <a:blip r:embed="rId6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88" name="Oval 12" descr=""/>
            <p:cNvPicPr/>
            <p:nvPr/>
          </p:nvPicPr>
          <p:blipFill>
            <a:blip r:embed="rId7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14"/>
          <p:cNvSpPr/>
          <p:nvPr/>
        </p:nvSpPr>
        <p:spPr>
          <a:xfrm>
            <a:off x="3048120" y="1600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99072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luc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9907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685800" y="5486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297180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5181480" y="3048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cionalidad en las re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vib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a     en la 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5867280" y="40384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8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F80F-48D2-4748-AD92-D86137416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9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9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07" name="Oval 5" descr=""/>
            <p:cNvPicPr/>
            <p:nvPr/>
          </p:nvPicPr>
          <p:blipFill>
            <a:blip r:embed="rId1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dad misi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3124080" y="16002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2750-FECA-44C0-BA29-D36DE1268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6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2362320" y="1523880"/>
            <a:ext cx="4647960" cy="449604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dos 1 —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200400" y="2438280"/>
            <a:ext cx="2971800" cy="27432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dos 4 —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4038480" y="3200400"/>
            <a:ext cx="137160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CO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CB42-F3BE-4C46-AC29-5AAF4B031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26" name="Oval 5" descr=""/>
            <p:cNvPicPr/>
            <p:nvPr/>
          </p:nvPicPr>
          <p:blipFill>
            <a:blip r:embed="rId1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dad misi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130" name="Oval 12" descr=""/>
            <p:cNvPicPr/>
            <p:nvPr/>
          </p:nvPicPr>
          <p:blipFill>
            <a:blip r:embed="rId2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14"/>
          <p:cNvSpPr/>
          <p:nvPr/>
        </p:nvSpPr>
        <p:spPr>
          <a:xfrm>
            <a:off x="3124080" y="1600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vib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867280" y="40384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1BE7-7EB6-45B1-A7DC-76B8E05A9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3048120" y="8380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14600" y="152280"/>
            <a:ext cx="66294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es un cristiano que está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reci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está llamado por Dios par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señar a los ni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disfruta el estar con los ni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está dispuesto a planificar 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par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se deja enseñ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es flex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trabaja en equi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comprende el desarroll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i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 líder vibrante tiene sentido de hu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6ED-9E09-42F5-87E4-4C4165508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9080" y="285840"/>
            <a:ext cx="26082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6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47" name="Oval 5" descr=""/>
            <p:cNvPicPr/>
            <p:nvPr/>
          </p:nvPicPr>
          <p:blipFill>
            <a:blip r:embed="rId1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dad misi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151" name="Oval 10" descr=""/>
            <p:cNvPicPr/>
            <p:nvPr/>
          </p:nvPicPr>
          <p:blipFill>
            <a:blip r:embed="rId2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154" name="Oval 12" descr=""/>
            <p:cNvPicPr/>
            <p:nvPr/>
          </p:nvPicPr>
          <p:blipFill>
            <a:blip r:embed="rId3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14"/>
          <p:cNvSpPr/>
          <p:nvPr/>
        </p:nvSpPr>
        <p:spPr>
          <a:xfrm>
            <a:off x="3124080" y="160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5181480" y="293544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cionalidad en las re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vib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594360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3124080" y="1600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7383600" y="5867280"/>
            <a:ext cx="1760400" cy="561960"/>
          </a:xfrm>
          <a:prstGeom prst="rect">
            <a:avLst/>
          </a:prstGeom>
          <a:ln w="0">
            <a:noFill/>
          </a:ln>
        </p:spPr>
      </p:pic>
      <p:sp>
        <p:nvSpPr>
          <p:cNvPr id="162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17A6-5766-4EE1-A036-0B62FC891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5"/>
          <a:stretch/>
        </p:blipFill>
        <p:spPr>
          <a:xfrm>
            <a:off x="0" y="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21:19Z</dcterms:created>
  <dc:creator>G. Dwayne McCrary</dc:creator>
  <dc:description/>
  <dc:language>en-US</dc:language>
  <cp:lastModifiedBy>Rosa</cp:lastModifiedBy>
  <dcterms:modified xsi:type="dcterms:W3CDTF">2011-05-06T00:21:14Z</dcterms:modified>
  <cp:revision>73</cp:revision>
  <dc:subject/>
  <dc:title>Slide 1</dc:title>
</cp:coreProperties>
</file>