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CB8-328E-4BE9-9B9D-78237A41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029-F37F-424E-8C09-3D6DAD6D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673-4645-4D9F-B35A-2948F655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197-A741-4EA3-AACA-A7C2F97E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F76-E714-4961-9075-865271F8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F138-6720-4762-B47B-95298EA8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548-D6FD-4894-86C3-5D622A71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5A2-47EA-45FC-9312-FDD822F5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37E-4389-4BEE-902A-0E1AEC02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0A2-07EE-4530-B181-384A5B7A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ECD-3451-496E-98D0-3F36C1F1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362-F825-4C53-A7E8-8A68AD0C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F14A-6C4A-445F-8F81-FF57B4430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dmccrar\Desktop\TCGoes2SS_Bkgs\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066680" y="107640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ansformational Church Goes t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udent Sunday Sch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19320" y="2666880"/>
            <a:ext cx="716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4a7b"/>
                </a:solidFill>
                <a:latin typeface="Arial"/>
                <a:ea typeface="Arial"/>
              </a:rPr>
              <a:t>5.  </a:t>
            </a:r>
            <a:r>
              <a:rPr b="1" lang="en-US" sz="2800" spc="-1" strike="noStrike" u="sng">
                <a:solidFill>
                  <a:srgbClr val="604a7b"/>
                </a:solidFill>
                <a:uFillTx/>
                <a:latin typeface="Arial"/>
                <a:ea typeface="Arial"/>
              </a:rPr>
              <a:t>Worship</a:t>
            </a:r>
            <a:r>
              <a:rPr b="0" lang="en-US" sz="2800" spc="-1" strike="noStrike">
                <a:solidFill>
                  <a:srgbClr val="604a7b"/>
                </a:solidFill>
                <a:latin typeface="Arial"/>
                <a:ea typeface="Arial"/>
              </a:rPr>
              <a:t> – We will intentionally lead our members and prospects to actively embrace Jesus as a lifestyle before, during, and after each Bible study experie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3809880" y="53352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4a7b"/>
                </a:solidFill>
                <a:latin typeface="Arial"/>
                <a:ea typeface="Arial"/>
              </a:rPr>
              <a:t>7 Key Elements Leading Toward Trans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dmccrar\Desktop\TCGoes2SS_Bkgs\Slid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2895480" y="2362320"/>
            <a:ext cx="6019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6.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mun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– There are five elements of group life in a transformational class: mission orientation, Word-driven, multiplication mindset, stranger welcoming, and Kingdom focus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2362320" y="3808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 Key Elements Leading Toward Trans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dmccrar\Desktop\TCGoes2SS_Bkgs\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143000" y="20574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7. 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Arial"/>
                <a:ea typeface="Arial"/>
              </a:rPr>
              <a:t>Mission</a:t>
            </a: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 – There are three key ingredients for a transformational clas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762120" y="304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7 Key Elements Leading Toward Trans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3429000" y="312408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77933c"/>
                </a:solidFill>
                <a:latin typeface="Arial"/>
                <a:ea typeface="Arial"/>
              </a:rPr>
              <a:t>Re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604a7b"/>
                </a:solidFill>
                <a:latin typeface="Arial"/>
                <a:ea typeface="Arial"/>
              </a:rPr>
              <a:t>Re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R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dmccrar\Desktop\TCGoes2SS_Bkgs\Slid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685800" y="1905120"/>
            <a:ext cx="7315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know we are part of a mo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are open to persons not part of the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intentionally seek to understand and relate to people in our commun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od’s Word is ALIVE in our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dmccrar\Desktop\TCGoes2SS_Bkgs\Slide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2" descr=""/>
          <p:cNvPicPr/>
          <p:nvPr/>
        </p:nvPicPr>
        <p:blipFill>
          <a:blip r:embed="rId2"/>
          <a:stretch/>
        </p:blipFill>
        <p:spPr>
          <a:xfrm>
            <a:off x="-6480" y="1925640"/>
            <a:ext cx="91569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dmccrar\Desktop\TCGoes2SS_Bkgs\Slide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3809880" y="1752480"/>
            <a:ext cx="5029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Arial Narrow"/>
              </a:rPr>
              <a:t>How can we help bring transformation into our group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\\John\Leadership_Adult\Pages\Undated\Transformational Class\Transformational_Class_CD\Files to be Included on CD\LeaderTraining\PPT For Stude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dmccrar\Desktop\TCGoes2SS_Bkgs\Slide2.JPG"/>
          <p:cNvPicPr/>
          <p:nvPr/>
        </p:nvPicPr>
        <p:blipFill>
          <a:blip r:embed="rId1"/>
          <a:stretch/>
        </p:blipFill>
        <p:spPr>
          <a:xfrm>
            <a:off x="-22096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dmccrar\Desktop\TCGoes2SS_Bkgs\Slid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743200" y="1600200"/>
            <a:ext cx="617220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Seeing ourselves and others become more like Ch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Observing our class acting more like His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Celebrating the impact our class is making to help our community reflect His King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057400" y="38088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76092"/>
                </a:solidFill>
                <a:latin typeface="Arial"/>
                <a:ea typeface="Arial"/>
              </a:rPr>
              <a:t>3 Markers for Succes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dmccrar\Desktop\TCGoes2SS_Bkgs\Slid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895480" y="2362320"/>
            <a:ext cx="601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.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ssionary Mental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 Our class seeks to understand its cultural and socioeconomic contex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362320" y="3808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 Key Elements Leading Toward Trans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dmccrar\Desktop\TCGoes2SS_Bkgs\Slid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2895480" y="2514600"/>
            <a:ext cx="601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.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ibrant Leadership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 We stay focused on open groups practicing open enroll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362320" y="3808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 Key Elements Leading Toward Trans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dmccrar\Desktop\TCGoes2SS_Bkgs\Slide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371600" y="28195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3. 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Arial"/>
                <a:ea typeface="Arial"/>
              </a:rPr>
              <a:t>Relational Intentionality</a:t>
            </a: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 – We seek to contact every member every wee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048120" y="3049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7 Key Elements Leading Toward Trans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dmccrar\Desktop\TCGoes2SS_Bkgs\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19320" y="198108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Arial"/>
                <a:ea typeface="Arial"/>
              </a:rPr>
              <a:t>4.  </a:t>
            </a:r>
            <a:r>
              <a:rPr b="1" lang="en-US" sz="2800" spc="-1" strike="noStrike" u="sng">
                <a:solidFill>
                  <a:srgbClr val="77933c"/>
                </a:solidFill>
                <a:uFillTx/>
                <a:latin typeface="Arial"/>
                <a:ea typeface="Arial"/>
              </a:rPr>
              <a:t>Prayerful Dependence </a:t>
            </a:r>
            <a:r>
              <a:rPr b="0" lang="en-US" sz="2800" spc="-1" strike="noStrike">
                <a:solidFill>
                  <a:srgbClr val="77933c"/>
                </a:solidFill>
                <a:latin typeface="Arial"/>
                <a:ea typeface="Arial"/>
              </a:rPr>
              <a:t>– We will intentionally seek God’s direction regarding every aspect of our scorecard and will be open to prayerfully petition God’s intervention before, during, and after each se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228600" y="304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Arial"/>
                <a:ea typeface="Arial"/>
              </a:rPr>
              <a:t>7 Key Elements Leading Toward Trans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7:40:20Z</dcterms:created>
  <dc:creator>G. Dwayne McCrary</dc:creator>
  <dc:description/>
  <dc:language>en-US</dc:language>
  <cp:lastModifiedBy>G. Dwayne McCrary</cp:lastModifiedBy>
  <dcterms:modified xsi:type="dcterms:W3CDTF">2010-12-02T19:45:01Z</dcterms:modified>
  <cp:revision>41</cp:revision>
  <dc:subject/>
  <dc:title>Slide 1</dc:title>
</cp:coreProperties>
</file>