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B748-7816-4437-A314-279D99334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6D90-D5B4-4B8B-B4C1-1EE7CEE20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18BF-F056-4909-AE20-3F0DEAE66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F571-A9E2-4B5E-A969-3203EA9F2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4C40-25DC-43B7-B423-4E442C903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7C5B-77F7-498F-9338-1EC8D581C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17E5-A135-4586-A451-654707FFD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472E-5BE4-4EEE-9143-FCEFA178D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6D99-F1CC-43D4-9695-E14999650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D489-A035-46D6-9E7B-FC4E03232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AF53-4CB9-4ED6-93D5-142C44C3A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ADB1-AFA8-4763-AF82-C0E5CD234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3E6D-FDDB-4D91-BEBD-E39B79501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B113-10A8-4619-85AA-093790150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271E-BE25-460E-BB7E-B036C478C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538-7536-41A0-AC49-BDE267BC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F707-99AC-43DC-816C-BC2B8FA8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F1B-F2F2-4A5A-8CED-E75B51F7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BCC-83CB-4A49-9785-4781B768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E521-7B67-44A7-85EB-523BE2E0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239-2BBD-4B11-9BF3-3A38AC93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720-84C1-466B-AE9D-9ADFF940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078-5DE0-49FB-A910-7151A448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BEB-FB2D-4DB6-9BE7-A1B77305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FF53-A146-4D11-9020-529B8CE4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65D-CA85-4BF1-A97F-E5242D9C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6137-A403-48D2-B95F-13D86507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564F-281D-443D-BEAA-181087CC3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1066680" y="1076400"/>
            <a:ext cx="7315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a iglesia que Dios usa para transfor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lega a los jóvenes en la Escuela Domin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52280" y="513072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6324480" y="5851440"/>
            <a:ext cx="2652840" cy="1006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dmccrar\Desktop\TCGoes2SS_Bkgs\Slide19.JPG"/>
          <p:cNvPicPr/>
          <p:nvPr/>
        </p:nvPicPr>
        <p:blipFill>
          <a:blip r:embed="rId3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2895480" y="2057400"/>
            <a:ext cx="6096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a iglesia que Dios usa para transfor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lega a los jóvenes en la Escuela Domin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6477120" y="0"/>
            <a:ext cx="2666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4"/>
          <a:stretch/>
        </p:blipFill>
        <p:spPr>
          <a:xfrm>
            <a:off x="6719760" y="6019920"/>
            <a:ext cx="2409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6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19320" y="2666880"/>
            <a:ext cx="7162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3152"/>
                </a:solidFill>
                <a:latin typeface="Arial"/>
                <a:ea typeface="Arial"/>
              </a:rPr>
              <a:t>5.  </a:t>
            </a:r>
            <a:r>
              <a:rPr b="1" lang="en-US" sz="2800" spc="-1" strike="noStrike" u="sng">
                <a:solidFill>
                  <a:srgbClr val="403152"/>
                </a:solidFill>
                <a:uFillTx/>
                <a:latin typeface="Arial"/>
                <a:ea typeface="Arial"/>
              </a:rPr>
              <a:t>Adoración</a:t>
            </a:r>
            <a:r>
              <a:rPr b="0" lang="en-US" sz="2800" spc="-1" strike="noStrike">
                <a:solidFill>
                  <a:srgbClr val="403152"/>
                </a:solidFill>
                <a:latin typeface="Arial"/>
                <a:ea typeface="Arial"/>
              </a:rPr>
              <a:t> – Intencionalmente dirigiremos a nuestros miembros y miembros en perspectiva a abrazar activamente a Jesús como un estilo de vida, antes, durante y después de cada experiencia de estudio bíbl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3809880" y="533520"/>
            <a:ext cx="533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3152"/>
                </a:solidFill>
                <a:latin typeface="Arial"/>
                <a:ea typeface="Arial"/>
              </a:rPr>
              <a:t>7 elementos clave que nos llevan a la transform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314880" cy="2209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7383600" y="609588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8001000" y="66405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3276720" y="5557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áginas 29-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3581280" y="2133720"/>
            <a:ext cx="5334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6.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unida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– En una clase que Dios usa para transformar hay cinco elementos en la vida del grupo: orientados en la misión, mentalidad de comunicar la Palabra de Dios, mentalidad de multiplicación, reciben y dan la bienvenida a los extraños y concentrados en el Rei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3429000" y="22860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 elementos clave que nos llevan hacia la transform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-66600" y="0"/>
            <a:ext cx="3406680" cy="58881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8001000" y="66405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5486400" y="6324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áginas 34-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5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1143000" y="205740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Arial"/>
                <a:ea typeface="Arial"/>
              </a:rPr>
              <a:t>7.  </a:t>
            </a:r>
            <a:r>
              <a:rPr b="1" lang="en-US" sz="2800" spc="-1" strike="noStrike" u="sng">
                <a:solidFill>
                  <a:srgbClr val="254061"/>
                </a:solidFill>
                <a:uFillTx/>
                <a:latin typeface="Arial"/>
                <a:ea typeface="Arial"/>
              </a:rPr>
              <a:t>Missión</a:t>
            </a:r>
            <a:r>
              <a:rPr b="0" lang="en-US" sz="2800" spc="-1" strike="noStrike">
                <a:solidFill>
                  <a:srgbClr val="254061"/>
                </a:solidFill>
                <a:latin typeface="Arial"/>
                <a:ea typeface="Arial"/>
              </a:rPr>
              <a:t> – Existen tres ingredientes clave para una clase que Dios usa para </a:t>
            </a:r>
            <a:r>
              <a:rPr b="0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transform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762120" y="304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061"/>
                </a:solidFill>
                <a:latin typeface="Arial"/>
                <a:ea typeface="Arial"/>
              </a:rPr>
              <a:t>7 elementos clave que nos llevan a la transform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3429000" y="349236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4f6228"/>
                </a:solidFill>
                <a:latin typeface="Arial"/>
                <a:ea typeface="Arial"/>
              </a:rPr>
              <a:t>Lib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403152"/>
                </a:solidFill>
                <a:latin typeface="Arial"/>
                <a:ea typeface="Arial"/>
              </a:rPr>
              <a:t>Reproduc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254061"/>
                </a:solidFill>
                <a:latin typeface="Arial"/>
                <a:ea typeface="Arial"/>
              </a:rPr>
              <a:t>Alcan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7383600" y="6095880"/>
            <a:ext cx="1760400" cy="561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2"/>
          <a:stretch/>
        </p:blipFill>
        <p:spPr>
          <a:xfrm>
            <a:off x="0" y="5130720"/>
            <a:ext cx="2590920" cy="17272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8001000" y="66405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114800" y="5253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áginas 37-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28600" y="1523880"/>
            <a:ext cx="7315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bemos que somos parte de un mov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stamos dispuestos a recibir personas que no sean parte del gru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ncionlmanete tratamos de comprender y relacionarnos con las personas de nuestra comun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 Palabra de Dios está VIVA en nuestra cl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6248520" y="0"/>
            <a:ext cx="2895480" cy="11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La clase que Dios usa p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transfor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8001000" y="66405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3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TextBox 2" descr=""/>
          <p:cNvPicPr/>
          <p:nvPr/>
        </p:nvPicPr>
        <p:blipFill>
          <a:blip r:embed="rId1"/>
          <a:stretch/>
        </p:blipFill>
        <p:spPr>
          <a:xfrm>
            <a:off x="-6480" y="1884240"/>
            <a:ext cx="9156960" cy="23958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9"/>
          <p:cNvSpPr/>
          <p:nvPr/>
        </p:nvSpPr>
        <p:spPr>
          <a:xfrm>
            <a:off x="0" y="5965920"/>
            <a:ext cx="2895480" cy="11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La clase que Dios usa p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transfor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8001000" y="66405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dmccrar\Desktop\TCGoes2SS_Bkgs\Slide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3352680" y="1219320"/>
            <a:ext cx="5410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70c0"/>
                </a:solidFill>
                <a:latin typeface="Arial Narrow"/>
              </a:rPr>
              <a:t>Si usted pudiera describir su clase de la Escuela Dominical con una palabra, ¿cuál serí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7383600" y="586728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6248520" y="0"/>
            <a:ext cx="2895480" cy="11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La clase que Dios usa p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transfor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8001000" y="6400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\\John\Leadership_Adult\Pages\Undated\Transformational Class\Transformational_Class_CD\Files to be Included on CD\LeaderTraining\PPT For Stude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7391520" y="594360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6248520" y="0"/>
            <a:ext cx="2895480" cy="11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La clase que Dios usa p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transfor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8001000" y="6400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719440" y="0"/>
            <a:ext cx="436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6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2743200" y="768240"/>
            <a:ext cx="6172200" cy="57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254061"/>
                </a:solidFill>
                <a:latin typeface="Arial"/>
                <a:ea typeface="Arial"/>
              </a:rPr>
              <a:t>Ver cómo nosotros mismos y otros llegan a ser más semejantes a Cr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061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254061"/>
                </a:solidFill>
                <a:latin typeface="Arial"/>
                <a:ea typeface="Arial"/>
              </a:rPr>
              <a:t>Observar que nuestra clase actúa cada vez más como Su cuer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061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254061"/>
                </a:solidFill>
                <a:latin typeface="Arial"/>
                <a:ea typeface="Arial"/>
              </a:rPr>
              <a:t>Celebrar el impacto que nuestra clase está haciendo para ayudar a nuestra comunidad a reflejar Su Re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2743200" y="1159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061"/>
                </a:solidFill>
                <a:latin typeface="Arial"/>
                <a:ea typeface="Arial"/>
              </a:rPr>
              <a:t>3 Indicadores para el éx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080" y="-96840"/>
            <a:ext cx="2608200" cy="4456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7391520" y="617220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8001000" y="6553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4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solidFill>
            <a:srgbClr val="ddd9c3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2895480" y="2362320"/>
            <a:ext cx="6019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ntalidad misioner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 Nuestra clase trata de comprender su contexto cultural y socioeconómic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2362320" y="3808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7 Elementos clave que nos llevan a la transform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2600" y="1427040"/>
            <a:ext cx="2833920" cy="4851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7391520" y="617220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77" name="TextBox 6"/>
          <p:cNvSpPr/>
          <p:nvPr/>
        </p:nvSpPr>
        <p:spPr>
          <a:xfrm>
            <a:off x="8001000" y="65642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4419720" y="4419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áginas 9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5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3505320" y="2514600"/>
            <a:ext cx="5410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.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derazgo vibra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– Nos mantenemos enfocados en grupos abiertos que practican la matrícula abi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3505320" y="380880"/>
            <a:ext cx="5638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 elementos clave que nos llevan a la transform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480" y="353880"/>
            <a:ext cx="3413160" cy="588816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8001000" y="6400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800600" y="4643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áginas 15-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4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1371600" y="281952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Arial"/>
                <a:ea typeface="Arial"/>
              </a:rPr>
              <a:t>3.  </a:t>
            </a:r>
            <a:r>
              <a:rPr b="1" lang="en-US" sz="2800" spc="-1" strike="noStrike" u="sng">
                <a:solidFill>
                  <a:srgbClr val="254061"/>
                </a:solidFill>
                <a:uFillTx/>
                <a:latin typeface="Arial"/>
                <a:ea typeface="Arial"/>
              </a:rPr>
              <a:t>Intencionalidad en las relaciones</a:t>
            </a:r>
            <a:r>
              <a:rPr b="0" lang="en-US" sz="2800" spc="-1" strike="noStrike">
                <a:solidFill>
                  <a:srgbClr val="254061"/>
                </a:solidFill>
                <a:latin typeface="Arial"/>
                <a:ea typeface="Arial"/>
              </a:rPr>
              <a:t> – Cada semana tratamos de comunicarnos con cada miemb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048120" y="76032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061"/>
                </a:solidFill>
                <a:latin typeface="Arial"/>
                <a:ea typeface="Arial"/>
              </a:rPr>
              <a:t>7 elementos clave que nos llevan a la transform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7391520" y="6172200"/>
            <a:ext cx="1760400" cy="561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304920" y="0"/>
            <a:ext cx="2590560" cy="172728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8001000" y="66405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3886200" y="4643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áginas 20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6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219320" y="1981080"/>
            <a:ext cx="73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Arial"/>
                <a:ea typeface="Arial"/>
              </a:rPr>
              <a:t>4.  </a:t>
            </a:r>
            <a:r>
              <a:rPr b="1" lang="en-US" sz="2800" spc="-1" strike="noStrike" u="sng">
                <a:solidFill>
                  <a:srgbClr val="4f6228"/>
                </a:solidFill>
                <a:uFillTx/>
                <a:latin typeface="Arial"/>
                <a:ea typeface="Arial"/>
              </a:rPr>
              <a:t>Dependencia en la oración </a:t>
            </a:r>
            <a:r>
              <a:rPr b="0" lang="en-US" sz="2800" spc="-1" strike="noStrike">
                <a:solidFill>
                  <a:srgbClr val="4f6228"/>
                </a:solidFill>
                <a:latin typeface="Arial"/>
                <a:ea typeface="Arial"/>
              </a:rPr>
              <a:t>– Intencionalmente buscaremos la dirección de Dios en relación con cada aspecto de nuestra tarjeta de registro y estaremos dispuestos a pedir en oración que Dios intervanga antes, durante y después de cada se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28600" y="3049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Arial"/>
                <a:ea typeface="Arial"/>
              </a:rPr>
              <a:t>7 elementos clave que nos llevan a la transform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0" y="513072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7383600" y="609588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8001000" y="66405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4114800" y="5253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áginas 25-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7:40:20Z</dcterms:created>
  <dc:creator>G. Dwayne McCrary</dc:creator>
  <dc:description/>
  <dc:language>en-US</dc:language>
  <cp:lastModifiedBy>Rosa</cp:lastModifiedBy>
  <dcterms:modified xsi:type="dcterms:W3CDTF">2011-05-06T02:41:28Z</dcterms:modified>
  <cp:revision>52</cp:revision>
  <dc:subject/>
  <dc:title>Slide 1</dc:title>
</cp:coreProperties>
</file>