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5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7.jpeg" ContentType="image/jpeg"/>
  <Override PartName="/ppt/media/image8.jpeg" ContentType="image/jpeg"/>
  <Override PartName="/ppt/media/image38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48A-DBAE-454C-9FA4-BB20BA55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B23-62D9-47A9-A1FC-91F9C01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472-E816-40DA-90D0-908B1277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1C8-83A5-49D7-AF21-3D484B17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F04-F476-45CD-B179-337B5FC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0FE-A1BE-466F-B654-874B2360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38B-C081-4189-B56E-1B6B131E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ED5-9085-420F-A358-426AE5E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1D4-E0D5-456D-B371-652AFA9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77B-B200-4DB4-BCCC-85CA22D8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C57-4079-4553-9332-AFD1FBEF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9A3-9D41-44CB-A880-C3D79E3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3CF5-6B82-460D-A80E-07EDDBAC54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7DE4-4CEF-4679-BF7E-DEE9B5964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orp_2clr_3D.jpg"/>
          <p:cNvPicPr/>
          <p:nvPr/>
        </p:nvPicPr>
        <p:blipFill>
          <a:blip r:embed="rId2"/>
          <a:stretch/>
        </p:blipFill>
        <p:spPr>
          <a:xfrm>
            <a:off x="1246320" y="1281240"/>
            <a:ext cx="665136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5"/>
          <p:cNvSpPr/>
          <p:nvPr/>
        </p:nvSpPr>
        <p:spPr>
          <a:xfrm>
            <a:off x="7218360" y="5583240"/>
            <a:ext cx="1925640" cy="12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547560" y="914400"/>
            <a:ext cx="804888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ery Transformational Church and class experiences a “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atharsis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 event, crisis, awakening, insight, or other dynamic that jolted them toward a transformational pa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3843360" y="227160"/>
            <a:ext cx="48672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ad the passages and list significant events that made a difference in Peter’s journey of fai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Diagram 11" descr=""/>
          <p:cNvPicPr/>
          <p:nvPr/>
        </p:nvPicPr>
        <p:blipFill>
          <a:blip r:embed="rId2"/>
          <a:stretch/>
        </p:blipFill>
        <p:spPr>
          <a:xfrm>
            <a:off x="122400" y="2981160"/>
            <a:ext cx="8924760" cy="3443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dmccrar\Desktop\TCGoes2SS_Bkgs\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0" y="696960"/>
            <a:ext cx="6424560" cy="420876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re are seven elements discovered among Transformational Church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dmccrar\Desktop\TCGoes2SS_Bkgs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457200" y="3016080"/>
            <a:ext cx="8229600" cy="247104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ur class seeks to understand its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ultural and socioeconomic context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ages 9-1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2"/>
          <a:stretch/>
        </p:blipFill>
        <p:spPr>
          <a:xfrm>
            <a:off x="-633240" y="-6480"/>
            <a:ext cx="5900400" cy="132264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4" descr=""/>
          <p:cNvPicPr/>
          <p:nvPr/>
        </p:nvPicPr>
        <p:blipFill>
          <a:blip r:embed="rId3"/>
          <a:stretch/>
        </p:blipFill>
        <p:spPr>
          <a:xfrm>
            <a:off x="-585720" y="963720"/>
            <a:ext cx="5900760" cy="1315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dmccrar\Desktop\TCGoes2SS_Bkgs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457200" y="3016080"/>
            <a:ext cx="8229600" cy="247104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 stay focused on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pen groups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acticing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pen enrolment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ages 15-1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2"/>
          <a:stretch/>
        </p:blipFill>
        <p:spPr>
          <a:xfrm>
            <a:off x="-633240" y="-6480"/>
            <a:ext cx="5900400" cy="132264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4" descr=""/>
          <p:cNvPicPr/>
          <p:nvPr/>
        </p:nvPicPr>
        <p:blipFill>
          <a:blip r:embed="rId3"/>
          <a:stretch/>
        </p:blipFill>
        <p:spPr>
          <a:xfrm>
            <a:off x="-585720" y="963720"/>
            <a:ext cx="5900760" cy="1315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dmccrar\Desktop\TCGoes2SS_Bkgs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57200" y="2776680"/>
            <a:ext cx="8229600" cy="247104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 seek to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act every member every week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ages 20-2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2"/>
          <a:stretch/>
        </p:blipFill>
        <p:spPr>
          <a:xfrm>
            <a:off x="-633240" y="-6480"/>
            <a:ext cx="5900400" cy="13226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3"/>
          <a:stretch/>
        </p:blipFill>
        <p:spPr>
          <a:xfrm>
            <a:off x="-103320" y="963720"/>
            <a:ext cx="5900760" cy="13158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dmccrar\Desktop\TCGoes2SS_Bkgs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0" y="27036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 will intentionally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eek God’s direction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regarding every aspect of our “scorecard” and will be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pen to prayerfully petition God’s intervention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efore, during, and after each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ages 25-2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2"/>
          <a:stretch/>
        </p:blipFill>
        <p:spPr>
          <a:xfrm>
            <a:off x="-633240" y="-6480"/>
            <a:ext cx="5900400" cy="132264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4" descr=""/>
          <p:cNvPicPr/>
          <p:nvPr/>
        </p:nvPicPr>
        <p:blipFill>
          <a:blip r:embed="rId3"/>
          <a:stretch/>
        </p:blipFill>
        <p:spPr>
          <a:xfrm>
            <a:off x="-585720" y="963720"/>
            <a:ext cx="5900760" cy="1315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dmccrar\Desktop\TCGoes2SS_Bkgs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61880" y="2254320"/>
            <a:ext cx="8229600" cy="411660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 will intentionally lead our members and prospects to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ctively embrace Jesus as a lifestyle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efore, during, and after each Bible study experi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ages 29-3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-633240" y="622440"/>
            <a:ext cx="5900400" cy="1455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dmccrar\Desktop\TCGoes2SS_Bkgs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457200" y="2279520"/>
            <a:ext cx="8229600" cy="423864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re are five elements of group life in a transformational cla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ission orientation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Word-driven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ultiplication mindset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tranger welcoming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Kingdom focused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ages 34-3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3" descr=""/>
          <p:cNvPicPr/>
          <p:nvPr/>
        </p:nvPicPr>
        <p:blipFill>
          <a:blip r:embed="rId2"/>
          <a:stretch/>
        </p:blipFill>
        <p:spPr>
          <a:xfrm>
            <a:off x="-341280" y="622440"/>
            <a:ext cx="5894280" cy="14554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dmccrar\Desktop\TCGoes2SS_Bkgs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528480" y="2616120"/>
            <a:ext cx="7990200" cy="301968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re are three key ingredients for a transformational clas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1859c"/>
                </a:solidFill>
                <a:uFillTx/>
                <a:latin typeface="Times New Roman"/>
                <a:ea typeface="Times New Roman"/>
              </a:rPr>
              <a:t>Release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lang="en-US" sz="4000" spc="-1" strike="noStrike" u="sng">
                <a:solidFill>
                  <a:srgbClr val="604a7b"/>
                </a:solidFill>
                <a:uFillTx/>
                <a:latin typeface="Times New Roman"/>
                <a:ea typeface="Times New Roman"/>
              </a:rPr>
              <a:t>Reproduce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, and </a:t>
            </a:r>
            <a:r>
              <a:rPr b="1" lang="en-US" sz="40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Reach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ages 37-4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2"/>
          <a:stretch/>
        </p:blipFill>
        <p:spPr>
          <a:xfrm>
            <a:off x="-633240" y="622440"/>
            <a:ext cx="5900400" cy="14554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19080" y="2552760"/>
            <a:ext cx="7305840" cy="173988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ke a nametag and enjoy meeting persons sitting around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2157480" y="371520"/>
            <a:ext cx="5900760" cy="1755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3"/>
          <a:stretch/>
        </p:blipFill>
        <p:spPr>
          <a:xfrm>
            <a:off x="1968480" y="244440"/>
            <a:ext cx="1633680" cy="190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-336600" y="331920"/>
            <a:ext cx="9480600" cy="435888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Rate your class 1-10 and list at least </a:t>
            </a:r>
            <a:br>
              <a:rPr sz="4000"/>
            </a:br>
            <a:r>
              <a:rPr b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one action to strength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e know we are part of a mov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e are open to persons not part of the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e intentionally seek to understand and   relate to people in our commun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God’s Word is ALIVE in our cla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Documents and Settings\dmccrar\Desktop\TCGoes2SS_Bkgs\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168120" y="546120"/>
            <a:ext cx="6208920" cy="496980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Let’s evaluate transforma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… </a:t>
            </a:r>
            <a:r>
              <a:rPr b="1" lang="en-US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from our own class perspectiv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… </a:t>
            </a:r>
            <a:r>
              <a:rPr b="1" lang="en-US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from perspective of persons in our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dmccrar\Desktop\TCGoes2SS_Bkgs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2521080" y="1306440"/>
            <a:ext cx="6094440" cy="283716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What’s our current scorecar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traight Connector 3" descr=""/>
          <p:cNvPicPr/>
          <p:nvPr/>
        </p:nvPicPr>
        <p:blipFill>
          <a:blip r:embed="rId2"/>
          <a:stretch/>
        </p:blipFill>
        <p:spPr>
          <a:xfrm>
            <a:off x="2309760" y="-6888240"/>
            <a:ext cx="92160" cy="6869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dmccrar\Desktop\TCGoes2SS_Bkgs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2281320" y="1698480"/>
            <a:ext cx="6529320" cy="210492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Create a new scorecard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3" descr=""/>
          <p:cNvPicPr/>
          <p:nvPr/>
        </p:nvPicPr>
        <p:blipFill>
          <a:blip r:embed="rId2"/>
          <a:stretch/>
        </p:blipFill>
        <p:spPr>
          <a:xfrm>
            <a:off x="2309760" y="-6888240"/>
            <a:ext cx="92160" cy="68691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dmccrar\Desktop\TCGoes2SS_Bkgs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2521080" y="969840"/>
            <a:ext cx="6622920" cy="356832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Read a story of transforma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f6228"/>
                </a:solidFill>
                <a:latin typeface="Arial"/>
                <a:ea typeface="Arial"/>
              </a:rPr>
              <a:t>(pages 43-4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traight Connector 3" descr=""/>
          <p:cNvPicPr/>
          <p:nvPr/>
        </p:nvPicPr>
        <p:blipFill>
          <a:blip r:embed="rId2"/>
          <a:stretch/>
        </p:blipFill>
        <p:spPr>
          <a:xfrm>
            <a:off x="2309760" y="-6888240"/>
            <a:ext cx="92160" cy="6869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dmccrar\Desktop\TCGoes2SS_Bkgs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2614680" y="1695600"/>
            <a:ext cx="6529320" cy="228852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OU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FUTUR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Straight Connector 3" descr=""/>
          <p:cNvPicPr/>
          <p:nvPr/>
        </p:nvPicPr>
        <p:blipFill>
          <a:blip r:embed="rId2"/>
          <a:stretch/>
        </p:blipFill>
        <p:spPr>
          <a:xfrm>
            <a:off x="2359080" y="-6870600"/>
            <a:ext cx="9216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dmccrar\Desktop\TCGoes2SS_Bkgs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614680" y="1162080"/>
            <a:ext cx="6529320" cy="301860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Let’s pray and intentionally pursue passion for Kingdom wor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Straight Connector 4" descr=""/>
          <p:cNvPicPr/>
          <p:nvPr/>
        </p:nvPicPr>
        <p:blipFill>
          <a:blip r:embed="rId2"/>
          <a:stretch/>
        </p:blipFill>
        <p:spPr>
          <a:xfrm>
            <a:off x="2359080" y="-6870600"/>
            <a:ext cx="9216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TextBox 2"/>
          <p:cNvGrpSpPr/>
          <p:nvPr/>
        </p:nvGrpSpPr>
        <p:grpSpPr>
          <a:xfrm>
            <a:off x="-36360" y="3176640"/>
            <a:ext cx="9289800" cy="1712880"/>
            <a:chOff x="-36360" y="3176640"/>
            <a:chExt cx="9289800" cy="1712880"/>
          </a:xfrm>
        </p:grpSpPr>
        <p:pic>
          <p:nvPicPr>
            <p:cNvPr id="145" name="TextBox 2" descr=""/>
            <p:cNvPicPr/>
            <p:nvPr/>
          </p:nvPicPr>
          <p:blipFill>
            <a:blip r:embed="rId2"/>
            <a:stretch/>
          </p:blipFill>
          <p:spPr>
            <a:xfrm>
              <a:off x="-36360" y="3176640"/>
              <a:ext cx="928980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321804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 significant events (positive and challenging) that made a difference in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ter’s journey of fai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Rectangle 3" descr=""/>
          <p:cNvPicPr/>
          <p:nvPr/>
        </p:nvPicPr>
        <p:blipFill>
          <a:blip r:embed="rId3"/>
          <a:stretch/>
        </p:blipFill>
        <p:spPr>
          <a:xfrm>
            <a:off x="2560680" y="768240"/>
            <a:ext cx="4048200" cy="95112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4" descr=""/>
          <p:cNvPicPr/>
          <p:nvPr/>
        </p:nvPicPr>
        <p:blipFill>
          <a:blip r:embed="rId4"/>
          <a:stretch/>
        </p:blipFill>
        <p:spPr>
          <a:xfrm>
            <a:off x="500040" y="1573200"/>
            <a:ext cx="8143920" cy="1243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TextBox 2"/>
          <p:cNvGrpSpPr/>
          <p:nvPr/>
        </p:nvGrpSpPr>
        <p:grpSpPr>
          <a:xfrm>
            <a:off x="-36360" y="3176640"/>
            <a:ext cx="9289800" cy="1712880"/>
            <a:chOff x="-36360" y="3176640"/>
            <a:chExt cx="9289800" cy="1712880"/>
          </a:xfrm>
        </p:grpSpPr>
        <p:pic>
          <p:nvPicPr>
            <p:cNvPr id="152" name="TextBox 2" descr=""/>
            <p:cNvPicPr/>
            <p:nvPr/>
          </p:nvPicPr>
          <p:blipFill>
            <a:blip r:embed="rId2"/>
            <a:stretch/>
          </p:blipFill>
          <p:spPr>
            <a:xfrm>
              <a:off x="-36360" y="3176640"/>
              <a:ext cx="928980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21804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 significant events (positive and challenging) that made a difference in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ter’s journey of fai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Rectangle 3" descr=""/>
          <p:cNvPicPr/>
          <p:nvPr/>
        </p:nvPicPr>
        <p:blipFill>
          <a:blip r:embed="rId3"/>
          <a:stretch/>
        </p:blipFill>
        <p:spPr>
          <a:xfrm>
            <a:off x="2577960" y="695160"/>
            <a:ext cx="4048200" cy="95112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4" descr=""/>
          <p:cNvPicPr/>
          <p:nvPr/>
        </p:nvPicPr>
        <p:blipFill>
          <a:blip r:embed="rId4"/>
          <a:stretch/>
        </p:blipFill>
        <p:spPr>
          <a:xfrm>
            <a:off x="500040" y="1573200"/>
            <a:ext cx="8143920" cy="1243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52520" y="2523960"/>
            <a:ext cx="8238960" cy="234864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Read John 21:1-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ircle words and phrases that help you realize Peter was at a significant crossroad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85680" y="399960"/>
            <a:ext cx="71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Arial"/>
                <a:ea typeface="Arial"/>
              </a:rPr>
              <a:t>Review Peter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Arial"/>
                <a:ea typeface="Arial"/>
              </a:rPr>
              <a:t>Life-changing Exper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8" name="TextBox 2"/>
          <p:cNvGrpSpPr/>
          <p:nvPr/>
        </p:nvGrpSpPr>
        <p:grpSpPr>
          <a:xfrm>
            <a:off x="-36360" y="3176640"/>
            <a:ext cx="9289800" cy="1712880"/>
            <a:chOff x="-36360" y="3176640"/>
            <a:chExt cx="9289800" cy="1712880"/>
          </a:xfrm>
        </p:grpSpPr>
        <p:pic>
          <p:nvPicPr>
            <p:cNvPr id="159" name="TextBox 2" descr=""/>
            <p:cNvPicPr/>
            <p:nvPr/>
          </p:nvPicPr>
          <p:blipFill>
            <a:blip r:embed="rId2"/>
            <a:stretch/>
          </p:blipFill>
          <p:spPr>
            <a:xfrm>
              <a:off x="-36360" y="3176640"/>
              <a:ext cx="928980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321804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 significant events (positive and challenging) that made a difference in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ter’s journey of fai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Rectangle 3" descr=""/>
          <p:cNvPicPr/>
          <p:nvPr/>
        </p:nvPicPr>
        <p:blipFill>
          <a:blip r:embed="rId3"/>
          <a:stretch/>
        </p:blipFill>
        <p:spPr>
          <a:xfrm>
            <a:off x="2590920" y="768240"/>
            <a:ext cx="4047840" cy="95112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4" descr=""/>
          <p:cNvPicPr/>
          <p:nvPr/>
        </p:nvPicPr>
        <p:blipFill>
          <a:blip r:embed="rId4"/>
          <a:stretch/>
        </p:blipFill>
        <p:spPr>
          <a:xfrm>
            <a:off x="500040" y="1573200"/>
            <a:ext cx="8143920" cy="12430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5" name="TextBox 2"/>
          <p:cNvGrpSpPr/>
          <p:nvPr/>
        </p:nvGrpSpPr>
        <p:grpSpPr>
          <a:xfrm>
            <a:off x="-36360" y="3176640"/>
            <a:ext cx="9289800" cy="1712880"/>
            <a:chOff x="-36360" y="3176640"/>
            <a:chExt cx="9289800" cy="1712880"/>
          </a:xfrm>
        </p:grpSpPr>
        <p:pic>
          <p:nvPicPr>
            <p:cNvPr id="166" name="TextBox 2" descr=""/>
            <p:cNvPicPr/>
            <p:nvPr/>
          </p:nvPicPr>
          <p:blipFill>
            <a:blip r:embed="rId2"/>
            <a:stretch/>
          </p:blipFill>
          <p:spPr>
            <a:xfrm>
              <a:off x="-36360" y="3176640"/>
              <a:ext cx="928980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321804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 significant events (positive and challenging) that made a difference in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ter’s journey of fai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Rectangle 3" descr=""/>
          <p:cNvPicPr/>
          <p:nvPr/>
        </p:nvPicPr>
        <p:blipFill>
          <a:blip r:embed="rId3"/>
          <a:stretch/>
        </p:blipFill>
        <p:spPr>
          <a:xfrm>
            <a:off x="2560680" y="669960"/>
            <a:ext cx="4048200" cy="95076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" descr=""/>
          <p:cNvPicPr/>
          <p:nvPr/>
        </p:nvPicPr>
        <p:blipFill>
          <a:blip r:embed="rId4"/>
          <a:stretch/>
        </p:blipFill>
        <p:spPr>
          <a:xfrm>
            <a:off x="500040" y="1573200"/>
            <a:ext cx="8143920" cy="12430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TextBox 2"/>
          <p:cNvGrpSpPr/>
          <p:nvPr/>
        </p:nvGrpSpPr>
        <p:grpSpPr>
          <a:xfrm>
            <a:off x="-36360" y="3176640"/>
            <a:ext cx="9289800" cy="1712880"/>
            <a:chOff x="-36360" y="3176640"/>
            <a:chExt cx="9289800" cy="1712880"/>
          </a:xfrm>
        </p:grpSpPr>
        <p:pic>
          <p:nvPicPr>
            <p:cNvPr id="173" name="TextBox 2" descr=""/>
            <p:cNvPicPr/>
            <p:nvPr/>
          </p:nvPicPr>
          <p:blipFill>
            <a:blip r:embed="rId2"/>
            <a:stretch/>
          </p:blipFill>
          <p:spPr>
            <a:xfrm>
              <a:off x="-36360" y="3176640"/>
              <a:ext cx="928980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321804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 significant events (positive and challenging) that made a difference in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ter’s journey of fai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Rectangle 3" descr=""/>
          <p:cNvPicPr/>
          <p:nvPr/>
        </p:nvPicPr>
        <p:blipFill>
          <a:blip r:embed="rId3"/>
          <a:stretch/>
        </p:blipFill>
        <p:spPr>
          <a:xfrm>
            <a:off x="2498760" y="706320"/>
            <a:ext cx="4048200" cy="95112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4" descr=""/>
          <p:cNvPicPr/>
          <p:nvPr/>
        </p:nvPicPr>
        <p:blipFill>
          <a:blip r:embed="rId4"/>
          <a:stretch/>
        </p:blipFill>
        <p:spPr>
          <a:xfrm>
            <a:off x="500040" y="1573200"/>
            <a:ext cx="8143920" cy="12430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9" name="TextBox 2"/>
          <p:cNvGrpSpPr/>
          <p:nvPr/>
        </p:nvGrpSpPr>
        <p:grpSpPr>
          <a:xfrm>
            <a:off x="-36360" y="3176640"/>
            <a:ext cx="9289800" cy="1712880"/>
            <a:chOff x="-36360" y="3176640"/>
            <a:chExt cx="9289800" cy="1712880"/>
          </a:xfrm>
        </p:grpSpPr>
        <p:pic>
          <p:nvPicPr>
            <p:cNvPr id="180" name="TextBox 2" descr=""/>
            <p:cNvPicPr/>
            <p:nvPr/>
          </p:nvPicPr>
          <p:blipFill>
            <a:blip r:embed="rId2"/>
            <a:stretch/>
          </p:blipFill>
          <p:spPr>
            <a:xfrm>
              <a:off x="-36360" y="3176640"/>
              <a:ext cx="928980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321804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 significant events (positive and challenging) that made a difference in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ter’s journey of fai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Rectangle 3" descr=""/>
          <p:cNvPicPr/>
          <p:nvPr/>
        </p:nvPicPr>
        <p:blipFill>
          <a:blip r:embed="rId3"/>
          <a:stretch/>
        </p:blipFill>
        <p:spPr>
          <a:xfrm>
            <a:off x="2548080" y="731880"/>
            <a:ext cx="4047840" cy="950760"/>
          </a:xfrm>
          <a:prstGeom prst="rect">
            <a:avLst/>
          </a:prstGeom>
          <a:ln w="0">
            <a:noFill/>
          </a:ln>
        </p:spPr>
      </p:pic>
      <p:pic>
        <p:nvPicPr>
          <p:cNvPr id="183" name="Rectangle 4" descr=""/>
          <p:cNvPicPr/>
          <p:nvPr/>
        </p:nvPicPr>
        <p:blipFill>
          <a:blip r:embed="rId4"/>
          <a:stretch/>
        </p:blipFill>
        <p:spPr>
          <a:xfrm>
            <a:off x="500040" y="1573200"/>
            <a:ext cx="8143920" cy="1243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1870200" y="3397320"/>
            <a:ext cx="7273800" cy="253116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show we are 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a move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have we gotten away from the enthusiasm for that mov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3" descr=""/>
          <p:cNvPicPr/>
          <p:nvPr/>
        </p:nvPicPr>
        <p:blipFill>
          <a:blip r:embed="rId2"/>
          <a:stretch/>
        </p:blipFill>
        <p:spPr>
          <a:xfrm>
            <a:off x="2262240" y="811080"/>
            <a:ext cx="8150040" cy="124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0" y="1844640"/>
            <a:ext cx="2144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53735"/>
                </a:solidFill>
                <a:latin typeface="comi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6" descr=""/>
          <p:cNvPicPr/>
          <p:nvPr/>
        </p:nvPicPr>
        <p:blipFill>
          <a:blip r:embed="rId3"/>
          <a:stretch/>
        </p:blipFill>
        <p:spPr>
          <a:xfrm>
            <a:off x="2041560" y="1633680"/>
            <a:ext cx="8150040" cy="1242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413000" y="2892600"/>
            <a:ext cx="7573680" cy="448092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will help establish at least one new open Bible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up for a person of 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cific target gro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 are we seeking to reac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would they know we want them to belong bef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beli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2"/>
          <a:stretch/>
        </p:blipFill>
        <p:spPr>
          <a:xfrm>
            <a:off x="2262240" y="811080"/>
            <a:ext cx="8150040" cy="1249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1844640"/>
            <a:ext cx="2144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53735"/>
                </a:solidFill>
                <a:latin typeface="comi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ctangle 6" descr=""/>
          <p:cNvPicPr/>
          <p:nvPr/>
        </p:nvPicPr>
        <p:blipFill>
          <a:blip r:embed="rId3"/>
          <a:stretch/>
        </p:blipFill>
        <p:spPr>
          <a:xfrm>
            <a:off x="2041560" y="1633680"/>
            <a:ext cx="8150040" cy="12427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7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1538280" y="2924280"/>
            <a:ext cx="7273800" cy="350604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will intentionally seek to engage people in life-changing Bible study each wee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some strengths and challenges for your class regarding this “intentionality” through care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Rectangle 3" descr=""/>
          <p:cNvPicPr/>
          <p:nvPr/>
        </p:nvPicPr>
        <p:blipFill>
          <a:blip r:embed="rId2"/>
          <a:stretch/>
        </p:blipFill>
        <p:spPr>
          <a:xfrm>
            <a:off x="2262240" y="938160"/>
            <a:ext cx="8150040" cy="1244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0" y="1844640"/>
            <a:ext cx="2144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53735"/>
                </a:solidFill>
                <a:latin typeface="comi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6" descr=""/>
          <p:cNvPicPr/>
          <p:nvPr/>
        </p:nvPicPr>
        <p:blipFill>
          <a:blip r:embed="rId3"/>
          <a:stretch/>
        </p:blipFill>
        <p:spPr>
          <a:xfrm>
            <a:off x="2041560" y="1755720"/>
            <a:ext cx="8150040" cy="1249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1870200" y="3429000"/>
            <a:ext cx="6832440" cy="253116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will intentionally move our class (memb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engage in pr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the class, community, and commission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Rectangle 3" descr=""/>
          <p:cNvPicPr/>
          <p:nvPr/>
        </p:nvPicPr>
        <p:blipFill>
          <a:blip r:embed="rId2"/>
          <a:stretch/>
        </p:blipFill>
        <p:spPr>
          <a:xfrm>
            <a:off x="2262240" y="938160"/>
            <a:ext cx="8150040" cy="1244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1844640"/>
            <a:ext cx="2144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53735"/>
                </a:solidFill>
                <a:latin typeface="comi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Rectangle 6" descr=""/>
          <p:cNvPicPr/>
          <p:nvPr/>
        </p:nvPicPr>
        <p:blipFill>
          <a:blip r:embed="rId3"/>
          <a:stretch/>
        </p:blipFill>
        <p:spPr>
          <a:xfrm>
            <a:off x="2041560" y="1755720"/>
            <a:ext cx="8150040" cy="1249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1649520" y="2505240"/>
            <a:ext cx="7305480" cy="399348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 few Bible study experiences engage class members in answering “so what?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instorm some ways you can engage people in daily devotions or quiet times by using Sunday School resourc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stry magaz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2"/>
          <a:stretch/>
        </p:blipFill>
        <p:spPr>
          <a:xfrm>
            <a:off x="2706840" y="907920"/>
            <a:ext cx="6443640" cy="16401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0" y="1844640"/>
            <a:ext cx="2144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53735"/>
                </a:solidFill>
                <a:latin typeface="comi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1838160" y="3429000"/>
            <a:ext cx="6707520" cy="253116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ways we can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r class deter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our focus is on us or on working together to minister to and engag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ctangle 3" descr=""/>
          <p:cNvPicPr/>
          <p:nvPr/>
        </p:nvPicPr>
        <p:blipFill>
          <a:blip r:embed="rId2"/>
          <a:stretch/>
        </p:blipFill>
        <p:spPr>
          <a:xfrm>
            <a:off x="2262240" y="1725480"/>
            <a:ext cx="6448320" cy="16401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0" y="1859040"/>
            <a:ext cx="2144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53735"/>
                </a:solidFill>
                <a:latin typeface="comi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dmccrar\Desktop\TCGoes2SS_Bkgs\Slide2.JPG"/>
          <p:cNvPicPr/>
          <p:nvPr/>
        </p:nvPicPr>
        <p:blipFill>
          <a:blip r:embed="rId1"/>
          <a:srcRect l="51276" t="0" r="0" b="0"/>
          <a:stretch/>
        </p:blipFill>
        <p:spPr>
          <a:xfrm rot="628200">
            <a:off x="4884480" y="804960"/>
            <a:ext cx="3681360" cy="56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98440" y="241200"/>
            <a:ext cx="3648240" cy="540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Oval 3"/>
          <p:cNvSpPr/>
          <p:nvPr/>
        </p:nvSpPr>
        <p:spPr>
          <a:xfrm>
            <a:off x="2160720" y="272880"/>
            <a:ext cx="1976400" cy="1284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dmccrar\Desktop\TCGoes2SS_Bkgs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1281240" y="3002040"/>
            <a:ext cx="7862760" cy="253116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som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a clas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tionally plans to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mission (by reproducing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asing, and reach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Rectangle 3" descr=""/>
          <p:cNvPicPr/>
          <p:nvPr/>
        </p:nvPicPr>
        <p:blipFill>
          <a:blip r:embed="rId2"/>
          <a:stretch/>
        </p:blipFill>
        <p:spPr>
          <a:xfrm>
            <a:off x="1951200" y="1444680"/>
            <a:ext cx="6443640" cy="1639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0" y="1859040"/>
            <a:ext cx="2144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53735"/>
                </a:solidFill>
                <a:latin typeface="comi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orp_2clr_3D.jpg"/>
          <p:cNvPicPr/>
          <p:nvPr/>
        </p:nvPicPr>
        <p:blipFill>
          <a:blip r:embed="rId1"/>
          <a:stretch/>
        </p:blipFill>
        <p:spPr>
          <a:xfrm>
            <a:off x="1246320" y="1906560"/>
            <a:ext cx="665136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dmccrar\Desktop\TCGoes2SS_Bkgs\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0" y="725400"/>
            <a:ext cx="6346800" cy="420876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hat are ways we measure to see if we are achieving our assignment in Sunday Schoo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" descr=""/>
          <p:cNvPicPr/>
          <p:nvPr/>
        </p:nvPicPr>
        <p:blipFill>
          <a:blip r:embed="rId2"/>
          <a:stretch/>
        </p:blipFill>
        <p:spPr>
          <a:xfrm>
            <a:off x="-341280" y="139680"/>
            <a:ext cx="9777240" cy="10126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4" descr=""/>
          <p:cNvPicPr/>
          <p:nvPr/>
        </p:nvPicPr>
        <p:blipFill>
          <a:blip r:embed="rId3"/>
          <a:stretch/>
        </p:blipFill>
        <p:spPr>
          <a:xfrm>
            <a:off x="-244440" y="1054080"/>
            <a:ext cx="977904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-71280" y="2527200"/>
            <a:ext cx="9144000" cy="210564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6880" indent="-409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more people become more like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serve our class act more like His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ebrate the impact our class is making to help our community reflect His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dmccrar\Desktop\TCGoes2SS_Bkgs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2"/>
          <a:stretch/>
        </p:blipFill>
        <p:spPr>
          <a:xfrm>
            <a:off x="-341280" y="139680"/>
            <a:ext cx="9777240" cy="1012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0" y="1492200"/>
            <a:ext cx="8879040" cy="320112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6880" indent="-409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view our stories of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dentify significant elements that make a life-changing impact in the King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elp us address ways we can measure how our class deals with strengths and challe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61880" y="1006560"/>
            <a:ext cx="8220240" cy="311040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rite a prayer concern you have for your cla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dmccrar\Desktop\TCGoes2SS_Bkgs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176480" y="1754280"/>
            <a:ext cx="6696000" cy="2104920"/>
          </a:xfrm>
          <a:prstGeom prst="rect">
            <a:avLst/>
          </a:prstGeom>
          <a:noFill/>
          <a:ln w="0">
            <a:noFill/>
          </a:ln>
          <a:effectLst>
            <a:outerShdw dist="50841" dir="2407034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view Peter’s story of faith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42:43Z</dcterms:created>
  <dc:creator>Abbie Cox</dc:creator>
  <dc:description/>
  <dc:language>en-US</dc:language>
  <cp:lastModifiedBy>LifeWay Christian Resources</cp:lastModifiedBy>
  <cp:lastPrinted>2010-11-22T14:55:05Z</cp:lastPrinted>
  <dcterms:modified xsi:type="dcterms:W3CDTF">2011-02-07T15:02:12Z</dcterms:modified>
  <cp:revision>70</cp:revision>
  <dc:subject/>
  <dc:title>Slide 1</dc:title>
</cp:coreProperties>
</file>