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wmf" ContentType="image/x-wmf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DAAE-7707-4F54-95C6-E905A0798A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2BF3-F9DB-4AF7-9D89-812AF0363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0D1D-CDCC-4A23-99A8-153E32632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C820-C4B9-45D3-B8A3-D82D05505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5498-59BF-4415-8345-7BEC81E0B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2152-0D9E-407A-BB38-8AEFC5BE0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4122-C2FA-4341-95DA-1CFE3F5C6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59F8-7E74-4A28-B7CE-BB659BA8E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81D7-CF2A-47D2-A3D8-3E197B935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D38-0DE5-4101-BF22-9E8E582CC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A92A-42A5-44E7-8A8B-D50663708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CA8A-7A68-4F28-9823-F27427F02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3010-5C60-4A94-B4D3-F0A6A0068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196E-E9BA-4960-B5EF-E62D2A441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8308-5377-477A-A15D-30A28C1C2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0F7E-B897-4EEA-9F40-83B8E4319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04E2-05C1-4FBE-B8E6-DD9F92474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B8B9-839D-44B6-97A1-8FDFA891D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CEC6-5942-4906-99E5-730271A6F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8BF0-E81C-47A7-9A92-19EA0C634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08D7-9D51-4EF2-AC17-1860F7F61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10BF-90AC-4372-934C-7E7977258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7128-79BD-44E0-9C7E-4631699B4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8E3E-5109-4BDC-B4A5-0C3151496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22C6-ADF1-4D92-ACD0-AAF3F49F9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B738-D2F0-4684-88EC-A76D35870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4FD-E8B5-4F89-A705-3CF29D36F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9AAD-BF60-480F-BE17-B7349732F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715-B465-4FCE-AC7F-48DF78AF0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748A-C13A-4496-998C-D39996191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0E6-C50F-4FE5-9828-D523C5545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E6D4-C0C0-49FA-93DE-B03504F30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226-7563-4907-AA52-2AC70EA46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B96A-F07E-4DB5-AE8C-05799804D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27B-DA7E-4D57-91B3-3E1FF0EDC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3267-8424-42B7-BB53-942475423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4579-227C-4134-8F8A-26BF8D624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7751-E0C9-4751-907C-252F0E27C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9ACB-311F-459B-ABC1-0FD970722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E1B-4200-49B1-BAED-1EBD03545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4A20-90F8-47C3-9D67-5128107C3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F565-1797-479C-8507-12AB22536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D83F-3FC5-4898-B4AB-FA344B77F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7DAD-1F75-4F56-BE28-5EC39D686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7DC-D1D0-4EA4-B1E4-2BCBBFACF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60E1-4727-41DA-9A85-87D9373F2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349C-62F2-4594-A3D3-D82628EC0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1128-AE37-4650-AEAC-5CD1510DB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D46E-623B-452D-B55F-D6C6361CD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575E-535E-4F66-878F-917EB6EDE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6804-9110-42E1-AB6A-2D61CCFC2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8EB-4DDD-411F-8C32-C4AE89102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61B2-C120-4FA0-8BF5-80003077D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1E29-7115-4916-8D8F-8AA2C555F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09FB-547E-495A-9037-AF6B4589D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1A75-DAA0-4B1A-AABA-5EE97D9F3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4397-A440-40A3-8336-4D5CF960C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0583-D6CD-49A8-9A47-595603A45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AC63-EB36-4B17-962E-7AC94D319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FD7F-923D-4851-B897-148615BE3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503F-6D9E-44EF-807E-B35E55A37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792C-7FA1-4E9F-BA6E-A7CA34AD5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0E43-0B9A-411A-A181-9B2210C59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93F1-1DFA-40CA-BE85-B56B22EEF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F709-1E55-4E99-A693-7D0486033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5D7B-C399-4259-B745-7BD51DD9A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7968-E926-4C02-AA0F-6C411A457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F0E7-C5E8-4147-A8D0-401185F5A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E32C-A502-49D6-AC9A-5A808677D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3748-7B98-4D30-B30C-C0D5E1EB9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EF1D-D469-4E4E-8440-7207253F3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6601-ED52-47DE-AC27-689E2F6AA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5AF-4CE9-4B28-8E73-830A0AE10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9180-6718-4167-9F80-C01D9E3D8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7410-7AE7-473F-B6FD-139B15AAA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270-C0C6-4051-9CB4-261E165A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25B-461B-43BB-BE3E-2039C003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E4D-1C56-4F8B-992C-AB5D73E4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B37-E129-41D4-BC5D-4F4DF129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AF74-32A1-452E-82DF-C5B1F684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B159-F382-4DB7-ACDD-7794CF0D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388D-A4C7-46C9-829A-6D7DB61B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5FAD-0CFA-4480-8117-73F27F0F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729A-35F2-4264-A2A8-B15E0EEF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4CA2-609B-4ADA-94D6-F9CEEE47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77DE-7DA9-4E30-8487-B78146A4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6D2-E9A9-46F2-8C17-8C67751E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8733-8FDA-45B3-82D6-C41D54DB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E130-4CF0-4892-8232-AA02E9D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6684-F20A-4E2B-A7BE-14B42B8B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04D4-57F6-4C71-9676-C46DF9FA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2138-8A45-4445-ABF4-A9D0A24E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31F93-C6A3-404C-8BB8-893321F2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D1C6-32BE-4C3E-8E91-69BD90C7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BFCF-CE4D-46B1-A263-BDDC2CAE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1DA8-365D-4C40-A321-0FD8E676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81D0-28AD-4F73-9D54-1168D5B6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962-751A-4853-80AF-E9EC33E0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E4FE-E2F8-43E0-9ADA-27639CDE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00FB9-83AB-41FB-9724-C6091225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68167-1025-4ACF-9BCC-691EA509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F860-48C7-4AD1-8298-DC159F8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E850-5DAC-4A83-AF29-135C6888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4925-D619-4EB5-A943-700107C9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539C-87CE-4822-A716-0D5F1DA1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57B-FAD3-48FD-91B1-86943425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9D7-9D15-4B54-838F-DCD4A732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06B-6AB7-4AE8-A940-A23F65FD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BD5-6C2D-4E54-97EC-C5A4C94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E05-7E12-4B66-8EAB-AD8F6E82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BA7-88D6-4D78-9BB8-69A2DA51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7ACE-7450-43D6-8E03-95347BDDD0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FCC3-7A8C-48B1-BF04-6F47F204C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347D-0C06-4E70-8A05-A0F35C5D3C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CBA6-FB5E-400C-A38B-98BF27AC0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FBCE-A3C3-4FA7-AC87-37516E09E3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E95A-B6C7-457E-AAF9-6E45529F8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4343400" y="1676520"/>
            <a:ext cx="4038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ienvenido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480" y="353880"/>
            <a:ext cx="3413160" cy="588816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ADBE-6C5E-4A0D-AEB1-0DD489232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4"/>
          <p:cNvSpPr/>
          <p:nvPr/>
        </p:nvSpPr>
        <p:spPr>
          <a:xfrm>
            <a:off x="609480" y="1371600"/>
            <a:ext cx="8077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Se necesita otra grado de compromiso para, con oración e intención, convertir el estudio en su misión para alcanzar a otros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7772400" y="5715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380880" y="228600"/>
            <a:ext cx="601992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entalidad mision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La Escuela Dominical como un movimiento misionero en su tercer sig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Robert Raikes – Gloucester, Inglaterra, 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William Fox – Londres, Inglaterra, 17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Llega a América – Rhode Island, New York, Pennsylvania, 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Junta de Escuelas Dominicales – 18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7391520" y="5715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s 10-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7"/>
          <p:cNvSpPr/>
          <p:nvPr/>
        </p:nvSpPr>
        <p:spPr>
          <a:xfrm>
            <a:off x="609480" y="16765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La idea básica detrás de una estrategia misionera es establecer, con tanta claridad y tan específicamente como sea posible, a quiénes usted desea alcanzar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7543800" y="5791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380880" y="5335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Grupos de pers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7"/>
          <p:cNvSpPr/>
          <p:nvPr/>
        </p:nvSpPr>
        <p:spPr>
          <a:xfrm>
            <a:off x="304920" y="838080"/>
            <a:ext cx="883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En su gru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Identifique el contexto cultural de las iglesias representadas en su gru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Enumere los diferentes grupos de personas en el contexto de sus igles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Enumere la mejor manera de descubrir los grupos de personas en el área de su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7696080" y="5715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7"/>
          <p:cNvSpPr/>
          <p:nvPr/>
        </p:nvSpPr>
        <p:spPr>
          <a:xfrm>
            <a:off x="990720" y="1981080"/>
            <a:ext cx="746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0253f"/>
                </a:solidFill>
                <a:latin typeface="Arial"/>
              </a:rPr>
              <a:t>El modelo comprobado por el tiempo para identificar el grupo objetivo de personas para las clases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0253f"/>
                </a:solidFill>
                <a:latin typeface="Arial"/>
              </a:rPr>
              <a:t>la </a:t>
            </a: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Escuela Dominical graduada por edades</a:t>
            </a:r>
            <a:r>
              <a:rPr b="1" lang="es-ES" sz="40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7467480" y="5791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380880" y="609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Grupos de pers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8"/>
          <p:cNvSpPr/>
          <p:nvPr/>
        </p:nvSpPr>
        <p:spPr>
          <a:xfrm>
            <a:off x="7543800" y="5791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Otras opciones para agrupar a los adultos…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514600" y="2361960"/>
            <a:ext cx="5562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3160" indent="-17316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Etapa de la v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Grupo af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Vecindario específ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4"/>
          <p:cNvSpPr/>
          <p:nvPr/>
        </p:nvSpPr>
        <p:spPr>
          <a:xfrm>
            <a:off x="7772400" y="5715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33520" y="609480"/>
            <a:ext cx="815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“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Estoy convencido de que el movimiento de la Escuela Dominical, mediante una iglesia que </a:t>
            </a:r>
            <a:r>
              <a:rPr b="1" lang="en-US" sz="4000" spc="-1" strike="noStrike">
                <a:solidFill>
                  <a:srgbClr val="953735"/>
                </a:solidFill>
                <a:latin typeface="Arial"/>
                <a:ea typeface="Arial"/>
              </a:rPr>
              <a:t>lo comprende bien 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y </a:t>
            </a:r>
            <a:r>
              <a:rPr b="1" lang="en-US" sz="4000" spc="-1" strike="noStrike">
                <a:solidFill>
                  <a:srgbClr val="953735"/>
                </a:solidFill>
                <a:latin typeface="Arial"/>
                <a:ea typeface="Arial"/>
              </a:rPr>
              <a:t>lo lleva a cabo estratégicamente,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   puede seguir sie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Arial"/>
                <a:ea typeface="Arial"/>
              </a:rPr>
              <a:t>una fuerza misionera 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eficiente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2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124080" y="380880"/>
            <a:ext cx="6019920" cy="525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6"/>
          <p:cNvSpPr/>
          <p:nvPr/>
        </p:nvSpPr>
        <p:spPr>
          <a:xfrm>
            <a:off x="74674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ágina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4"/>
          <p:cNvSpPr/>
          <p:nvPr/>
        </p:nvSpPr>
        <p:spPr>
          <a:xfrm>
            <a:off x="0" y="830160"/>
            <a:ext cx="2819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Una mentalidad misionera con discernimiento debe edificarse sobre una mentalidad apropiad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5"/>
          <p:cNvSpPr/>
          <p:nvPr/>
        </p:nvSpPr>
        <p:spPr>
          <a:xfrm>
            <a:off x="3505320" y="762120"/>
            <a:ext cx="5181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scriba un anuncio radial de 30 segundos describiendo los valores apropiados de una clase que Dios usa para transformar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295280" y="966960"/>
            <a:ext cx="6515280" cy="48085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304920" y="304920"/>
            <a:ext cx="5867280" cy="642600"/>
          </a:xfrm>
          <a:prstGeom prst="rect">
            <a:avLst/>
          </a:prstGeom>
          <a:solidFill>
            <a:srgbClr val="b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iderazgo vibr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Oval 5"/>
          <p:cNvGrpSpPr/>
          <p:nvPr/>
        </p:nvGrpSpPr>
        <p:grpSpPr>
          <a:xfrm>
            <a:off x="6583320" y="2925720"/>
            <a:ext cx="1481040" cy="1401840"/>
            <a:chOff x="6583320" y="2925720"/>
            <a:chExt cx="1481040" cy="1401840"/>
          </a:xfrm>
        </p:grpSpPr>
        <p:pic>
          <p:nvPicPr>
            <p:cNvPr id="251" name="Oval 5" descr=""/>
            <p:cNvPicPr/>
            <p:nvPr/>
          </p:nvPicPr>
          <p:blipFill>
            <a:blip r:embed="rId2"/>
            <a:stretch/>
          </p:blipFill>
          <p:spPr>
            <a:xfrm>
              <a:off x="6583320" y="2925720"/>
              <a:ext cx="14810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784920" y="3116160"/>
              <a:ext cx="75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Box 7"/>
          <p:cNvSpPr/>
          <p:nvPr/>
        </p:nvSpPr>
        <p:spPr>
          <a:xfrm>
            <a:off x="662940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b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7"/>
          <p:cNvSpPr/>
          <p:nvPr/>
        </p:nvSpPr>
        <p:spPr>
          <a:xfrm>
            <a:off x="662940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b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2133720" y="399960"/>
            <a:ext cx="5715000" cy="59324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8"/>
          <p:cNvSpPr/>
          <p:nvPr/>
        </p:nvSpPr>
        <p:spPr>
          <a:xfrm>
            <a:off x="1981080" y="30492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137160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acuerdo con Romanos 12.2, enumere cinco características que usted considera que debe tener una clase que Dios usa para transform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ubtitle 3"/>
          <p:cNvSpPr/>
          <p:nvPr/>
        </p:nvSpPr>
        <p:spPr>
          <a:xfrm>
            <a:off x="304920" y="32767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Arial"/>
                <a:ea typeface="Arial"/>
              </a:rPr>
              <a:t>¿Qué sucedería en su iglesia si Dios usara cada clase de la Escuela Dominical para transform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4"/>
          <p:cNvSpPr/>
          <p:nvPr/>
        </p:nvSpPr>
        <p:spPr>
          <a:xfrm>
            <a:off x="7620120" y="5638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228600" y="304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2 Principios cl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C813-1AC6-4264-AF8D-C0854B626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50"/>
                </a:solidFill>
                <a:latin typeface="Arial"/>
                <a:ea typeface="Arial"/>
              </a:rPr>
              <a:t>Los groups </a:t>
            </a:r>
            <a:r>
              <a:rPr b="1" lang="en-US" sz="6600" spc="-1" strike="noStrike">
                <a:solidFill>
                  <a:srgbClr val="7030a0"/>
                </a:solidFill>
                <a:latin typeface="Arial"/>
                <a:ea typeface="Arial"/>
              </a:rPr>
              <a:t>abiertos </a:t>
            </a:r>
            <a:r>
              <a:rPr b="1" lang="en-US" sz="6600" spc="-1" strike="noStrike">
                <a:solidFill>
                  <a:srgbClr val="00b050"/>
                </a:solidFill>
                <a:latin typeface="Arial"/>
                <a:ea typeface="Arial"/>
              </a:rPr>
              <a:t>practican la matrícula </a:t>
            </a:r>
            <a:r>
              <a:rPr b="1" lang="en-US" sz="6600" spc="-1" strike="noStrike">
                <a:solidFill>
                  <a:srgbClr val="7030a0"/>
                </a:solidFill>
                <a:latin typeface="Arial"/>
                <a:ea typeface="Arial"/>
              </a:rPr>
              <a:t>abierta</a:t>
            </a:r>
            <a:r>
              <a:rPr b="1" lang="en-US" sz="6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4"/>
          <p:cNvSpPr/>
          <p:nvPr/>
        </p:nvSpPr>
        <p:spPr>
          <a:xfrm>
            <a:off x="7772400" y="5638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28600" y="304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2 Principios cl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26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FF4D-12CE-46B5-9B0E-E2CFBDA1A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4"/>
          <p:cNvSpPr/>
          <p:nvPr/>
        </p:nvSpPr>
        <p:spPr>
          <a:xfrm>
            <a:off x="457200" y="3808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alibri"/>
              </a:rPr>
              <a:t>Los grupos de discipu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685800" y="228600"/>
            <a:ext cx="845820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son típicamen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206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de término corto con un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206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alto grado de responsabilidad en la preparación y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206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de un curso de estudio que involucra contenido bíblico más profundo que la clase típica de la Escuela Dominic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7772400" y="5638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4"/>
          <p:cNvSpPr/>
          <p:nvPr/>
        </p:nvSpPr>
        <p:spPr>
          <a:xfrm>
            <a:off x="914400" y="6094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Una meta común del ministerio de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grupo pequeño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es desarrollar una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comunidad bíblica profunda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 entre un grupo de creyentes y algunos que todavía no son creyentes pero desean llevar una “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vida de compañerismo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” en un ambiente de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confianza redentora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7696080" y="5638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Los grupos </a:t>
            </a:r>
            <a:r>
              <a:rPr b="1" lang="en-US" sz="6000" spc="-1" strike="noStrike">
                <a:solidFill>
                  <a:srgbClr val="7030a0"/>
                </a:solidFill>
                <a:latin typeface="Arial"/>
                <a:ea typeface="Arial"/>
              </a:rPr>
              <a:t>abiertos 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esperan </a:t>
            </a:r>
            <a:r>
              <a:rPr b="1" lang="en-US" sz="6000" spc="-1" strike="noStrike">
                <a:solidFill>
                  <a:srgbClr val="7030a0"/>
                </a:solidFill>
                <a:latin typeface="Arial"/>
                <a:ea typeface="Arial"/>
              </a:rPr>
              <a:t>nuevas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 personas </a:t>
            </a:r>
            <a:br>
              <a:rPr sz="6000"/>
            </a:br>
            <a:r>
              <a:rPr b="1" lang="en-US" sz="6000" spc="-1" strike="noStrike">
                <a:solidFill>
                  <a:srgbClr val="7030a0"/>
                </a:solidFill>
                <a:latin typeface="Arial"/>
                <a:ea typeface="Arial"/>
              </a:rPr>
              <a:t>cada 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seman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7772400" y="5638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28600" y="304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2 Principios cl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4943-9F9E-4B60-A3BA-02289E9DE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352320" y="152280"/>
            <a:ext cx="4876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El aula se arregla pensando en los recién lleg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Las etiquetas de identificación se usan constantem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Cada lección es una experiencia completa y satisfactoria de estudio bíbl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7772400" y="5638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itle 13"/>
          <p:cNvSpPr/>
          <p:nvPr/>
        </p:nvSpPr>
        <p:spPr>
          <a:xfrm>
            <a:off x="152280" y="228600"/>
            <a:ext cx="2971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Arial"/>
                <a:ea typeface="Arial"/>
              </a:rPr>
              <a:t>Los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abiertos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  <a:ea typeface="Arial"/>
              </a:rPr>
              <a:t> esperan 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nuevas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  <a:ea typeface="Arial"/>
              </a:rPr>
              <a:t> personas 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cada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  <a:ea typeface="Arial"/>
              </a:rPr>
              <a:t> se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2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0DB-D938-4246-843C-003BD8FD0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5"/>
          <p:cNvSpPr/>
          <p:nvPr/>
        </p:nvSpPr>
        <p:spPr>
          <a:xfrm>
            <a:off x="76960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ágina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Arial"/>
                <a:ea typeface="Arial"/>
              </a:rPr>
              <a:t>Matrícula abier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1752480" y="1752480"/>
            <a:ext cx="5791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USTED PUEDE PERTENECER AL GRUP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ANTES DE CRE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92B3-9A39-4F38-AF1D-1318AA206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¿Qué es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ley irreducible del crecimiento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el Rei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itle 4"/>
          <p:cNvSpPr/>
          <p:nvPr/>
        </p:nvSpPr>
        <p:spPr>
          <a:xfrm>
            <a:off x="838080" y="2286000"/>
            <a:ext cx="7391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  <a:ea typeface="Arial"/>
              </a:rPr>
              <a:t>Comenzar nuevas unidad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tle 4"/>
          <p:cNvSpPr/>
          <p:nvPr/>
        </p:nvSpPr>
        <p:spPr>
          <a:xfrm>
            <a:off x="68580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0253f"/>
                </a:solidFill>
                <a:latin typeface="Arial"/>
                <a:ea typeface="Arial"/>
              </a:rPr>
              <a:t>¿Por qué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9"/>
          <p:cNvSpPr/>
          <p:nvPr/>
        </p:nvSpPr>
        <p:spPr>
          <a:xfrm>
            <a:off x="76960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ágina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514920" cy="48085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304920" y="304920"/>
            <a:ext cx="7619760" cy="642600"/>
          </a:xfrm>
          <a:prstGeom prst="rect">
            <a:avLst/>
          </a:prstGeom>
          <a:solidFill>
            <a:srgbClr val="b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Intencionalidad en las rel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Oval 5"/>
          <p:cNvGrpSpPr/>
          <p:nvPr/>
        </p:nvGrpSpPr>
        <p:grpSpPr>
          <a:xfrm>
            <a:off x="4979880" y="2773440"/>
            <a:ext cx="1560600" cy="1481040"/>
            <a:chOff x="4979880" y="2773440"/>
            <a:chExt cx="1560600" cy="1481040"/>
          </a:xfrm>
        </p:grpSpPr>
        <p:pic>
          <p:nvPicPr>
            <p:cNvPr id="304" name="Oval 5" descr=""/>
            <p:cNvPicPr/>
            <p:nvPr/>
          </p:nvPicPr>
          <p:blipFill>
            <a:blip r:embed="rId3"/>
            <a:stretch/>
          </p:blipFill>
          <p:spPr>
            <a:xfrm>
              <a:off x="4979880" y="2773440"/>
              <a:ext cx="15606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5195880" y="2975040"/>
              <a:ext cx="809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Box 7"/>
          <p:cNvSpPr/>
          <p:nvPr/>
        </p:nvSpPr>
        <p:spPr>
          <a:xfrm>
            <a:off x="4876920" y="3048120"/>
            <a:ext cx="1447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Intencionalid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en las rela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27"/>
          <p:cNvSpPr/>
          <p:nvPr/>
        </p:nvSpPr>
        <p:spPr>
          <a:xfrm>
            <a:off x="76960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ágina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En las iglesias que Dios usa para transformar los grupos tenían “un propósito” y principalmente se enfocaban en cada perso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304920" y="304920"/>
            <a:ext cx="7619760" cy="642600"/>
          </a:xfrm>
          <a:prstGeom prst="rect">
            <a:avLst/>
          </a:prstGeom>
          <a:solidFill>
            <a:srgbClr val="b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Intencionalidad en las rel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31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CAE3-D885-4113-9A5A-438B705D0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En las iglesias que Dios usa para transformar (y clases)</a:t>
            </a:r>
            <a:r>
              <a:rPr b="1" lang="en-US" sz="36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encontramos los principios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9036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que transforman a las personas para que sea más semejantes a Crist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congregaciones que funcionan como el cuerpo de Cristo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comunidades que reflejan el Reino de D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79246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7"/>
          <p:cNvSpPr/>
          <p:nvPr/>
        </p:nvSpPr>
        <p:spPr>
          <a:xfrm>
            <a:off x="662940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b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0" y="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380880" y="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5 grupos tí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920                   1980                     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6320" y="990720"/>
          <a:ext cx="9067680" cy="4922640"/>
        </p:xfrm>
        <a:graphic>
          <a:graphicData uri="http://schemas.openxmlformats.org/drawingml/2006/table">
            <a:tbl>
              <a:tblPr/>
              <a:tblGrid>
                <a:gridCol w="533160"/>
                <a:gridCol w="2895840"/>
                <a:gridCol w="2766960"/>
                <a:gridCol w="2871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ED / Grup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  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 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Straight Connector 15"/>
          <p:cNvSpPr/>
          <p:nvPr/>
        </p:nvSpPr>
        <p:spPr>
          <a:xfrm>
            <a:off x="60948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9"/>
          <p:cNvSpPr/>
          <p:nvPr/>
        </p:nvSpPr>
        <p:spPr>
          <a:xfrm>
            <a:off x="35053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0"/>
          <p:cNvSpPr/>
          <p:nvPr/>
        </p:nvSpPr>
        <p:spPr>
          <a:xfrm>
            <a:off x="62485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21"/>
          <p:cNvSpPr/>
          <p:nvPr/>
        </p:nvSpPr>
        <p:spPr>
          <a:xfrm flipH="1">
            <a:off x="0" y="18288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4"/>
          <p:cNvSpPr/>
          <p:nvPr/>
        </p:nvSpPr>
        <p:spPr>
          <a:xfrm flipH="1">
            <a:off x="0" y="281952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5"/>
          <p:cNvSpPr/>
          <p:nvPr/>
        </p:nvSpPr>
        <p:spPr>
          <a:xfrm flipH="1">
            <a:off x="0" y="38862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26"/>
          <p:cNvSpPr/>
          <p:nvPr/>
        </p:nvSpPr>
        <p:spPr>
          <a:xfrm flipH="1">
            <a:off x="0" y="4724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27"/>
          <p:cNvSpPr/>
          <p:nvPr/>
        </p:nvSpPr>
        <p:spPr>
          <a:xfrm flipH="1">
            <a:off x="0" y="5867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7"/>
          <p:cNvSpPr/>
          <p:nvPr/>
        </p:nvSpPr>
        <p:spPr>
          <a:xfrm>
            <a:off x="662940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b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9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0" y="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380880" y="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5 grupos tí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920                   1980                     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6320" y="990720"/>
          <a:ext cx="9067680" cy="4922640"/>
        </p:xfrm>
        <a:graphic>
          <a:graphicData uri="http://schemas.openxmlformats.org/drawingml/2006/table">
            <a:tbl>
              <a:tblPr/>
              <a:tblGrid>
                <a:gridCol w="533160"/>
                <a:gridCol w="2895840"/>
                <a:gridCol w="2766960"/>
                <a:gridCol w="2871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ED / Grup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  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 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Straight Connector 15"/>
          <p:cNvSpPr/>
          <p:nvPr/>
        </p:nvSpPr>
        <p:spPr>
          <a:xfrm>
            <a:off x="60948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19"/>
          <p:cNvSpPr/>
          <p:nvPr/>
        </p:nvSpPr>
        <p:spPr>
          <a:xfrm>
            <a:off x="35053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0"/>
          <p:cNvSpPr/>
          <p:nvPr/>
        </p:nvSpPr>
        <p:spPr>
          <a:xfrm>
            <a:off x="62485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1"/>
          <p:cNvSpPr/>
          <p:nvPr/>
        </p:nvSpPr>
        <p:spPr>
          <a:xfrm flipH="1">
            <a:off x="0" y="18288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24"/>
          <p:cNvSpPr/>
          <p:nvPr/>
        </p:nvSpPr>
        <p:spPr>
          <a:xfrm flipH="1">
            <a:off x="0" y="281952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25"/>
          <p:cNvSpPr/>
          <p:nvPr/>
        </p:nvSpPr>
        <p:spPr>
          <a:xfrm flipH="1">
            <a:off x="0" y="38862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6"/>
          <p:cNvSpPr/>
          <p:nvPr/>
        </p:nvSpPr>
        <p:spPr>
          <a:xfrm flipH="1">
            <a:off x="0" y="4724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27"/>
          <p:cNvSpPr/>
          <p:nvPr/>
        </p:nvSpPr>
        <p:spPr>
          <a:xfrm flipH="1">
            <a:off x="0" y="5867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7"/>
          <p:cNvSpPr/>
          <p:nvPr/>
        </p:nvSpPr>
        <p:spPr>
          <a:xfrm>
            <a:off x="662940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b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0" y="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380880" y="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5 grupos tí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920                   1980                     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76320" y="990720"/>
          <a:ext cx="9067680" cy="4860720"/>
        </p:xfrm>
        <a:graphic>
          <a:graphicData uri="http://schemas.openxmlformats.org/drawingml/2006/table">
            <a:tbl>
              <a:tblPr/>
              <a:tblGrid>
                <a:gridCol w="533160"/>
                <a:gridCol w="2895840"/>
                <a:gridCol w="2766960"/>
                <a:gridCol w="2871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ED / Grup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  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 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Straight Connector 15"/>
          <p:cNvSpPr/>
          <p:nvPr/>
        </p:nvSpPr>
        <p:spPr>
          <a:xfrm>
            <a:off x="60948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053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1"/>
          <p:cNvSpPr/>
          <p:nvPr/>
        </p:nvSpPr>
        <p:spPr>
          <a:xfrm flipH="1">
            <a:off x="0" y="18288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4"/>
          <p:cNvSpPr/>
          <p:nvPr/>
        </p:nvSpPr>
        <p:spPr>
          <a:xfrm flipH="1">
            <a:off x="0" y="28954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25"/>
          <p:cNvSpPr/>
          <p:nvPr/>
        </p:nvSpPr>
        <p:spPr>
          <a:xfrm flipH="1">
            <a:off x="0" y="38862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6"/>
          <p:cNvSpPr/>
          <p:nvPr/>
        </p:nvSpPr>
        <p:spPr>
          <a:xfrm flipH="1">
            <a:off x="0" y="4724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27"/>
          <p:cNvSpPr/>
          <p:nvPr/>
        </p:nvSpPr>
        <p:spPr>
          <a:xfrm flipH="1">
            <a:off x="0" y="5867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7"/>
          <p:cNvSpPr/>
          <p:nvPr/>
        </p:nvSpPr>
        <p:spPr>
          <a:xfrm>
            <a:off x="662940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b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0" y="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1"/>
          <p:cNvSpPr/>
          <p:nvPr/>
        </p:nvSpPr>
        <p:spPr>
          <a:xfrm>
            <a:off x="380880" y="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5 grupos tí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920                   1980                     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76320" y="990720"/>
          <a:ext cx="9067680" cy="4922640"/>
        </p:xfrm>
        <a:graphic>
          <a:graphicData uri="http://schemas.openxmlformats.org/drawingml/2006/table">
            <a:tbl>
              <a:tblPr/>
              <a:tblGrid>
                <a:gridCol w="533160"/>
                <a:gridCol w="2895840"/>
                <a:gridCol w="2766960"/>
                <a:gridCol w="2871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ED / Grup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  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 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Straight Connector 15"/>
          <p:cNvSpPr/>
          <p:nvPr/>
        </p:nvSpPr>
        <p:spPr>
          <a:xfrm>
            <a:off x="60948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9"/>
          <p:cNvSpPr/>
          <p:nvPr/>
        </p:nvSpPr>
        <p:spPr>
          <a:xfrm>
            <a:off x="35053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20"/>
          <p:cNvSpPr/>
          <p:nvPr/>
        </p:nvSpPr>
        <p:spPr>
          <a:xfrm>
            <a:off x="62485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21"/>
          <p:cNvSpPr/>
          <p:nvPr/>
        </p:nvSpPr>
        <p:spPr>
          <a:xfrm flipH="1">
            <a:off x="0" y="18288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24"/>
          <p:cNvSpPr/>
          <p:nvPr/>
        </p:nvSpPr>
        <p:spPr>
          <a:xfrm flipH="1">
            <a:off x="0" y="28954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25"/>
          <p:cNvSpPr/>
          <p:nvPr/>
        </p:nvSpPr>
        <p:spPr>
          <a:xfrm flipH="1">
            <a:off x="0" y="38862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6"/>
          <p:cNvSpPr/>
          <p:nvPr/>
        </p:nvSpPr>
        <p:spPr>
          <a:xfrm flipH="1">
            <a:off x="0" y="4724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7"/>
          <p:cNvSpPr/>
          <p:nvPr/>
        </p:nvSpPr>
        <p:spPr>
          <a:xfrm flipH="1">
            <a:off x="0" y="5867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7"/>
          <p:cNvSpPr/>
          <p:nvPr/>
        </p:nvSpPr>
        <p:spPr>
          <a:xfrm>
            <a:off x="662940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b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0"/>
          <p:cNvSpPr/>
          <p:nvPr/>
        </p:nvSpPr>
        <p:spPr>
          <a:xfrm>
            <a:off x="0" y="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380880" y="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5 grupos tí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920                   1980                     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76320" y="990720"/>
          <a:ext cx="9067680" cy="4922640"/>
        </p:xfrm>
        <a:graphic>
          <a:graphicData uri="http://schemas.openxmlformats.org/drawingml/2006/table">
            <a:tbl>
              <a:tblPr/>
              <a:tblGrid>
                <a:gridCol w="533160"/>
                <a:gridCol w="2895840"/>
                <a:gridCol w="2766960"/>
                <a:gridCol w="2871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ED / Grup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  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 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Straight Connector 15"/>
          <p:cNvSpPr/>
          <p:nvPr/>
        </p:nvSpPr>
        <p:spPr>
          <a:xfrm>
            <a:off x="60948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9"/>
          <p:cNvSpPr/>
          <p:nvPr/>
        </p:nvSpPr>
        <p:spPr>
          <a:xfrm>
            <a:off x="35053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20"/>
          <p:cNvSpPr/>
          <p:nvPr/>
        </p:nvSpPr>
        <p:spPr>
          <a:xfrm>
            <a:off x="62485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1"/>
          <p:cNvSpPr/>
          <p:nvPr/>
        </p:nvSpPr>
        <p:spPr>
          <a:xfrm flipH="1">
            <a:off x="0" y="18288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24"/>
          <p:cNvSpPr/>
          <p:nvPr/>
        </p:nvSpPr>
        <p:spPr>
          <a:xfrm flipH="1">
            <a:off x="0" y="281952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5"/>
          <p:cNvSpPr/>
          <p:nvPr/>
        </p:nvSpPr>
        <p:spPr>
          <a:xfrm flipH="1">
            <a:off x="0" y="38862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26"/>
          <p:cNvSpPr/>
          <p:nvPr/>
        </p:nvSpPr>
        <p:spPr>
          <a:xfrm flipH="1">
            <a:off x="0" y="4724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7"/>
          <p:cNvSpPr/>
          <p:nvPr/>
        </p:nvSpPr>
        <p:spPr>
          <a:xfrm flipH="1">
            <a:off x="0" y="5867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384" name="TextBox 7"/>
          <p:cNvSpPr/>
          <p:nvPr/>
        </p:nvSpPr>
        <p:spPr>
          <a:xfrm>
            <a:off x="662940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b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9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0" y="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1"/>
          <p:cNvSpPr/>
          <p:nvPr/>
        </p:nvSpPr>
        <p:spPr>
          <a:xfrm>
            <a:off x="380880" y="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5 grupos tí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920                   1980                     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6320" y="990720"/>
          <a:ext cx="9067680" cy="4922640"/>
        </p:xfrm>
        <a:graphic>
          <a:graphicData uri="http://schemas.openxmlformats.org/drawingml/2006/table">
            <a:tbl>
              <a:tblPr/>
              <a:tblGrid>
                <a:gridCol w="533160"/>
                <a:gridCol w="2895840"/>
                <a:gridCol w="2766960"/>
                <a:gridCol w="2871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ervicio de ad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la Escuela Domi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lase de ED / Grup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  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ministe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discipulado o 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misiones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o de evange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389" name="Straight Connector 15"/>
          <p:cNvSpPr/>
          <p:nvPr/>
        </p:nvSpPr>
        <p:spPr>
          <a:xfrm>
            <a:off x="60948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9"/>
          <p:cNvSpPr/>
          <p:nvPr/>
        </p:nvSpPr>
        <p:spPr>
          <a:xfrm>
            <a:off x="35053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20"/>
          <p:cNvSpPr/>
          <p:nvPr/>
        </p:nvSpPr>
        <p:spPr>
          <a:xfrm>
            <a:off x="6248520" y="990720"/>
            <a:ext cx="0" cy="48765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21"/>
          <p:cNvSpPr/>
          <p:nvPr/>
        </p:nvSpPr>
        <p:spPr>
          <a:xfrm flipH="1">
            <a:off x="0" y="18288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24"/>
          <p:cNvSpPr/>
          <p:nvPr/>
        </p:nvSpPr>
        <p:spPr>
          <a:xfrm flipH="1">
            <a:off x="0" y="281952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5"/>
          <p:cNvSpPr/>
          <p:nvPr/>
        </p:nvSpPr>
        <p:spPr>
          <a:xfrm flipH="1">
            <a:off x="0" y="388620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26"/>
          <p:cNvSpPr/>
          <p:nvPr/>
        </p:nvSpPr>
        <p:spPr>
          <a:xfrm flipH="1">
            <a:off x="0" y="4724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27"/>
          <p:cNvSpPr/>
          <p:nvPr/>
        </p:nvSpPr>
        <p:spPr>
          <a:xfrm flipH="1">
            <a:off x="0" y="58672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Arial"/>
                <a:ea typeface="Arial"/>
              </a:rPr>
              <a:t>¿Cuál es el “segundo paso” después de la adoració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itle 4"/>
          <p:cNvSpPr/>
          <p:nvPr/>
        </p:nvSpPr>
        <p:spPr>
          <a:xfrm>
            <a:off x="0" y="3733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El 87.5% tenían la Escuela Dominical (o su equivalente) como el “segundo paso” de su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Arial"/>
                <a:ea typeface="Arial"/>
              </a:rPr>
              <a:t>(iglesias que habían crecido por lo menos un 5% durante 3 años consecu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380880" y="228600"/>
            <a:ext cx="8534520" cy="703440"/>
          </a:xfrm>
          <a:prstGeom prst="rect">
            <a:avLst/>
          </a:prstGeom>
          <a:solidFill>
            <a:srgbClr val="b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tencionalidad en las rel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76960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ágina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40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05FF-FB79-4DE9-ACAD-CF4B192A5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54061"/>
                </a:solidFill>
                <a:latin typeface="Arial"/>
                <a:ea typeface="Arial"/>
              </a:rPr>
              <a:t>Los líderes de los grupos de cuidado modelan la intencionalidad en las relacion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1905120" y="6396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ágina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8"/>
          <p:cNvGrpSpPr/>
          <p:nvPr/>
        </p:nvGrpSpPr>
        <p:grpSpPr>
          <a:xfrm>
            <a:off x="6248520" y="304920"/>
            <a:ext cx="2590560" cy="5790960"/>
            <a:chOff x="6248520" y="304920"/>
            <a:chExt cx="2590560" cy="5790960"/>
          </a:xfrm>
        </p:grpSpPr>
        <p:sp>
          <p:nvSpPr>
            <p:cNvPr id="407" name="Down Arrow 7"/>
            <p:cNvSpPr/>
            <p:nvPr/>
          </p:nvSpPr>
          <p:spPr>
            <a:xfrm>
              <a:off x="6988320" y="2301840"/>
              <a:ext cx="1036440" cy="1663560"/>
            </a:xfrm>
            <a:prstGeom prst="downArrow">
              <a:avLst>
                <a:gd name="adj1" fmla="val 50000"/>
                <a:gd name="adj2" fmla="val 44964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Smiley Face 5"/>
            <p:cNvSpPr/>
            <p:nvPr/>
          </p:nvSpPr>
          <p:spPr>
            <a:xfrm>
              <a:off x="6248520" y="304920"/>
              <a:ext cx="2516040" cy="21301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miley Face 6"/>
            <p:cNvSpPr/>
            <p:nvPr/>
          </p:nvSpPr>
          <p:spPr>
            <a:xfrm>
              <a:off x="6323040" y="3965760"/>
              <a:ext cx="2516040" cy="21301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41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4C98-0DD2-4775-93EF-752DD2043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9520" y="380880"/>
            <a:ext cx="533412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Arial"/>
                <a:ea typeface="Arial"/>
              </a:rPr>
              <a:t>Comunicarse </a:t>
            </a:r>
            <a:r>
              <a:rPr b="1" i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cada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en-US" sz="6000" spc="-1" strike="noStrike">
                <a:solidFill>
                  <a:srgbClr val="7030a0"/>
                </a:solidFill>
                <a:latin typeface="Arial"/>
                <a:ea typeface="Arial"/>
              </a:rPr>
              <a:t>semana 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con cada</a:t>
            </a:r>
            <a:r>
              <a:rPr b="1" lang="en-US" sz="6000" spc="-1" strike="noStrike">
                <a:solidFill>
                  <a:srgbClr val="7030a0"/>
                </a:solidFill>
                <a:latin typeface="Arial"/>
                <a:ea typeface="Arial"/>
              </a:rPr>
              <a:t> miembro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6960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ágina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5"/>
          <p:cNvGrpSpPr/>
          <p:nvPr/>
        </p:nvGrpSpPr>
        <p:grpSpPr>
          <a:xfrm>
            <a:off x="685800" y="152280"/>
            <a:ext cx="2666880" cy="6629400"/>
            <a:chOff x="685800" y="152280"/>
            <a:chExt cx="2666880" cy="6629400"/>
          </a:xfrm>
        </p:grpSpPr>
        <p:sp>
          <p:nvSpPr>
            <p:cNvPr id="415" name="Down Arrow 6"/>
            <p:cNvSpPr/>
            <p:nvPr/>
          </p:nvSpPr>
          <p:spPr>
            <a:xfrm>
              <a:off x="1447560" y="2438280"/>
              <a:ext cx="1066680" cy="1904760"/>
            </a:xfrm>
            <a:prstGeom prst="downArrow">
              <a:avLst>
                <a:gd name="adj1" fmla="val 50000"/>
                <a:gd name="adj2" fmla="val 49999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miley Face 7"/>
            <p:cNvSpPr/>
            <p:nvPr/>
          </p:nvSpPr>
          <p:spPr>
            <a:xfrm>
              <a:off x="685800" y="152280"/>
              <a:ext cx="2590920" cy="24382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miley Face 8"/>
            <p:cNvSpPr/>
            <p:nvPr/>
          </p:nvSpPr>
          <p:spPr>
            <a:xfrm>
              <a:off x="761760" y="4343400"/>
              <a:ext cx="2590920" cy="24382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514920" cy="48085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4"/>
          <p:cNvSpPr/>
          <p:nvPr/>
        </p:nvSpPr>
        <p:spPr>
          <a:xfrm>
            <a:off x="304920" y="304920"/>
            <a:ext cx="7619760" cy="642600"/>
          </a:xfrm>
          <a:prstGeom prst="rect">
            <a:avLst/>
          </a:prstGeom>
          <a:solidFill>
            <a:srgbClr val="b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ependencia en la o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Oval 5"/>
          <p:cNvGrpSpPr/>
          <p:nvPr/>
        </p:nvGrpSpPr>
        <p:grpSpPr>
          <a:xfrm>
            <a:off x="5059440" y="4602240"/>
            <a:ext cx="1554120" cy="1481040"/>
            <a:chOff x="5059440" y="4602240"/>
            <a:chExt cx="1554120" cy="1481040"/>
          </a:xfrm>
        </p:grpSpPr>
        <p:pic>
          <p:nvPicPr>
            <p:cNvPr id="423" name="Oval 5" descr=""/>
            <p:cNvPicPr/>
            <p:nvPr/>
          </p:nvPicPr>
          <p:blipFill>
            <a:blip r:embed="rId3"/>
            <a:stretch/>
          </p:blipFill>
          <p:spPr>
            <a:xfrm>
              <a:off x="5059440" y="4602240"/>
              <a:ext cx="15541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5272200" y="4803840"/>
              <a:ext cx="809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Box 7"/>
          <p:cNvSpPr/>
          <p:nvPr/>
        </p:nvSpPr>
        <p:spPr>
          <a:xfrm>
            <a:off x="5105520" y="495288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Dependencia en la or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09520" y="76320"/>
            <a:ext cx="8363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520" y="159984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54061"/>
                </a:solidFill>
                <a:latin typeface="Arial"/>
                <a:ea typeface="Arial"/>
              </a:rPr>
              <a:t>La oración es el combustible que mueve a las iglesias que Dios usa para transformar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76960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ágina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380880" y="228600"/>
            <a:ext cx="6934320" cy="703440"/>
          </a:xfrm>
          <a:prstGeom prst="rect">
            <a:avLst/>
          </a:prstGeom>
          <a:solidFill>
            <a:srgbClr val="b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ependencia en la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54061"/>
                </a:solidFill>
                <a:latin typeface="Arial"/>
                <a:ea typeface="Arial"/>
              </a:rPr>
              <a:t>¿Cómo puede la oración ser el “combustible” de lo que suced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00000"/>
                </a:solidFill>
                <a:latin typeface="Arial"/>
                <a:ea typeface="Arial"/>
              </a:rPr>
              <a:t>Antes</a:t>
            </a:r>
            <a:br>
              <a:rPr sz="5400"/>
            </a:br>
            <a:r>
              <a:rPr b="1" lang="en-US" sz="5400" spc="-1" strike="noStrike">
                <a:solidFill>
                  <a:srgbClr val="b00000"/>
                </a:solidFill>
                <a:latin typeface="Arial"/>
                <a:ea typeface="Arial"/>
              </a:rPr>
              <a:t>durante y</a:t>
            </a:r>
            <a:br>
              <a:rPr sz="5400"/>
            </a:br>
            <a:r>
              <a:rPr b="1" lang="en-US" sz="5400" spc="-1" strike="noStrike">
                <a:solidFill>
                  <a:srgbClr val="b00000"/>
                </a:solidFill>
                <a:latin typeface="Arial"/>
                <a:ea typeface="Arial"/>
              </a:rPr>
              <a:t>al final d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itle 2"/>
          <p:cNvSpPr/>
          <p:nvPr/>
        </p:nvSpPr>
        <p:spPr>
          <a:xfrm>
            <a:off x="685800" y="4800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4061"/>
                </a:solidFill>
                <a:latin typeface="Arial"/>
                <a:ea typeface="Arial"/>
              </a:rPr>
              <a:t>la cla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7238880" y="5638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s 25-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dmccrar\Desktop\TCGoes2SS_Bkgs\Slide19.JPG"/>
          <p:cNvPicPr/>
          <p:nvPr/>
        </p:nvPicPr>
        <p:blipFill>
          <a:blip r:embed="rId1"/>
          <a:srcRect l="0" t="0" r="64169" b="0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¿Cómo son las peticiones 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de oración el mejor 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indicador de una clase que Dios usa para transfor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2971800" y="2666520"/>
            <a:ext cx="5943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Arial"/>
                <a:ea typeface="Arial"/>
              </a:rPr>
              <a:t>al nivel cla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Arial"/>
                <a:ea typeface="Arial"/>
              </a:rPr>
              <a:t>al nivel comunida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Arial"/>
                <a:ea typeface="Arial"/>
              </a:rPr>
              <a:t>al nivel comisió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5"/>
          <p:cNvSpPr/>
          <p:nvPr/>
        </p:nvSpPr>
        <p:spPr>
          <a:xfrm>
            <a:off x="7772400" y="5791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443" name="Oval 6"/>
          <p:cNvSpPr/>
          <p:nvPr/>
        </p:nvSpPr>
        <p:spPr>
          <a:xfrm>
            <a:off x="1143000" y="3048120"/>
            <a:ext cx="2590920" cy="2286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8"/>
          <p:cNvSpPr/>
          <p:nvPr/>
        </p:nvSpPr>
        <p:spPr>
          <a:xfrm>
            <a:off x="3429000" y="609480"/>
            <a:ext cx="2590920" cy="2286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9"/>
          <p:cNvSpPr/>
          <p:nvPr/>
        </p:nvSpPr>
        <p:spPr>
          <a:xfrm>
            <a:off x="5715000" y="3276720"/>
            <a:ext cx="2590920" cy="2286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3352680" y="1120680"/>
            <a:ext cx="266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a50021"/>
                </a:solidFill>
                <a:latin typeface="Arial"/>
              </a:rPr>
              <a:t>Discer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on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5715000" y="3581280"/>
            <a:ext cx="2666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a50021"/>
                </a:solidFill>
                <a:latin typeface="Arial"/>
              </a:rPr>
              <a:t>Abra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alores aprop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1143000" y="3429000"/>
            <a:ext cx="266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a50021"/>
                </a:solidFill>
                <a:latin typeface="Arial"/>
              </a:rPr>
              <a:t>Involuc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práctica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514920" cy="4808520"/>
          </a:xfrm>
          <a:prstGeom prst="rect">
            <a:avLst/>
          </a:prstGeom>
          <a:ln w="0">
            <a:noFill/>
          </a:ln>
        </p:spPr>
      </p:pic>
      <p:sp>
        <p:nvSpPr>
          <p:cNvPr id="451" name="TextBox 4"/>
          <p:cNvSpPr/>
          <p:nvPr/>
        </p:nvSpPr>
        <p:spPr>
          <a:xfrm>
            <a:off x="304920" y="304920"/>
            <a:ext cx="7619760" cy="642600"/>
          </a:xfrm>
          <a:prstGeom prst="rect">
            <a:avLst/>
          </a:prstGeom>
          <a:solidFill>
            <a:srgbClr val="b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do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Oval 5"/>
          <p:cNvGrpSpPr/>
          <p:nvPr/>
        </p:nvGrpSpPr>
        <p:grpSpPr>
          <a:xfrm>
            <a:off x="1932120" y="2389320"/>
            <a:ext cx="1560240" cy="1481040"/>
            <a:chOff x="1932120" y="2389320"/>
            <a:chExt cx="1560240" cy="1481040"/>
          </a:xfrm>
        </p:grpSpPr>
        <p:pic>
          <p:nvPicPr>
            <p:cNvPr id="453" name="Oval 5" descr=""/>
            <p:cNvPicPr/>
            <p:nvPr/>
          </p:nvPicPr>
          <p:blipFill>
            <a:blip r:embed="rId3"/>
            <a:stretch/>
          </p:blipFill>
          <p:spPr>
            <a:xfrm>
              <a:off x="1932120" y="2389320"/>
              <a:ext cx="15602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147760" y="2593800"/>
              <a:ext cx="809640" cy="7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7"/>
          <p:cNvSpPr/>
          <p:nvPr/>
        </p:nvSpPr>
        <p:spPr>
          <a:xfrm>
            <a:off x="2057400" y="27432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Ador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:\Documents and Settings\dmccrar\Desktop\TCGoes2SS_Bkgs\Slide8.JPG"/>
          <p:cNvPicPr/>
          <p:nvPr/>
        </p:nvPicPr>
        <p:blipFill>
          <a:blip r:embed="rId1"/>
          <a:srcRect l="0" t="66672" r="61669" b="0"/>
          <a:stretch/>
        </p:blipFill>
        <p:spPr>
          <a:xfrm>
            <a:off x="0" y="6013440"/>
            <a:ext cx="1295280" cy="844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dmccrar\Desktop\TCGoes2SS_Bkgs\Slide19.JPG"/>
          <p:cNvPicPr/>
          <p:nvPr/>
        </p:nvPicPr>
        <p:blipFill>
          <a:blip r:embed="rId2"/>
          <a:srcRect l="0" t="0" r="64169" b="0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Content Placeholder 5"/>
          <p:cNvSpPr/>
          <p:nvPr/>
        </p:nvSpPr>
        <p:spPr>
          <a:xfrm>
            <a:off x="1981080" y="4572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4061"/>
                </a:solidFill>
                <a:latin typeface="Arial"/>
                <a:ea typeface="Arial"/>
              </a:rPr>
              <a:t>¿Cómo podemos involucrar a las personas en la ador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4061"/>
                </a:solidFill>
                <a:latin typeface="Arial"/>
                <a:ea typeface="Arial"/>
              </a:rPr>
              <a:t>privad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3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46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816A-4E11-4E44-9DF9-40E11065F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os problemas de la asimilació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Personas fuera de la iglesia que oran para recibir a Cristo pero nunca llegan a la misma para bautizarse y, con frecuencia, ni siquiera a un servicio de ado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Personas que han asistido o se han unido a la iglesia pero nunca avanzan más allá de asistir al servicio de adoración en el proceso de hacer discípul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7772400" y="5638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46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8DC-17A1-4A40-AC94-153D7ED3D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981080"/>
          </a:xfrm>
          <a:prstGeom prst="rect">
            <a:avLst/>
          </a:prstGeom>
          <a:solidFill>
            <a:srgbClr val="b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Una solución probada de asimilación: La Escuela Dominica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– el principio 80/20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De los que solo </a:t>
            </a:r>
            <a:r>
              <a:rPr b="1" i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asistían al servicio de adoración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, menos del </a:t>
            </a: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20%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 siguieron activos 5 años más tar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De los que </a:t>
            </a:r>
            <a:r>
              <a:rPr b="1" i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asistían a la Escuela Dominical y al servicio de adoración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, más del  </a:t>
            </a: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80%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 siguieron activos después de 5 añ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7696080" y="5638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47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FCBA-F1A1-44AD-8A30-0E583783B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C:\Documents and Settings\dmccrar\Desktop\TCGoes2SS_Bkgs\Slide19.JPG"/>
          <p:cNvPicPr/>
          <p:nvPr/>
        </p:nvPicPr>
        <p:blipFill>
          <a:blip r:embed="rId1"/>
          <a:srcRect l="0" t="0" r="64169" b="0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Calibri"/>
              </a:rPr>
              <a:t>La obediencia como ador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742840" y="259092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54061"/>
                </a:solidFill>
                <a:latin typeface="Calibri"/>
              </a:rPr>
              <a:t>Contesta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54061"/>
                </a:solidFill>
                <a:latin typeface="Calibri"/>
              </a:rPr>
              <a:t>“</a:t>
            </a:r>
            <a:r>
              <a:rPr b="1" lang="en-US" sz="6600" spc="-1" strike="noStrike">
                <a:solidFill>
                  <a:srgbClr val="254061"/>
                </a:solidFill>
                <a:latin typeface="Calibri"/>
              </a:rPr>
              <a:t>Entonces, ¿qué?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76960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ágina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47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635-645C-40EC-8600-90C771AEF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5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people.jpg"/>
          <p:cNvPicPr/>
          <p:nvPr/>
        </p:nvPicPr>
        <p:blipFill>
          <a:blip r:embed="rId2"/>
          <a:stretch/>
        </p:blipFill>
        <p:spPr>
          <a:xfrm>
            <a:off x="0" y="2239920"/>
            <a:ext cx="9144000" cy="4618080"/>
          </a:xfrm>
          <a:prstGeom prst="rect">
            <a:avLst/>
          </a:prstGeom>
          <a:ln w="0">
            <a:noFill/>
          </a:ln>
        </p:spPr>
      </p:pic>
      <p:sp>
        <p:nvSpPr>
          <p:cNvPr id="481" name="TextBox 4"/>
          <p:cNvSpPr/>
          <p:nvPr/>
        </p:nvSpPr>
        <p:spPr>
          <a:xfrm>
            <a:off x="1066680" y="457200"/>
            <a:ext cx="72392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Arial"/>
              </a:rPr>
              <a:t>Duración del desarrollo e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Arial"/>
              </a:rPr>
              <a:t>Ser más semejantes a Cristo desde el nacimiento hasta llegar al ci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0580-98C7-4261-A1E4-0AADB0C35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3"/>
          <p:cNvSpPr/>
          <p:nvPr/>
        </p:nvSpPr>
        <p:spPr>
          <a:xfrm>
            <a:off x="2971800" y="2286000"/>
            <a:ext cx="2286000" cy="2133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5715000" y="3886200"/>
            <a:ext cx="2286000" cy="2133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6"/>
          <p:cNvCxnSpPr/>
          <p:nvPr/>
        </p:nvCxnSpPr>
        <p:spPr>
          <a:xfrm flipV="1">
            <a:off x="7620120" y="3428640"/>
            <a:ext cx="381600" cy="4579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1" name="Straight Arrow Connector 7"/>
          <p:cNvCxnSpPr/>
          <p:nvPr/>
        </p:nvCxnSpPr>
        <p:spPr>
          <a:xfrm flipV="1">
            <a:off x="7161840" y="3200040"/>
            <a:ext cx="153000" cy="5342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2" name="Straight Arrow Connector 8"/>
          <p:cNvCxnSpPr/>
          <p:nvPr/>
        </p:nvCxnSpPr>
        <p:spPr>
          <a:xfrm flipH="1" flipV="1">
            <a:off x="6476400" y="3200040"/>
            <a:ext cx="153000" cy="5342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3" name="Straight Arrow Connector 9"/>
          <p:cNvCxnSpPr/>
          <p:nvPr/>
        </p:nvCxnSpPr>
        <p:spPr>
          <a:xfrm flipH="1" flipV="1">
            <a:off x="5714640" y="3580560"/>
            <a:ext cx="381600" cy="38196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4" name="Straight Arrow Connector 10"/>
          <p:cNvCxnSpPr/>
          <p:nvPr/>
        </p:nvCxnSpPr>
        <p:spPr>
          <a:xfrm flipH="1" flipV="1">
            <a:off x="5257440" y="4114080"/>
            <a:ext cx="457920" cy="3056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5" name="Straight Arrow Connector 11"/>
          <p:cNvCxnSpPr/>
          <p:nvPr/>
        </p:nvCxnSpPr>
        <p:spPr>
          <a:xfrm flipH="1" flipV="1">
            <a:off x="4952520" y="4876560"/>
            <a:ext cx="610560" cy="216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6" name="Straight Arrow Connector 12"/>
          <p:cNvCxnSpPr/>
          <p:nvPr/>
        </p:nvCxnSpPr>
        <p:spPr>
          <a:xfrm flipH="1">
            <a:off x="5181120" y="5334120"/>
            <a:ext cx="457920" cy="30528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7" name="Straight Arrow Connector 13"/>
          <p:cNvCxnSpPr/>
          <p:nvPr/>
        </p:nvCxnSpPr>
        <p:spPr>
          <a:xfrm flipH="1">
            <a:off x="5562360" y="5866920"/>
            <a:ext cx="381600" cy="38196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8" name="Straight Arrow Connector 14"/>
          <p:cNvCxnSpPr/>
          <p:nvPr/>
        </p:nvCxnSpPr>
        <p:spPr>
          <a:xfrm flipV="1">
            <a:off x="8001000" y="3962160"/>
            <a:ext cx="534240" cy="30528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9" name="Straight Arrow Connector 15"/>
          <p:cNvCxnSpPr/>
          <p:nvPr/>
        </p:nvCxnSpPr>
        <p:spPr>
          <a:xfrm>
            <a:off x="8229240" y="4876920"/>
            <a:ext cx="610200" cy="216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0" name="Straight Arrow Connector 16"/>
          <p:cNvCxnSpPr/>
          <p:nvPr/>
        </p:nvCxnSpPr>
        <p:spPr>
          <a:xfrm flipH="1">
            <a:off x="6095160" y="6095880"/>
            <a:ext cx="229320" cy="5342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1" name="Straight Arrow Connector 17"/>
          <p:cNvCxnSpPr/>
          <p:nvPr/>
        </p:nvCxnSpPr>
        <p:spPr>
          <a:xfrm flipH="1">
            <a:off x="6856200" y="6173640"/>
            <a:ext cx="3600" cy="5342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2" name="Straight Arrow Connector 18"/>
          <p:cNvCxnSpPr/>
          <p:nvPr/>
        </p:nvCxnSpPr>
        <p:spPr>
          <a:xfrm>
            <a:off x="7390440" y="6095880"/>
            <a:ext cx="229320" cy="5342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3" name="Straight Arrow Connector 19"/>
          <p:cNvCxnSpPr/>
          <p:nvPr/>
        </p:nvCxnSpPr>
        <p:spPr>
          <a:xfrm>
            <a:off x="7848720" y="5867280"/>
            <a:ext cx="457920" cy="4579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4" name="Straight Arrow Connector 20"/>
          <p:cNvCxnSpPr/>
          <p:nvPr/>
        </p:nvCxnSpPr>
        <p:spPr>
          <a:xfrm>
            <a:off x="8229240" y="5486040"/>
            <a:ext cx="610200" cy="2293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65" name="Straight Connector 47"/>
          <p:cNvSpPr/>
          <p:nvPr/>
        </p:nvSpPr>
        <p:spPr>
          <a:xfrm>
            <a:off x="380880" y="914400"/>
            <a:ext cx="243864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48"/>
          <p:cNvSpPr/>
          <p:nvPr/>
        </p:nvSpPr>
        <p:spPr>
          <a:xfrm>
            <a:off x="380880" y="1295280"/>
            <a:ext cx="243864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49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50"/>
          <p:cNvSpPr/>
          <p:nvPr/>
        </p:nvSpPr>
        <p:spPr>
          <a:xfrm>
            <a:off x="380880" y="2057400"/>
            <a:ext cx="243864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52"/>
          <p:cNvSpPr/>
          <p:nvPr/>
        </p:nvSpPr>
        <p:spPr>
          <a:xfrm>
            <a:off x="380880" y="2438280"/>
            <a:ext cx="243864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rved Left Arrow 53"/>
          <p:cNvSpPr/>
          <p:nvPr/>
        </p:nvSpPr>
        <p:spPr>
          <a:xfrm rot="18215400">
            <a:off x="3639240" y="-518760"/>
            <a:ext cx="1435320" cy="2938680"/>
          </a:xfrm>
          <a:custGeom>
            <a:avLst/>
            <a:gdLst>
              <a:gd name="textAreaLeft" fmla="*/ 192240 w 1435320"/>
              <a:gd name="textAreaRight" fmla="*/ 1243080 w 1435320"/>
              <a:gd name="textAreaTop" fmla="*/ 623520 h 2938680"/>
              <a:gd name="textAreaBottom" fmla="*/ 2191680 h 293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66" stAng="-5400000" swAng="5400000"/>
                <a:lnTo>
                  <a:pt x="21600" y="11526"/>
                </a:lnTo>
                <a:arcTo wR="21600" hR="9166" stAng="0" swAng="3437572"/>
                <a:lnTo>
                  <a:pt x="5679" y="21278"/>
                </a:lnTo>
                <a:lnTo>
                  <a:pt x="0" y="19512"/>
                </a:lnTo>
                <a:lnTo>
                  <a:pt x="5679" y="17102"/>
                </a:lnTo>
                <a:lnTo>
                  <a:pt x="5679" y="18010"/>
                </a:lnTo>
                <a:arcTo wR="21600" hR="9166" stAng="3437572" swAng="-3248384"/>
                <a:lnTo>
                  <a:pt x="21420" y="10346"/>
                </a:lnTo>
                <a:arcTo wR="21600" hR="9166" stAng="-189187" swAng="-5210813"/>
                <a:close/>
              </a:path>
              <a:path fill="darkenLess" w="21600" h="21600">
                <a:moveTo>
                  <a:pt x="0" y="0"/>
                </a:moveTo>
                <a:arcTo wR="21600" hR="9166" stAng="-5400000" swAng="5400000"/>
                <a:lnTo>
                  <a:pt x="21600" y="11526"/>
                </a:lnTo>
                <a:arcTo wR="21600" hR="9166" stAng="0" swAng="-189187"/>
                <a:lnTo>
                  <a:pt x="21420" y="10346"/>
                </a:lnTo>
                <a:arcTo wR="21600" hR="9166" stAng="-189187" swAng="-5210813"/>
                <a:close/>
              </a:path>
            </a:pathLst>
          </a:cu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urved Left Arrow 54"/>
          <p:cNvSpPr/>
          <p:nvPr/>
        </p:nvSpPr>
        <p:spPr>
          <a:xfrm flipH="1" rot="18216000">
            <a:off x="3349440" y="4344120"/>
            <a:ext cx="1393560" cy="2938680"/>
          </a:xfrm>
          <a:custGeom>
            <a:avLst/>
            <a:gdLst>
              <a:gd name="textAreaLeft" fmla="*/ 186480 w 1393560"/>
              <a:gd name="textAreaRight" fmla="*/ 1207080 w 1393560"/>
              <a:gd name="textAreaTop" fmla="*/ 626400 h 2938680"/>
              <a:gd name="textAreaBottom" fmla="*/ 2192400 h 293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13" stAng="-5400000" swAng="5400000"/>
                <a:lnTo>
                  <a:pt x="21600" y="11507"/>
                </a:lnTo>
                <a:arcTo wR="21600" hR="9213" stAng="0" swAng="3445473"/>
                <a:lnTo>
                  <a:pt x="5679" y="21276"/>
                </a:lnTo>
                <a:lnTo>
                  <a:pt x="0" y="19572"/>
                </a:lnTo>
                <a:lnTo>
                  <a:pt x="5679" y="17220"/>
                </a:lnTo>
                <a:lnTo>
                  <a:pt x="5679" y="18101"/>
                </a:lnTo>
                <a:arcTo wR="21600" hR="9213" stAng="3445473" swAng="-3261666"/>
                <a:lnTo>
                  <a:pt x="21432" y="10360"/>
                </a:lnTo>
                <a:arcTo wR="21600" hR="9213" stAng="-183807" swAng="-5216193"/>
                <a:close/>
              </a:path>
              <a:path fill="darkenLess" w="21600" h="21600">
                <a:moveTo>
                  <a:pt x="0" y="0"/>
                </a:moveTo>
                <a:arcTo wR="21600" hR="9213" stAng="-5400000" swAng="5400000"/>
                <a:lnTo>
                  <a:pt x="21600" y="11507"/>
                </a:lnTo>
                <a:arcTo wR="21600" hR="9213" stAng="0" swAng="-183807"/>
                <a:lnTo>
                  <a:pt x="21432" y="10360"/>
                </a:lnTo>
                <a:arcTo wR="21600" hR="9213" stAng="-183807" swAng="-5216193"/>
                <a:close/>
              </a:path>
            </a:pathLst>
          </a:cu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56"/>
          <p:cNvCxnSpPr/>
          <p:nvPr/>
        </p:nvCxnSpPr>
        <p:spPr>
          <a:xfrm>
            <a:off x="3961440" y="2590920"/>
            <a:ext cx="76680" cy="4579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73" name="Straight Arrow Connector 59"/>
          <p:cNvCxnSpPr/>
          <p:nvPr/>
        </p:nvCxnSpPr>
        <p:spPr>
          <a:xfrm>
            <a:off x="3478680" y="2760480"/>
            <a:ext cx="407160" cy="36396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74" name="Straight Arrow Connector 60"/>
          <p:cNvCxnSpPr/>
          <p:nvPr/>
        </p:nvCxnSpPr>
        <p:spPr>
          <a:xfrm>
            <a:off x="3352680" y="3123720"/>
            <a:ext cx="457920" cy="2293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75" name="Straight Arrow Connector 61"/>
          <p:cNvCxnSpPr/>
          <p:nvPr/>
        </p:nvCxnSpPr>
        <p:spPr>
          <a:xfrm>
            <a:off x="3276720" y="3505320"/>
            <a:ext cx="457920" cy="216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76" name="Straight Arrow Connector 62"/>
          <p:cNvCxnSpPr/>
          <p:nvPr/>
        </p:nvCxnSpPr>
        <p:spPr>
          <a:xfrm flipH="1">
            <a:off x="4266720" y="2666880"/>
            <a:ext cx="153360" cy="4579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77" name="Straight Arrow Connector 63"/>
          <p:cNvCxnSpPr/>
          <p:nvPr/>
        </p:nvCxnSpPr>
        <p:spPr>
          <a:xfrm flipH="1">
            <a:off x="4494960" y="2894400"/>
            <a:ext cx="381960" cy="3056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78" name="Straight Arrow Connector 64"/>
          <p:cNvCxnSpPr/>
          <p:nvPr/>
        </p:nvCxnSpPr>
        <p:spPr>
          <a:xfrm flipH="1" flipV="1">
            <a:off x="4495320" y="3351960"/>
            <a:ext cx="534240" cy="2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79" name="Straight Arrow Connector 77"/>
          <p:cNvCxnSpPr/>
          <p:nvPr/>
        </p:nvCxnSpPr>
        <p:spPr>
          <a:xfrm flipH="1" flipV="1">
            <a:off x="4343040" y="3580560"/>
            <a:ext cx="457920" cy="3056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80" name="Straight Arrow Connector 78"/>
          <p:cNvCxnSpPr/>
          <p:nvPr/>
        </p:nvCxnSpPr>
        <p:spPr>
          <a:xfrm flipH="1" flipV="1">
            <a:off x="4190400" y="3733560"/>
            <a:ext cx="153000" cy="38160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81" name="Straight Arrow Connector 79"/>
          <p:cNvCxnSpPr/>
          <p:nvPr/>
        </p:nvCxnSpPr>
        <p:spPr>
          <a:xfrm flipV="1">
            <a:off x="3808800" y="3657240"/>
            <a:ext cx="229320" cy="4579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82" name="Straight Arrow Connector 80"/>
          <p:cNvCxnSpPr/>
          <p:nvPr/>
        </p:nvCxnSpPr>
        <p:spPr>
          <a:xfrm flipV="1">
            <a:off x="3505320" y="3580560"/>
            <a:ext cx="305280" cy="38196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84" name="Slide Number Placeholder 3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1C99-3F8C-457E-BD67-E71962BCA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117360" y="1295280"/>
            <a:ext cx="8899560" cy="4114800"/>
          </a:xfrm>
          <a:prstGeom prst="rect">
            <a:avLst/>
          </a:prstGeom>
          <a:ln w="0">
            <a:noFill/>
          </a:ln>
        </p:spPr>
      </p:pic>
      <p:sp>
        <p:nvSpPr>
          <p:cNvPr id="485" name="TextBox 8"/>
          <p:cNvSpPr/>
          <p:nvPr/>
        </p:nvSpPr>
        <p:spPr>
          <a:xfrm>
            <a:off x="609480" y="533520"/>
            <a:ext cx="815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f497d"/>
                </a:solidFill>
                <a:latin typeface="Arial"/>
              </a:rPr>
              <a:t>Duración del desarrollo e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f497d"/>
                </a:solidFill>
                <a:latin typeface="Arial"/>
              </a:rPr>
              <a:t>Ser más semejantes a Cristo desde el nacimiento hasta llegar al ci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7238880" y="56386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Última página del lib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6"/>
          <p:cNvSpPr/>
          <p:nvPr/>
        </p:nvSpPr>
        <p:spPr>
          <a:xfrm>
            <a:off x="7162920" y="5715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s 32-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Content Placeholder 5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54061"/>
                </a:solidFill>
                <a:latin typeface="Arial"/>
                <a:ea typeface="Arial"/>
              </a:rPr>
              <a:t>Conversación &gt; Conversión &gt; Comun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Content Placeholder 5"/>
          <p:cNvSpPr/>
          <p:nvPr/>
        </p:nvSpPr>
        <p:spPr>
          <a:xfrm>
            <a:off x="0" y="3809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54061"/>
                </a:solidFill>
                <a:latin typeface="Arial"/>
                <a:ea typeface="Arial"/>
              </a:rPr>
              <a:t>Conversación &gt; Comunidad &gt; Convers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Content Placeholder 5"/>
          <p:cNvSpPr/>
          <p:nvPr/>
        </p:nvSpPr>
        <p:spPr>
          <a:xfrm>
            <a:off x="0" y="2666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00000"/>
                </a:solidFill>
                <a:latin typeface="Arial"/>
                <a:ea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3"/>
          <p:cNvSpPr/>
          <p:nvPr/>
        </p:nvSpPr>
        <p:spPr>
          <a:xfrm>
            <a:off x="1523880" y="3124080"/>
            <a:ext cx="2514600" cy="0"/>
          </a:xfrm>
          <a:prstGeom prst="line">
            <a:avLst/>
          </a:prstGeom>
          <a:ln w="572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14"/>
          <p:cNvSpPr/>
          <p:nvPr/>
        </p:nvSpPr>
        <p:spPr>
          <a:xfrm>
            <a:off x="5105520" y="3124080"/>
            <a:ext cx="2514600" cy="0"/>
          </a:xfrm>
          <a:prstGeom prst="line">
            <a:avLst/>
          </a:prstGeom>
          <a:ln w="572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49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854C-F31A-4A59-A5DA-D4D39F98C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6"/>
          <p:cNvSpPr/>
          <p:nvPr/>
        </p:nvSpPr>
        <p:spPr>
          <a:xfrm>
            <a:off x="7238880" y="5715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páginas 32-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C:\Documents and Settings\dmccrar\Desktop\TCGoes2SS_Bkgs\Slide19.JPG"/>
          <p:cNvPicPr/>
          <p:nvPr/>
        </p:nvPicPr>
        <p:blipFill>
          <a:blip r:embed="rId1"/>
          <a:srcRect l="0" t="0" r="64169" b="0"/>
          <a:stretch/>
        </p:blipFill>
        <p:spPr>
          <a:xfrm>
            <a:off x="0" y="0"/>
            <a:ext cx="284148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Box 5"/>
          <p:cNvSpPr/>
          <p:nvPr/>
        </p:nvSpPr>
        <p:spPr>
          <a:xfrm>
            <a:off x="3124080" y="91440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a50021"/>
                </a:solidFill>
                <a:latin typeface="Arial"/>
              </a:rPr>
              <a:t>Usted puede pertenecer al grupo antes de cree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49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2A38-FCFC-4702-80DC-22685B1AD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514920" cy="480852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"/>
          <p:cNvSpPr/>
          <p:nvPr/>
        </p:nvSpPr>
        <p:spPr>
          <a:xfrm>
            <a:off x="304920" y="304920"/>
            <a:ext cx="7619760" cy="642600"/>
          </a:xfrm>
          <a:prstGeom prst="rect">
            <a:avLst/>
          </a:prstGeom>
          <a:solidFill>
            <a:srgbClr val="b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mun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Oval 5"/>
          <p:cNvGrpSpPr/>
          <p:nvPr/>
        </p:nvGrpSpPr>
        <p:grpSpPr>
          <a:xfrm>
            <a:off x="1554120" y="4218120"/>
            <a:ext cx="1554120" cy="1481040"/>
            <a:chOff x="1554120" y="4218120"/>
            <a:chExt cx="1554120" cy="1481040"/>
          </a:xfrm>
        </p:grpSpPr>
        <p:pic>
          <p:nvPicPr>
            <p:cNvPr id="504" name="Oval 5" descr=""/>
            <p:cNvPicPr/>
            <p:nvPr/>
          </p:nvPicPr>
          <p:blipFill>
            <a:blip r:embed="rId3"/>
            <a:stretch/>
          </p:blipFill>
          <p:spPr>
            <a:xfrm>
              <a:off x="1554120" y="4218120"/>
              <a:ext cx="15541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1766880" y="4422600"/>
              <a:ext cx="809640" cy="7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Box 7"/>
          <p:cNvSpPr/>
          <p:nvPr/>
        </p:nvSpPr>
        <p:spPr>
          <a:xfrm>
            <a:off x="1600200" y="46483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Comun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6"/>
          <p:cNvSpPr/>
          <p:nvPr/>
        </p:nvSpPr>
        <p:spPr>
          <a:xfrm>
            <a:off x="502920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061"/>
                </a:solidFill>
                <a:latin typeface="Arial"/>
                <a:ea typeface="Arial"/>
              </a:rPr>
              <a:t>5 elementos identificados en la vida de un grupo en las ID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5238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Orientados en la m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Mentalidad de comunicar la Pala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Mentalidad de multipl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Reciben y dan la bienvenida a los              extrañ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Concentrados en el Rein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itle 11"/>
          <p:cNvSpPr/>
          <p:nvPr/>
        </p:nvSpPr>
        <p:spPr>
          <a:xfrm>
            <a:off x="1981080" y="51814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…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una gran Escuela Domin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6" descr=""/>
          <p:cNvPicPr/>
          <p:nvPr/>
        </p:nvPicPr>
        <p:blipFill>
          <a:blip r:embed="rId1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51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3405-1A70-4344-AE9B-C001BB053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515" name="TextBox 7"/>
          <p:cNvSpPr/>
          <p:nvPr/>
        </p:nvSpPr>
        <p:spPr>
          <a:xfrm>
            <a:off x="3429000" y="426708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"/>
          <p:cNvSpPr/>
          <p:nvPr/>
        </p:nvSpPr>
        <p:spPr>
          <a:xfrm>
            <a:off x="1066680" y="838080"/>
            <a:ext cx="2438640" cy="2362320"/>
          </a:xfrm>
          <a:prstGeom prst="ellipse">
            <a:avLst/>
          </a:prstGeom>
          <a:solidFill>
            <a:srgbClr val="d5650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0"/>
          <p:cNvSpPr/>
          <p:nvPr/>
        </p:nvSpPr>
        <p:spPr>
          <a:xfrm>
            <a:off x="281952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tríada descu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1"/>
          <p:cNvSpPr/>
          <p:nvPr/>
        </p:nvSpPr>
        <p:spPr>
          <a:xfrm>
            <a:off x="5638680" y="990720"/>
            <a:ext cx="2438640" cy="236196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2"/>
          <p:cNvSpPr/>
          <p:nvPr/>
        </p:nvSpPr>
        <p:spPr>
          <a:xfrm>
            <a:off x="3352680" y="3809880"/>
            <a:ext cx="2438640" cy="2362320"/>
          </a:xfrm>
          <a:prstGeom prst="ellipse">
            <a:avLst/>
          </a:prstGeom>
          <a:solidFill>
            <a:srgbClr val="767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eft-Right Arrow 13"/>
          <p:cNvSpPr/>
          <p:nvPr/>
        </p:nvSpPr>
        <p:spPr>
          <a:xfrm>
            <a:off x="3733920" y="1676520"/>
            <a:ext cx="1676160" cy="533160"/>
          </a:xfrm>
          <a:prstGeom prst="leftRightArrow">
            <a:avLst>
              <a:gd name="adj1" fmla="val 50000"/>
              <a:gd name="adj2" fmla="val 5001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eft-Right Arrow 14"/>
          <p:cNvSpPr/>
          <p:nvPr/>
        </p:nvSpPr>
        <p:spPr>
          <a:xfrm rot="18637800">
            <a:off x="5928840" y="4124160"/>
            <a:ext cx="1676520" cy="533160"/>
          </a:xfrm>
          <a:prstGeom prst="leftRightArrow">
            <a:avLst>
              <a:gd name="adj1" fmla="val 50000"/>
              <a:gd name="adj2" fmla="val 50021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eft-Right Arrow 15"/>
          <p:cNvSpPr/>
          <p:nvPr/>
        </p:nvSpPr>
        <p:spPr>
          <a:xfrm rot="2812200">
            <a:off x="1606320" y="3955680"/>
            <a:ext cx="1676160" cy="533520"/>
          </a:xfrm>
          <a:prstGeom prst="leftRightArrow">
            <a:avLst>
              <a:gd name="adj1" fmla="val 50000"/>
              <a:gd name="adj2" fmla="val 49976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1447920" y="1676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cri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8"/>
          <p:cNvSpPr/>
          <p:nvPr/>
        </p:nvSpPr>
        <p:spPr>
          <a:xfrm>
            <a:off x="762120" y="32004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El libro de texto de la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9"/>
          <p:cNvSpPr/>
          <p:nvPr/>
        </p:nvSpPr>
        <p:spPr>
          <a:xfrm>
            <a:off x="3733920" y="4800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6019920" y="1752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i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1"/>
          <p:cNvSpPr/>
          <p:nvPr/>
        </p:nvSpPr>
        <p:spPr>
          <a:xfrm>
            <a:off x="5334120" y="33526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Une el ministerio 24/7/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2"/>
          <p:cNvSpPr/>
          <p:nvPr/>
        </p:nvSpPr>
        <p:spPr>
          <a:xfrm>
            <a:off x="2286000" y="6172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Medio para un aprendizaje eficiente y establecer comun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C:\Documents and Settings\dmccrar\Desktop\TCGoes2SS_Bkgs\Slide19.JPG"/>
          <p:cNvPicPr/>
          <p:nvPr/>
        </p:nvPicPr>
        <p:blipFill>
          <a:blip r:embed="rId1"/>
          <a:srcRect l="0" t="0" r="0" b="64169"/>
          <a:stretch/>
        </p:blipFill>
        <p:spPr>
          <a:xfrm>
            <a:off x="0" y="0"/>
            <a:ext cx="9144000" cy="4368960"/>
          </a:xfrm>
          <a:prstGeom prst="rect">
            <a:avLst/>
          </a:prstGeom>
          <a:ln w="0">
            <a:noFill/>
          </a:ln>
        </p:spPr>
      </p:pic>
      <p:sp>
        <p:nvSpPr>
          <p:cNvPr id="530" name="TextBox 3"/>
          <p:cNvSpPr/>
          <p:nvPr/>
        </p:nvSpPr>
        <p:spPr>
          <a:xfrm>
            <a:off x="0" y="4038480"/>
            <a:ext cx="9144000" cy="204372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 historia de nadie está complet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sta que se cruza con la historia de Dio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 cual sucede mejor en comunidad porque las historias de otros la enrique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Box 8"/>
          <p:cNvSpPr/>
          <p:nvPr/>
        </p:nvSpPr>
        <p:spPr>
          <a:xfrm>
            <a:off x="7696080" y="6396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Arial"/>
                <a:ea typeface="Arial"/>
              </a:rPr>
              <a:t>página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135000" y="304920"/>
            <a:ext cx="9009000" cy="5771880"/>
          </a:xfrm>
          <a:prstGeom prst="rect">
            <a:avLst/>
          </a:prstGeom>
          <a:ln w="0">
            <a:noFill/>
          </a:ln>
        </p:spPr>
      </p:pic>
      <p:sp>
        <p:nvSpPr>
          <p:cNvPr id="5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B8A4-7EBB-4BFD-9F28-6FF142BDA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ounded Rectangle 10"/>
          <p:cNvSpPr/>
          <p:nvPr/>
        </p:nvSpPr>
        <p:spPr>
          <a:xfrm>
            <a:off x="304920" y="4876920"/>
            <a:ext cx="8534160" cy="1752480"/>
          </a:xfrm>
          <a:prstGeom prst="roundRect">
            <a:avLst>
              <a:gd name="adj" fmla="val 1666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6"/>
          <p:cNvSpPr/>
          <p:nvPr/>
        </p:nvSpPr>
        <p:spPr>
          <a:xfrm>
            <a:off x="228600" y="1523880"/>
            <a:ext cx="8610480" cy="266724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762120" y="191772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Esper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uevas persona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da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. Espera que la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rsonas diga “sí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. Esper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menzar nuevas clas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9040" indent="-6890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Mentalidad de multi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Down Arrow 5"/>
          <p:cNvSpPr/>
          <p:nvPr/>
        </p:nvSpPr>
        <p:spPr>
          <a:xfrm>
            <a:off x="4343400" y="91440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Down Arrow 9"/>
          <p:cNvSpPr/>
          <p:nvPr/>
        </p:nvSpPr>
        <p:spPr>
          <a:xfrm>
            <a:off x="4419720" y="426708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57200" y="4952880"/>
            <a:ext cx="8229600" cy="12520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9040" indent="-68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a única manera que una clase desarrolle con éxit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9040" indent="-68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ltura y herencia de nuevas clases 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9040" indent="-68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utodeterminarse a multiplic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2"/>
          <p:cNvSpPr/>
          <p:nvPr/>
        </p:nvSpPr>
        <p:spPr>
          <a:xfrm>
            <a:off x="7620120" y="1066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4061"/>
                </a:solidFill>
                <a:latin typeface="Arial"/>
                <a:ea typeface="Arial"/>
              </a:rPr>
              <a:t>página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514920" cy="4808520"/>
          </a:xfrm>
          <a:prstGeom prst="rect">
            <a:avLst/>
          </a:prstGeom>
          <a:ln w="0">
            <a:noFill/>
          </a:ln>
        </p:spPr>
      </p:pic>
      <p:sp>
        <p:nvSpPr>
          <p:cNvPr id="545" name="TextBox 4"/>
          <p:cNvSpPr/>
          <p:nvPr/>
        </p:nvSpPr>
        <p:spPr>
          <a:xfrm>
            <a:off x="304920" y="304920"/>
            <a:ext cx="7619760" cy="642600"/>
          </a:xfrm>
          <a:prstGeom prst="rect">
            <a:avLst/>
          </a:prstGeom>
          <a:solidFill>
            <a:srgbClr val="b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Oval 5"/>
          <p:cNvGrpSpPr/>
          <p:nvPr/>
        </p:nvGrpSpPr>
        <p:grpSpPr>
          <a:xfrm>
            <a:off x="3382920" y="3840120"/>
            <a:ext cx="1554120" cy="1481040"/>
            <a:chOff x="3382920" y="3840120"/>
            <a:chExt cx="1554120" cy="1481040"/>
          </a:xfrm>
        </p:grpSpPr>
        <p:pic>
          <p:nvPicPr>
            <p:cNvPr id="547" name="Oval 5" descr=""/>
            <p:cNvPicPr/>
            <p:nvPr/>
          </p:nvPicPr>
          <p:blipFill>
            <a:blip r:embed="rId3"/>
            <a:stretch/>
          </p:blipFill>
          <p:spPr>
            <a:xfrm>
              <a:off x="3382920" y="3840120"/>
              <a:ext cx="15541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3595680" y="4041720"/>
              <a:ext cx="809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Box 7"/>
          <p:cNvSpPr/>
          <p:nvPr/>
        </p:nvSpPr>
        <p:spPr>
          <a:xfrm>
            <a:off x="3429000" y="426708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36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3" descr=""/>
          <p:cNvPicPr/>
          <p:nvPr/>
        </p:nvPicPr>
        <p:blipFill>
          <a:blip r:embed="rId2"/>
          <a:stretch/>
        </p:blipFill>
        <p:spPr>
          <a:xfrm>
            <a:off x="1060560" y="828720"/>
            <a:ext cx="6804000" cy="41083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0"/>
          <p:cNvSpPr/>
          <p:nvPr/>
        </p:nvSpPr>
        <p:spPr>
          <a:xfrm>
            <a:off x="7543800" y="5410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078B-5000-48E0-B4A5-A8D8873E8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5"/>
          <p:cNvSpPr/>
          <p:nvPr/>
        </p:nvSpPr>
        <p:spPr>
          <a:xfrm>
            <a:off x="7467480" y="4800600"/>
            <a:ext cx="16765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6"/>
          <p:cNvSpPr/>
          <p:nvPr/>
        </p:nvSpPr>
        <p:spPr>
          <a:xfrm>
            <a:off x="914400" y="68580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2"/>
          <p:cNvSpPr/>
          <p:nvPr/>
        </p:nvSpPr>
        <p:spPr>
          <a:xfrm>
            <a:off x="7924680" y="5638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ágina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C:\Documents and Settings\dmccrar\Desktop\TCGoes2SS_Bkgs\Slide19.JPG"/>
          <p:cNvPicPr/>
          <p:nvPr/>
        </p:nvPicPr>
        <p:blipFill>
          <a:blip r:embed="rId1"/>
          <a:srcRect l="0" t="0" r="64169" b="0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TextBox 7"/>
          <p:cNvSpPr/>
          <p:nvPr/>
        </p:nvSpPr>
        <p:spPr>
          <a:xfrm>
            <a:off x="3809880" y="85896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a50021"/>
                </a:solidFill>
                <a:latin typeface="Arial"/>
              </a:rPr>
              <a:t>L</a:t>
            </a: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iber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eproduc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a50021"/>
                </a:solidFill>
                <a:latin typeface="Arial"/>
              </a:rPr>
              <a:t>A</a:t>
            </a: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lcanz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sp>
        <p:nvSpPr>
          <p:cNvPr id="55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C39B-2EBA-46AD-B2DE-B1540B7E7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7"/>
          <p:cNvSpPr/>
          <p:nvPr/>
        </p:nvSpPr>
        <p:spPr>
          <a:xfrm>
            <a:off x="2666880" y="380880"/>
            <a:ext cx="373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¿Cómo una clase de adultos puede celebrar que los miembros acepten posiciones de enseñanza o liderazgo en una clase de niños o jóv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7924680" y="5638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página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0" y="0"/>
            <a:ext cx="1219320" cy="6951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Rectangle 8" descr=""/>
          <p:cNvPicPr/>
          <p:nvPr/>
        </p:nvPicPr>
        <p:blipFill>
          <a:blip r:embed="rId1"/>
          <a:stretch/>
        </p:blipFill>
        <p:spPr>
          <a:xfrm>
            <a:off x="-128520" y="438120"/>
            <a:ext cx="1262160" cy="5445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7"/>
          <p:cNvSpPr/>
          <p:nvPr/>
        </p:nvSpPr>
        <p:spPr>
          <a:xfrm>
            <a:off x="2666880" y="609480"/>
            <a:ext cx="48006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La mejor indicación de que una clase de adultos intenta reproducirse es si recluta a un </a:t>
            </a:r>
            <a:r>
              <a:rPr b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maestro aprendiz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. Describa las características de un candidato para ser maestro aprendiz</a:t>
            </a:r>
            <a:r>
              <a:rPr b="1" lang="en-US" sz="3600" spc="-1" strike="noStrike">
                <a:solidFill>
                  <a:srgbClr val="254061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"/>
          <p:cNvSpPr/>
          <p:nvPr/>
        </p:nvSpPr>
        <p:spPr>
          <a:xfrm>
            <a:off x="54100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Arial"/>
                <a:ea typeface="Arial"/>
              </a:rPr>
              <a:t>página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0" y="0"/>
            <a:ext cx="1219320" cy="6951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Rectangle 9" descr=""/>
          <p:cNvPicPr/>
          <p:nvPr/>
        </p:nvPicPr>
        <p:blipFill>
          <a:blip r:embed="rId1"/>
          <a:stretch/>
        </p:blipFill>
        <p:spPr>
          <a:xfrm>
            <a:off x="6480" y="-6480"/>
            <a:ext cx="1030320" cy="6870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8"/>
          <p:cNvSpPr/>
          <p:nvPr/>
        </p:nvSpPr>
        <p:spPr>
          <a:xfrm>
            <a:off x="2590920" y="160020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061"/>
                </a:solidFill>
                <a:latin typeface="Arial"/>
                <a:ea typeface="Arial"/>
              </a:rPr>
              <a:t>¿Cómo usted describiría la “conversación santa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"/>
          <p:cNvSpPr/>
          <p:nvPr/>
        </p:nvSpPr>
        <p:spPr>
          <a:xfrm>
            <a:off x="7391520" y="5638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Arial"/>
                <a:ea typeface="Arial"/>
              </a:rPr>
              <a:t>página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5"/>
          <p:cNvSpPr/>
          <p:nvPr/>
        </p:nvSpPr>
        <p:spPr>
          <a:xfrm>
            <a:off x="0" y="0"/>
            <a:ext cx="1219320" cy="6951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Rectangle 7" descr=""/>
          <p:cNvPicPr/>
          <p:nvPr/>
        </p:nvPicPr>
        <p:blipFill>
          <a:blip r:embed="rId1"/>
          <a:stretch/>
        </p:blipFill>
        <p:spPr>
          <a:xfrm>
            <a:off x="6480" y="549360"/>
            <a:ext cx="1157040" cy="5918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2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8"/>
          <p:cNvSpPr/>
          <p:nvPr/>
        </p:nvSpPr>
        <p:spPr>
          <a:xfrm>
            <a:off x="7924680" y="6396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págin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"/>
          <p:cNvPicPr/>
          <p:nvPr/>
        </p:nvPicPr>
        <p:blipFill>
          <a:blip r:embed="rId1"/>
          <a:stretch/>
        </p:blipFill>
        <p:spPr>
          <a:xfrm>
            <a:off x="325440" y="533520"/>
            <a:ext cx="8589960" cy="5557680"/>
          </a:xfrm>
          <a:prstGeom prst="rect">
            <a:avLst/>
          </a:prstGeom>
          <a:ln w="0">
            <a:noFill/>
          </a:ln>
        </p:spPr>
      </p:pic>
      <p:sp>
        <p:nvSpPr>
          <p:cNvPr id="5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E79-AA23-4E36-A915-3A0366779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Oval 9"/>
          <p:cNvSpPr/>
          <p:nvPr/>
        </p:nvSpPr>
        <p:spPr>
          <a:xfrm>
            <a:off x="380880" y="4114800"/>
            <a:ext cx="8534520" cy="228600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8"/>
          <p:cNvSpPr/>
          <p:nvPr/>
        </p:nvSpPr>
        <p:spPr>
          <a:xfrm>
            <a:off x="304920" y="304920"/>
            <a:ext cx="8534160" cy="2057400"/>
          </a:xfrm>
          <a:prstGeom prst="ellipse">
            <a:avLst/>
          </a:prstGeom>
          <a:solidFill>
            <a:srgbClr val="254061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81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Qué podemos hacer para que más personas se unan a nuestra iglesia o clas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itle 4"/>
          <p:cNvSpPr/>
          <p:nvPr/>
        </p:nvSpPr>
        <p:spPr>
          <a:xfrm>
            <a:off x="914400" y="4495680"/>
            <a:ext cx="7620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Qué puede hacer nuestra iglesia o clase para que nuestra comunidad sea un mejor lugar para vivir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7924680" y="5943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54061"/>
                </a:solidFill>
                <a:latin typeface="Arial"/>
                <a:ea typeface="Arial"/>
              </a:rPr>
              <a:t>página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itle 4"/>
          <p:cNvSpPr/>
          <p:nvPr/>
        </p:nvSpPr>
        <p:spPr>
          <a:xfrm>
            <a:off x="0" y="243828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Calibri"/>
              </a:rPr>
              <a:t>¿Cuál es la diferenc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Calibri"/>
              </a:rPr>
              <a:t>entre estas pregunt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5"/>
          <p:cNvSpPr/>
          <p:nvPr/>
        </p:nvSpPr>
        <p:spPr>
          <a:xfrm>
            <a:off x="3962520" y="1143000"/>
            <a:ext cx="441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Calibri"/>
              </a:rPr>
              <a:t>¿Dónde comienza usted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792468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página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Elbow Connector 7"/>
          <p:cNvCxnSpPr/>
          <p:nvPr/>
        </p:nvCxnSpPr>
        <p:spPr>
          <a:xfrm flipH="1" rot="16200000">
            <a:off x="21960" y="2186280"/>
            <a:ext cx="4267800" cy="2180520"/>
          </a:xfrm>
          <a:prstGeom prst="bentConnector3">
            <a:avLst>
              <a:gd name="adj1" fmla="val 50000"/>
            </a:avLst>
          </a:prstGeom>
          <a:ln cap="rnd" w="206280">
            <a:solidFill>
              <a:srgbClr val="8064a2"/>
            </a:solidFill>
            <a:bevel/>
            <a:headEnd len="med" type="triangle" w="med"/>
            <a:tailEnd len="med" type="triangle" w="med"/>
          </a:ln>
        </p:spPr>
      </p:cxnSp>
      <p:pic>
        <p:nvPicPr>
          <p:cNvPr id="586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5"/>
          <p:cNvSpPr/>
          <p:nvPr/>
        </p:nvSpPr>
        <p:spPr>
          <a:xfrm>
            <a:off x="4419720" y="762120"/>
            <a:ext cx="441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  <a:ea typeface="Arial"/>
              </a:rPr>
              <a:t>¿Cuál es su histori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6"/>
          <p:cNvSpPr/>
          <p:nvPr/>
        </p:nvSpPr>
        <p:spPr>
          <a:xfrm>
            <a:off x="792468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página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Elbow Connector 7"/>
          <p:cNvCxnSpPr/>
          <p:nvPr/>
        </p:nvCxnSpPr>
        <p:spPr>
          <a:xfrm flipH="1" rot="16200000">
            <a:off x="21960" y="2186280"/>
            <a:ext cx="4267800" cy="2180520"/>
          </a:xfrm>
          <a:prstGeom prst="bentConnector3">
            <a:avLst>
              <a:gd name="adj1" fmla="val 50000"/>
            </a:avLst>
          </a:prstGeom>
          <a:ln cap="rnd" w="206280">
            <a:solidFill>
              <a:srgbClr val="8064a2"/>
            </a:solidFill>
            <a:bevel/>
            <a:headEnd len="med" type="triangle" w="med"/>
            <a:tailEnd len="med" type="triangle" w="med"/>
          </a:ln>
        </p:spPr>
      </p:cxnSp>
      <p:cxnSp>
        <p:nvCxnSpPr>
          <p:cNvPr id="590" name="Straight Arrow Connector 9"/>
          <p:cNvCxnSpPr/>
          <p:nvPr/>
        </p:nvCxnSpPr>
        <p:spPr>
          <a:xfrm flipV="1">
            <a:off x="1676520" y="1599480"/>
            <a:ext cx="1372320" cy="1524600"/>
          </a:xfrm>
          <a:prstGeom prst="straightConnector1">
            <a:avLst/>
          </a:prstGeom>
          <a:ln w="12384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1" name="Straight Arrow Connector 10"/>
          <p:cNvCxnSpPr/>
          <p:nvPr/>
        </p:nvCxnSpPr>
        <p:spPr>
          <a:xfrm flipV="1">
            <a:off x="1143000" y="3428280"/>
            <a:ext cx="1372320" cy="1524600"/>
          </a:xfrm>
          <a:prstGeom prst="straightConnector1">
            <a:avLst/>
          </a:prstGeom>
          <a:ln w="139680">
            <a:solidFill>
              <a:srgbClr val="ffc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592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6" descr=""/>
          <p:cNvPicPr/>
          <p:nvPr/>
        </p:nvPicPr>
        <p:blipFill>
          <a:blip r:embed="rId1"/>
          <a:stretch/>
        </p:blipFill>
        <p:spPr>
          <a:xfrm>
            <a:off x="228600" y="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A9E6-B035-4A29-9060-E73E05BE7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1"/>
          <p:cNvSpPr/>
          <p:nvPr/>
        </p:nvSpPr>
        <p:spPr>
          <a:xfrm>
            <a:off x="0" y="0"/>
            <a:ext cx="9144000" cy="686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e slides beyond this slide are to be printed and used for group assignments (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ta: Debe imprimir las próxi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res transparencias y usarlas en las ta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grupo durante la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vea los planes de enseñanz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DCE9-C399-4C05-82E5-A24CB5C57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6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pic>
        <p:nvPicPr>
          <p:cNvPr id="192" name="Rectangle 3" descr=""/>
          <p:cNvPicPr/>
          <p:nvPr/>
        </p:nvPicPr>
        <p:blipFill>
          <a:blip r:embed="rId2"/>
          <a:stretch/>
        </p:blipFill>
        <p:spPr>
          <a:xfrm>
            <a:off x="512640" y="1133640"/>
            <a:ext cx="4961160" cy="2877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0"/>
          <p:cNvSpPr/>
          <p:nvPr/>
        </p:nvSpPr>
        <p:spPr>
          <a:xfrm>
            <a:off x="7543800" y="5410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Rectangle 5" descr=""/>
          <p:cNvPicPr/>
          <p:nvPr/>
        </p:nvPicPr>
        <p:blipFill>
          <a:blip r:embed="rId3"/>
          <a:stretch/>
        </p:blipFill>
        <p:spPr>
          <a:xfrm>
            <a:off x="5626080" y="378000"/>
            <a:ext cx="2500200" cy="491328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DB75-4767-4DB2-9103-BE332A961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1"/>
          <p:cNvSpPr/>
          <p:nvPr/>
        </p:nvSpPr>
        <p:spPr>
          <a:xfrm>
            <a:off x="1676520" y="19810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slides beyond this slide are to be printed and used for group assignments (see teaching plans) during the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6745-8FBE-4A1C-B18A-92FDEB9FD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1"/>
          <p:cNvSpPr/>
          <p:nvPr/>
        </p:nvSpPr>
        <p:spPr>
          <a:xfrm>
            <a:off x="1676520" y="19810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slides beyond this slide are to be printed and used for group assignments (see teaching plans) during the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0" y="22320"/>
            <a:ext cx="8915400" cy="6835680"/>
          </a:xfrm>
          <a:prstGeom prst="rect">
            <a:avLst/>
          </a:prstGeom>
          <a:ln w="0">
            <a:noFill/>
          </a:ln>
        </p:spPr>
      </p:pic>
      <p:sp>
        <p:nvSpPr>
          <p:cNvPr id="6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9AC2-1101-4226-8EE7-21CB0B0CD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1"/>
          <p:cNvSpPr/>
          <p:nvPr/>
        </p:nvSpPr>
        <p:spPr>
          <a:xfrm>
            <a:off x="1676520" y="19810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slides beyond this slide are to be printed and used for group assignments (see teaching plans) during the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-76320" y="0"/>
            <a:ext cx="9180720" cy="7077240"/>
          </a:xfrm>
          <a:prstGeom prst="rect">
            <a:avLst/>
          </a:prstGeom>
          <a:ln w="0">
            <a:noFill/>
          </a:ln>
        </p:spPr>
      </p:pic>
      <p:sp>
        <p:nvSpPr>
          <p:cNvPr id="6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6C98-2C02-49FE-B6A3-36CCF99FD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2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3"/>
          <p:cNvSpPr txBox="1"/>
          <p:nvPr/>
        </p:nvSpPr>
        <p:spPr>
          <a:xfrm>
            <a:off x="4343400" y="1676520"/>
            <a:ext cx="4038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acia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6480" y="353880"/>
            <a:ext cx="3413160" cy="5888160"/>
          </a:xfrm>
          <a:prstGeom prst="rect">
            <a:avLst/>
          </a:prstGeom>
          <a:ln w="0">
            <a:noFill/>
          </a:ln>
        </p:spPr>
      </p:pic>
      <p:sp>
        <p:nvSpPr>
          <p:cNvPr id="60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8F4-7754-4745-8957-EADF3129C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6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1 1 1 1 1 1 1 1 1 1 1 1 1 1 1 1 1 1 1 1 1 1 1 1 1 1 1 1 1 1 1 1 1 1 1 1 1 1 1 1 1 1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fbfb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7383600" y="6296040"/>
            <a:ext cx="1760400" cy="56196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3" descr=""/>
          <p:cNvPicPr/>
          <p:nvPr/>
        </p:nvPicPr>
        <p:blipFill>
          <a:blip r:embed="rId2"/>
          <a:stretch/>
        </p:blipFill>
        <p:spPr>
          <a:xfrm>
            <a:off x="55440" y="1133640"/>
            <a:ext cx="4961160" cy="28778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0"/>
          <p:cNvSpPr/>
          <p:nvPr/>
        </p:nvSpPr>
        <p:spPr>
          <a:xfrm>
            <a:off x="7543800" y="5410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página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76560" y="38088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2523"/>
                </a:solidFill>
                <a:latin typeface="Calibri"/>
              </a:rPr>
              <a:t>Alcanza </a:t>
            </a:r>
            <a:r>
              <a:rPr b="1" lang="en-US" sz="40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a las personas para Cris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2523"/>
                </a:solidFill>
                <a:latin typeface="Calibri"/>
              </a:rPr>
              <a:t>Las libera</a:t>
            </a:r>
            <a:r>
              <a:rPr b="1" lang="en-US" sz="4000" spc="-1" strike="noStrike">
                <a:solidFill>
                  <a:srgbClr val="10253f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para serv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2523"/>
                </a:solidFill>
                <a:latin typeface="Calibri"/>
              </a:rPr>
              <a:t>Se reproduce 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 a sí misma para hacer un impacto con el Rei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B58D-891D-405E-9921-CF72E0C13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7294680" y="6267600"/>
            <a:ext cx="1849320" cy="590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1295280" y="966960"/>
            <a:ext cx="6515280" cy="48085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304920" y="304920"/>
            <a:ext cx="5867280" cy="642600"/>
          </a:xfrm>
          <a:prstGeom prst="rect">
            <a:avLst/>
          </a:prstGeom>
          <a:solidFill>
            <a:srgbClr val="b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Mentalidad misio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Oval 5"/>
          <p:cNvGrpSpPr/>
          <p:nvPr/>
        </p:nvGrpSpPr>
        <p:grpSpPr>
          <a:xfrm>
            <a:off x="4675320" y="1017720"/>
            <a:ext cx="1481040" cy="1407960"/>
            <a:chOff x="4675320" y="1017720"/>
            <a:chExt cx="1481040" cy="1407960"/>
          </a:xfrm>
        </p:grpSpPr>
        <p:pic>
          <p:nvPicPr>
            <p:cNvPr id="206" name="Oval 5" descr=""/>
            <p:cNvPicPr/>
            <p:nvPr/>
          </p:nvPicPr>
          <p:blipFill>
            <a:blip r:embed="rId3"/>
            <a:stretch/>
          </p:blipFill>
          <p:spPr>
            <a:xfrm>
              <a:off x="4675320" y="1017720"/>
              <a:ext cx="14810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879800" y="1211400"/>
              <a:ext cx="756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6"/>
          <p:cNvSpPr/>
          <p:nvPr/>
        </p:nvSpPr>
        <p:spPr>
          <a:xfrm>
            <a:off x="4724280" y="13716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entalidad misio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2:15:23Z</dcterms:created>
  <dc:creator>G. Dwayne McCrary</dc:creator>
  <dc:description/>
  <dc:language>en-US</dc:language>
  <cp:lastModifiedBy>KSOLIS</cp:lastModifiedBy>
  <dcterms:modified xsi:type="dcterms:W3CDTF">2011-05-13T13:56:05Z</dcterms:modified>
  <cp:revision>802</cp:revision>
  <dc:subject/>
  <dc:title>Slide 1</dc:title>
</cp:coreProperties>
</file>