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32BE-FF99-4261-86FC-A94681700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4F90-C883-4F64-849C-9A4239403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435-3D7F-4E09-AD6A-E14EAB157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8267-009F-4F82-A7B7-717B34F0D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FA7-DBF9-4483-AC0D-83217F9CD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2E4-D646-47A7-9454-F1372793D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E75-308D-48C0-9FD3-F6B785798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DFE-DC95-4E27-9452-7F1460063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DF2-DEE3-4607-B6F9-8A78C2528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6AEF-DFAA-4B66-8678-9C1DD2BCA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2DF-625B-483C-B1B3-0A0B8955F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A37-D01D-4523-980C-B77F1C2E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56D-325F-4E67-8213-56D2A7027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EA00-FDD1-4C69-9FB7-72A561CB6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7EF-9DE9-4DCA-A326-7EF29680C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2884-00F1-44F3-BA8B-DA4E1F49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2DC-7CB8-475C-B0B6-87729B7FC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BAA-0DAA-426C-A90F-A5077C9E2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53E-9C7C-446D-B5E2-2BAE032A0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87C-189D-4D70-8D3B-112DFA35C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486-34A9-4331-B35A-8C5C0557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501-3E69-4BD7-87EE-B920E29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9D0-B913-42BD-AA07-63ACC58A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6B2-5F0E-4D1C-8EA9-16FAB3C9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357-84A4-43C1-AC56-8850B7C8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3FD-3C65-4BCB-A0CA-CA627CF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4AAA-2895-42AF-81D6-D1EE324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E0A3-74AB-4516-91BA-4D4BDBB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E66-0C73-45ED-9BA8-399D168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657C-7896-43A5-B436-D19ACA2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69E5-2C50-4741-8E88-89ABE7F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A90-709C-415D-AEB6-A19FDCB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26F5-5A0A-4611-8E27-5E49099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53C-D335-4CDC-A750-DE717FC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9D0-B974-4AE0-9F5C-A93ADE2B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8A73-1DDD-477B-B4A5-FC83AAA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0DA8-6798-45E9-853A-F77074D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4838-8781-4FD0-A2C2-50E52D1F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E6FF-0DB7-42DC-9588-136B0B2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539F-FD7D-4408-860B-0D40989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A5D5-90B3-47C9-A03A-98CF651C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13CD-6A13-4624-A34F-9B3CFDE6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B53-CA1D-47EC-9DD7-9C492A6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0391-1E9E-46AA-9D32-A9DEA61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DB23-8134-4199-8FE9-E447AEC8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4062-0A73-4702-B7F1-94B5A1D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5C94-5BA1-4813-A535-5842830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4356-B063-4B03-874C-6C18CC35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4033-6022-452E-B12D-85D371C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64D0-98B5-49F1-B764-FF3597D1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56D8-0955-47CF-90CC-614DE0CB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B94D-3FA7-4A08-A872-1C5F3E4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4E267-C6F0-487B-838D-155D01B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F56-1EF6-4838-B095-FCA35E4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2AE8-9CD2-4511-B323-0B56286A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5F08-DAEB-41B3-9433-9CFCAC88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98F4-7807-4C30-8A9C-55AF805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3838-B010-417D-97E2-95E2EDC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0663-2020-44AE-9E6D-34EBB63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F187-2212-449B-92C3-80FFA13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CACE-EE7D-4159-962E-13BFA708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64EE-F46B-4DAA-BA7F-55C834CB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964E-F2D5-45F8-A4F1-FABDFC0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7EDD-4FCA-4E58-B057-36EDBA1D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B65-EE65-4EDF-9517-4828BF41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59B6-5C3A-4856-92C3-794AE5F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76E7-661C-4640-A653-BF1862A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DEBD-565E-4CFD-8896-943D518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D340-79A7-47EF-8AC3-D31E52F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9C6E-C692-48D2-B005-5B4FAF7D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260E3-21EC-4689-954B-571164C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0839-6D3A-4C4D-A78A-FCDE220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79AB-D5B9-43B9-8050-5D86273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9181-00F4-46A9-944C-C637B67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B434-8A2A-450E-82C8-5F1E59DA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E66-8610-463C-A273-5DEA851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E328A-76FB-4353-AB60-78BAC6C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F5ED-2E33-4E4F-84AB-9E758E69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1760-8FFB-44E5-A1FD-A9D76AD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7D27-E2B1-4540-BDEB-2C4EF27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0E64-19FE-4780-8F57-ED44EF7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1A5A-1100-4A49-A5FB-8E57F999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795F6-82E6-40AD-94B0-BB807B4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064C-36F2-4515-A9AA-9DCF011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340B-B77B-4A72-8C44-1928C12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F5A0-4FA2-4F2D-A0CB-F69B804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08E-3518-40E6-8558-9ECBC62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47CDD-0313-4A88-AB2A-CD96F7C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82DB-4C8B-4AAE-9A1B-26F0A772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D47B-D1CE-4666-BC93-DB1EEAC0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1FF56-A812-4DBD-BE60-24082250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E59A-5416-4DEB-82B4-0304AE3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089A-0492-475F-8722-6C51E9C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7A5F-8AE0-43F5-933C-64AE628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448F-D5D3-4AAB-A1DF-007C436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812A-1159-47BF-87A2-38ABE9D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CA30-5DD0-4B59-B133-5440A19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F12-C188-46C4-98ED-34CF64C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EABD-A2CB-4A61-8459-CF80D2F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8221-36E0-4B8D-A680-A39E17D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72D8-5C5B-4CB3-B21D-37295D75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6453-66B2-4B42-9602-321D4B22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51FBB-ECB8-4BAE-9B4E-47C9E4C8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9F8-270A-496F-868F-3AA0637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EA1C-9C8A-4DAA-93D2-F1CB86E56A5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29D-5FF3-40F3-BCFE-DEA356AB0B4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0F58-D585-44A7-B543-EAD93DAE3CA7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ED2-2EA5-4979-A342-E6153CD72F1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419-87D9-4685-8F49-C7AF4E57ACDE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C481-C277-4ACE-9238-7392A1794F7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F99-EF77-4B87-A4E1-AC164182724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283-956D-4DA9-A129-ACEE278D47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AC9-4D22-4A35-8FAF-0DDF0FAD768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856E-67A3-4AD5-85AF-DE486D5B069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12A7-409E-4592-9028-E5447B9D140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6E8-C247-4436-846F-F9BB2A4597C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76C-28E5-4DED-91F7-6864622B7B0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A43-4AA9-4725-A194-CEFEF84F6EC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3"/>
          <p:cNvSpPr/>
          <p:nvPr/>
        </p:nvSpPr>
        <p:spPr>
          <a:xfrm>
            <a:off x="304920" y="1752480"/>
            <a:ext cx="8534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 clase que Dios usa para transform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glesia que Dios usa para transfor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 a la Escuela Dom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467a"/>
                </a:solidFill>
                <a:latin typeface="Comic Sans MS"/>
              </a:rPr>
              <a:t>Y A LOS PREESCO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439E-1959-4518-94B6-4067780BDE3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8"/>
          <p:cNvSpPr/>
          <p:nvPr/>
        </p:nvSpPr>
        <p:spPr>
          <a:xfrm>
            <a:off x="1371600" y="1522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23880"/>
            <a:ext cx="8229600" cy="4778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ncionalidad en las relaciones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s maestros intencionalmente establecen relaciones con los preescolares de sus clas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ensen en maneras de establecer relaciones con los preescolar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sus familia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1600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r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228600" y="1522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152280" y="5335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ncionalidad en las re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2"/>
          <p:cNvSpPr/>
          <p:nvPr/>
        </p:nvSpPr>
        <p:spPr>
          <a:xfrm>
            <a:off x="2438280" y="4800600"/>
            <a:ext cx="4267440" cy="368280"/>
          </a:xfrm>
          <a:prstGeom prst="rect">
            <a:avLst/>
          </a:prstGeom>
          <a:gradFill rotWithShape="0">
            <a:gsLst>
              <a:gs pos="0">
                <a:srgbClr val="9f201f"/>
              </a:gs>
              <a:gs pos="100000">
                <a:srgbClr val="dc302f"/>
              </a:gs>
            </a:gsLst>
            <a:lin ang="16200000"/>
          </a:gradFill>
          <a:ln cap="rnd" w="6480">
            <a:solidFill>
              <a:srgbClr val="c54342"/>
            </a:solidFill>
            <a:miter/>
          </a:ln>
          <a:effectLst>
            <a:outerShdw dist="270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Discusión en gru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A821-1446-46B3-BFED-6D3E42EBE47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Documents and Settings\dmccrar\My Documents\Downloads\childpraying_think_200322960-001.jpg"/>
          <p:cNvPicPr/>
          <p:nvPr/>
        </p:nvPicPr>
        <p:blipFill>
          <a:blip r:embed="rId1">
            <a:lum bright="20000"/>
          </a:blip>
          <a:srcRect l="0" t="13748" r="0" b="0"/>
          <a:stretch/>
        </p:blipFill>
        <p:spPr>
          <a:xfrm>
            <a:off x="0" y="1447920"/>
            <a:ext cx="9144000" cy="52592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endencia en la oración-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tes de la clas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urante la clas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iempo de grupo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Niveles de oración: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Clase,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Comunidad,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y Comisión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6705720" y="22860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046040" y="914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5638680" y="457200"/>
            <a:ext cx="129564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69343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r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638680" y="76212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pendencia en la or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685-4196-45E6-9D0D-F719CC5D62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oració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¿Cómo se aplica a los preescolares en la Escuela Dominical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do lo que hacemos durante la clase apoya la aplicación a la vi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ando los preescolares oyen estas cosas ellos aprend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cuchar (aprender) demanda obedienci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edecer es ador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Oval 4"/>
          <p:cNvSpPr/>
          <p:nvPr/>
        </p:nvSpPr>
        <p:spPr>
          <a:xfrm>
            <a:off x="3733920" y="3049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657600" y="990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uc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2971800" y="15228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3048120" y="533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d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D143-7C79-4606-B4CC-78901A2925B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Escoja una actividad de aprendizaje bíblico en el Manual para el Líd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Discuta lo que los preescolares harán y aprenderá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Discuta cómo los maestros pueden ayudar a los preescolares a adorar mediante la actividad y la aplicación a la vi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2438280" y="2133720"/>
            <a:ext cx="4267440" cy="368280"/>
          </a:xfrm>
          <a:prstGeom prst="rect">
            <a:avLst/>
          </a:prstGeom>
          <a:gradFill rotWithShape="0">
            <a:gsLst>
              <a:gs pos="0">
                <a:srgbClr val="9f201f"/>
              </a:gs>
              <a:gs pos="100000">
                <a:srgbClr val="dc302f"/>
              </a:gs>
            </a:gsLst>
            <a:lin ang="16200000"/>
          </a:gradFill>
          <a:ln cap="rnd" w="6480">
            <a:solidFill>
              <a:srgbClr val="c54342"/>
            </a:solidFill>
            <a:miter/>
          </a:ln>
          <a:effectLst>
            <a:outerShdw dist="270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DISCUSIÓN EN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6E5-8ECC-40F1-955C-FAF3D5A24E0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idad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unidad permite a las personas a cuidar de otros y confiar unos de otros y establecer un sentido de pertenenci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¿Cómo podemos crear una comunidad transformadora en el departamento preescolar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 ¿Qué impide el desarrollo de comunidad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Oval 3"/>
          <p:cNvSpPr/>
          <p:nvPr/>
        </p:nvSpPr>
        <p:spPr>
          <a:xfrm>
            <a:off x="3733920" y="763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65760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uc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2743200" y="6858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743200" y="114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1"/>
          <p:cNvSpPr/>
          <p:nvPr/>
        </p:nvSpPr>
        <p:spPr>
          <a:xfrm>
            <a:off x="2438280" y="3200400"/>
            <a:ext cx="4267440" cy="368280"/>
          </a:xfrm>
          <a:prstGeom prst="rect">
            <a:avLst/>
          </a:prstGeom>
          <a:gradFill rotWithShape="0">
            <a:gsLst>
              <a:gs pos="0">
                <a:srgbClr val="9f201f"/>
              </a:gs>
              <a:gs pos="100000">
                <a:srgbClr val="dc302f"/>
              </a:gs>
            </a:gsLst>
            <a:lin ang="16200000"/>
          </a:gradFill>
          <a:ln cap="rnd" w="6480">
            <a:solidFill>
              <a:srgbClr val="c54342"/>
            </a:solidFill>
            <a:miter/>
          </a:ln>
          <a:effectLst>
            <a:outerShdw dist="270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DISCUSIÓN EN GRU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9B8-EBDD-4B49-BF1C-202CDD63AC0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920" y="1774800"/>
            <a:ext cx="8610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ión-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idad misionera: cómo usted PIENS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sión: cómo usted ACTÚ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Componentes de una clase en misió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ber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oduc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canz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3733920" y="3049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65760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uc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5105520" y="9144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5181480" y="1371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04C-713D-47D9-A0B2-A4289A2A388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é es “conversación santa”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*Colosenses 4.6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*1 Pedro 3.15-16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1"/>
          <a:stretch/>
        </p:blipFill>
        <p:spPr>
          <a:xfrm>
            <a:off x="7383600" y="617220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D08-C394-450A-8457-9D8EB1D9F64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é podemos hacer para que más personas se unan a nuestra iglesia o cla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Qué puede hacer nuestra iglesia o clase para que la comunidad sea un mejor lugar para vivi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E651-6FC5-4A1B-8DDC-1107B5D7D48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304920" y="1490760"/>
            <a:ext cx="7619760" cy="5311800"/>
          </a:xfrm>
          <a:prstGeom prst="rect">
            <a:avLst/>
          </a:prstGeom>
          <a:ln w="0">
            <a:noFill/>
          </a:ln>
        </p:spPr>
      </p:pic>
      <p:sp>
        <p:nvSpPr>
          <p:cNvPr id="40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7B3-245B-4AA8-90BD-9142356E3A5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761240" cy="541008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394-1566-4F5E-A8E1-91D4242EAA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maginarse cómo sería una clase de la Escuela Dominical que reflejara los siete elementos encontrados en las iglesias que Dios usa para transforma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simple premisa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n grupo o clase que busca intencionalmente los siete elementos de la IDT probablemente llegue a ser esa clase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¡Una clase que Dios 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ara transformar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2"/>
          <a:stretch/>
        </p:blipFill>
        <p:spPr>
          <a:xfrm>
            <a:off x="7391520" y="601992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FED0-997C-4F64-BD5A-3CAFC33756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o un departamento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 todos los maestros de preescolares trabajando como un equipo para transformar el departamento de preescola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o maestros de una clase específica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estros de una sola clase de preescolares trabajando juntos para transformar la clas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7383600" y="60958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23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5795-0C3E-47E9-806B-D4667585B3D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142640" y="1774440"/>
            <a:ext cx="7543800" cy="348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talidad misionera-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 departamento o clase tiene el compromiso de intencionalmente hacer de su misión el alcanzar a otros…en nuestro caso, los preescolares y sus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Oval 4"/>
          <p:cNvSpPr/>
          <p:nvPr/>
        </p:nvSpPr>
        <p:spPr>
          <a:xfrm>
            <a:off x="3581280" y="533520"/>
            <a:ext cx="1828800" cy="175248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352680" y="1066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er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5105520" y="304920"/>
            <a:ext cx="1295280" cy="121896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800600" y="609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talidad misio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2438280" y="51814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¡Me comprometeré a alcanzar a otr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2A9-4649-40C3-8B65-195F86FE83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9759960" cy="1433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ómo comenzó la Escuela Dominica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ómo comenzó en las iglesi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ómo ha cambiando el énfasis de la Escuela Dominica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2438280" y="5486400"/>
            <a:ext cx="4267440" cy="368280"/>
          </a:xfrm>
          <a:prstGeom prst="rect">
            <a:avLst/>
          </a:prstGeom>
          <a:gradFill rotWithShape="0">
            <a:gsLst>
              <a:gs pos="0">
                <a:srgbClr val="9f201f"/>
              </a:gs>
              <a:gs pos="100000">
                <a:srgbClr val="dc302f"/>
              </a:gs>
            </a:gsLst>
            <a:lin ang="16200000"/>
          </a:gradFill>
          <a:ln cap="rnd" w="6480">
            <a:solidFill>
              <a:srgbClr val="c54342"/>
            </a:solidFill>
            <a:miter/>
          </a:ln>
          <a:effectLst>
            <a:outerShdw dist="270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25d"/>
                </a:solidFill>
                <a:latin typeface="Arial"/>
                <a:ea typeface="Arial"/>
              </a:rPr>
              <a:t>Discusión en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0EB-1F1C-4DFE-860A-C71FD2577C1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derazgo vibrant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ES AUTOCRÁTICO..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ES MANDÓ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3733920" y="380880"/>
            <a:ext cx="1828800" cy="175284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5257800" y="228600"/>
            <a:ext cx="1295280" cy="1219320"/>
          </a:xfrm>
          <a:prstGeom prst="ellipse">
            <a:avLst/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809880" y="106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r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334120" y="5335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derazgo vibr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Diagram 8" descr=""/>
          <p:cNvPicPr/>
          <p:nvPr/>
        </p:nvPicPr>
        <p:blipFill>
          <a:blip r:embed="rId2"/>
          <a:stretch/>
        </p:blipFill>
        <p:spPr>
          <a:xfrm>
            <a:off x="658800" y="2712960"/>
            <a:ext cx="2724120" cy="2041560"/>
          </a:xfrm>
          <a:prstGeom prst="rect">
            <a:avLst/>
          </a:prstGeom>
          <a:ln w="0">
            <a:noFill/>
          </a:ln>
        </p:spPr>
      </p:pic>
      <p:pic>
        <p:nvPicPr>
          <p:cNvPr id="344" name="Diagram 9" descr=""/>
          <p:cNvPicPr/>
          <p:nvPr/>
        </p:nvPicPr>
        <p:blipFill>
          <a:blip r:embed="rId3"/>
          <a:stretch/>
        </p:blipFill>
        <p:spPr>
          <a:xfrm>
            <a:off x="4621320" y="2712960"/>
            <a:ext cx="4248000" cy="364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"/>
          <p:cNvPicPr/>
          <p:nvPr/>
        </p:nvPicPr>
        <p:blipFill>
          <a:blip r:embed="rId4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FAE-D4FD-49D2-BFF7-6E4853B7863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5"/>
          <p:cNvSpPr/>
          <p:nvPr/>
        </p:nvSpPr>
        <p:spPr>
          <a:xfrm flipV="1" rot="10800000">
            <a:off x="838080" y="405144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 líder que Dios usa para transformar es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humild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segu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reconoce que su meta principal es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exhor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apoy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 todos los involucrados para realizar la visión y misión del ministerio preesco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1752480" y="17524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 líder vibrante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comparte responsabilida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delega autoridad a los líuderes existen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y </a:t>
            </a:r>
            <a:r>
              <a:rPr b="0" lang="en-US" sz="2800" spc="-1" strike="noStrike">
                <a:solidFill>
                  <a:srgbClr val="901929"/>
                </a:solidFill>
                <a:latin typeface="Arial"/>
                <a:ea typeface="Arial"/>
              </a:rPr>
              <a:t>recluta nuevos líd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5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D34-D238-4874-88C2-712B4EC72DA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52280" y="21333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íderes vibrantes y transformadores esperan nuevas personas cada semana … y esto cambiará todo acerca de la estrategia del ministero preescolar en la Escuela Dominical. ¿Cómo?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¡Los maestro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legar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emprano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¡Los maestro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perar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uevos preescolares cada semana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¡Los maestro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parar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ctividades extras de aprendizaje bíblico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s maestro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lutar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tros adultos para que se unan al equipo de ministerio para comenzar nuevas clases de preesco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B3B-E36D-43C0-A6E1-72E3FFAC04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2:33:50Z</dcterms:created>
  <dc:creator>Lori</dc:creator>
  <dc:description/>
  <dc:language>en-US</dc:language>
  <cp:lastModifiedBy>Rosa</cp:lastModifiedBy>
  <dcterms:modified xsi:type="dcterms:W3CDTF">2011-03-24T18:23:59Z</dcterms:modified>
  <cp:revision>93</cp:revision>
  <dc:subject/>
  <dc:title>Slide 1</dc:title>
</cp:coreProperties>
</file>