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AD5-CA53-4AED-AD08-8F6A1DE9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AF2-596D-42E6-950A-17169CC4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948-3DA0-4FD2-ABCE-09DD4D21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38E-CAD9-4F7B-9FCE-B2AEAA63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225-4F5F-4B93-9B1B-675E0594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BE-11E3-4970-8041-97AC76E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8FF-F463-42F0-B61B-F1A5507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7E7-BA84-4D65-B011-642CD699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C71-EB61-4A99-9C4F-42E6048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570-D912-4EA0-95D8-CE85F7A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C61-4C41-4FDA-8F13-1519C2F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B92-27A6-4DEB-83BD-D59A1A7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8B54-F664-4F96-B256-9CF9F80B6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8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3"/>
          <p:cNvSpPr/>
          <p:nvPr/>
        </p:nvSpPr>
        <p:spPr>
          <a:xfrm>
            <a:off x="144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Josh Lyon</cp:lastModifiedBy>
  <dcterms:modified xsi:type="dcterms:W3CDTF">2023-09-24T01:31:00Z</dcterms:modified>
  <cp:revision>9</cp:revision>
  <dc:subject/>
  <dc:title>PowerPoint Presentation</dc:title>
</cp:coreProperties>
</file>