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6E69-7F9F-4F6C-8DB0-8C92FCE4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4A40-56D0-469F-91EB-30525AC8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60FBA-62E4-4C4B-BB48-80434AEC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26397-634B-4CDA-83C6-31C6FCAD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914400" y="503280"/>
            <a:ext cx="73137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F51CF-B838-4957-B49E-4895F5A1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94A6D-3987-44E8-8175-49AA5BE9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F43BF-00DF-4453-A0D8-88A579D2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C0362-74E2-4B68-8F00-73AA64EC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25AC0-9896-40CA-B72C-8B7385FD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E3732-C4D4-4358-B0E0-A7CDD9F9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8724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86008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91440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8724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586008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A8F1A-3EAE-4E38-9404-10853CC7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88EB6-62CC-46EE-A5A5-994D7BF6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25A4-D94D-4D49-9BCD-9232A7D1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906B7-A571-4006-8D1D-DD2FBAA8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9297D-7251-458C-9E8D-D0FA23B4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8D8DF-F37A-4293-B88A-2F00DEBD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5BF1F-3B6D-454D-B741-679E779E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914400" y="503280"/>
            <a:ext cx="73137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D2AA0-51FB-481B-ABB2-DF4656CF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00E09-3341-4570-B637-61E4B521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91A0E-099A-4642-80A0-726E7D3B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9438C-7217-4819-8F08-D9803236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13BED-8A42-489A-8363-38F188F6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B344B-97BA-4159-BC4C-65923289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724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008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724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008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1D97-A6A1-41BA-B596-66601124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8724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86008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91440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8724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86008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D959D-7CDB-4D13-AA2F-D83BB635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A81AA-1628-4250-B463-214C57F8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AD8AA-BBE6-4912-8ED2-110DD00C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4ABD0-A9A7-4211-9427-A6EAF324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C669D-279E-4C3D-8CC5-39A6AEB0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CC042-29BD-4781-ABA6-7D77BA0D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914400" y="503280"/>
            <a:ext cx="73137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7F6E4-25AF-4693-B741-B30B83BD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645B4-A26F-48CE-8EB9-7D007F42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49690-F88A-46BE-8D1B-A96C5CD8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DF6BF-D046-4358-9F17-462EFBBF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6495-7C9D-42C6-AAEB-54058054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6AF44-B3AA-4C08-9B95-E515A0A4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DDF05-9C38-4CA2-8BF3-184107B3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38724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86008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91440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38724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586008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B8474-C998-440C-82F8-3107B8DE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61D2-1B8F-44CE-BFA9-06FE5EDB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34D1-DF96-4DF5-A49B-FAE2A71F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13FE-B240-43C8-8E23-0081EF3E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7541-D8EE-4C32-A4B9-6379265C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503280"/>
            <a:ext cx="73137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E7EE-0762-4550-8971-0C25DC10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0EF4-E602-45F9-8A68-1710DA3D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CE96-6D17-4596-9022-68478CFB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A3F4-11CD-4BA2-A2AB-B04E17BE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75B2-C352-412F-B027-BB4699EF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7336-5953-4E8F-ADA0-A6E05D9E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FDD4-7089-45FC-BA69-F30091D5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724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008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724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008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80CA-A142-4365-B7F9-626EF0BC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83956-8C82-41FC-9CFF-CDFE38DF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D6924-E90F-4FFA-B5B2-8226ADBA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12C9C-A9D7-497C-BC04-FCC8F823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D4A1F-637A-4BD1-9B2B-1C888883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A8B58-31AE-4468-BA7C-DFD72EBA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D1E-0084-4DD9-BD71-428DDF58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14400" y="503280"/>
            <a:ext cx="73137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12C24-008A-4888-810A-9364C21A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C47D3-7B3A-443F-8B41-84E3B4DC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42F71-C864-4E07-B8B3-1D786C25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738D0-4D58-4393-94A8-82DF1610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7FD95-96F3-4124-BD74-8BB35672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9D2F1-D543-4B63-B794-CE25EA41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8724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6008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40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8724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86008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3B11E-0A58-4997-8B04-34BF8A46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A234C-A254-4944-BA9E-5716CB17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AC05F-19D3-4AA1-92A0-354C4F1E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31756-8596-4AEE-8C43-29281B2C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E68-ADFE-407C-B985-58F902C3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769FF-BFE8-48C4-B495-156C8A88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2AE01-7A29-4D69-981F-BFE72403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14400" y="503280"/>
            <a:ext cx="73137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0A42E-8338-48DF-BDD4-F36E9835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6C6AB-31CF-41D7-8682-75D34960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8F965-6885-4109-9B65-4A65D65C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841F3-2BDB-498E-B57D-9D814A8C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E6C96-F501-4BC5-8A99-DB30FB7A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C63A5-E591-477C-8037-BE956948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8724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86008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1440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8724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86008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EE699-9C89-4AF0-B306-B53F92B0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BAB61-D6D7-45CD-B62E-72CC318F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BB03-2245-4A86-ADB0-6AD6762F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588FB-F14C-4805-AAEC-E7D362C0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41093-2AFA-4FA1-B88B-62388784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BFF23-BF90-4A46-9CEA-164CEDFE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3EA64-A202-425A-80AE-5DB1E26F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14400" y="503280"/>
            <a:ext cx="73137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03663-2FDC-4B31-ADE8-89CE77C6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31E8B-F9B8-45C5-A829-D4C2F590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0B0C7-BBC4-44A8-A661-32E1FDF0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EECA6-3D2E-4CE3-A621-E9C5A26B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3AB83-6548-4E51-B15F-DD2C7966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F0B08-9D6C-41C4-8376-92AEE087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503280"/>
            <a:ext cx="73137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3985-7B85-4A2B-8FD2-F8BDF87B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8724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86008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1440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8724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86008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C7FB2-53AF-42BC-BE82-1C68DF44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CE3B7-F053-4399-BEB4-4D2F1CD9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A997D-4CD3-4342-A19E-3477D3B5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73B65-48BA-4FB4-9A7C-A4B7BF3B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9137E-69AA-4B66-9440-713FC534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1FBEA-644A-4475-8CF0-428625D6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914400" y="503280"/>
            <a:ext cx="73137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B59B7-BE05-471C-8741-C08EA174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E30CF-4E46-4B68-A538-BD9C096F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84724-750C-4519-9AEB-2EB6E4C4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6AB81-65C5-4283-B985-9CF2F13D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582-4563-46EC-8A75-7220821C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2DBF2-046E-4B18-BEBF-27791052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125C4-44A6-42B1-9ABA-2DD0237A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8724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86008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91440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8724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86008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CBC21-0A6B-4085-802A-14BD333B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53A42-409A-453B-B1E7-842740DA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97742-EDFD-40FB-8274-0A9DF930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922DA-09A6-4A25-BBFE-4084E49F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B94EC-36C1-4E8F-BBB2-8A32A8D5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47B73-19B7-4D38-A0A5-B78A4082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914400" y="503280"/>
            <a:ext cx="73137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5C024-05BE-4583-8730-CBA5A43F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6D50E-CB1A-4685-911A-1AF2D083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FA1E-8275-4450-BDEB-2B12B0F3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A31F9-9230-41E1-B668-A0EE8178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7298B-FA5C-411F-9D3A-61056C29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7CE53-D141-421A-84C1-93A177F0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EB5A6-1B47-47E8-A21C-9A8E6742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8724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86008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91440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8724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86008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A6678-8F96-4BF1-A625-D6F7C00F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661DA-4F8E-495D-BB65-749AD472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D116D-BB2F-41EA-8655-BD1C7863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FAB24-E149-4539-A217-D7BAEA07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2D878-8728-446B-8D5C-38A63F01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13503-F606-4657-8528-F0C4401D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1E47-FA25-4AD5-B243-EABA4C54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503280"/>
            <a:ext cx="73137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47E1B-0076-4A9A-998B-E573F877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A3986-1BD0-4060-8C8E-DC9BC544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74105-B1E2-4E93-9B20-AF3AB26A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DBBAA-6BD2-4FB8-A6BA-57760EC3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F9DAD-B214-4965-8B1E-65B520F5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F3E1A-D76B-4C4E-BCA7-49BBB575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8724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86008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8724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86008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4DEDB-481F-4F56-8A9F-7348D04C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16CBA-F5B1-4FA3-A891-026AE228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F6BB6-A4E4-4B51-BF0D-8237BB42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416EE-923A-4AA8-A11E-62F26C6B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21.xml"/><Relationship Id="rId13" Type="http://schemas.openxmlformats.org/officeDocument/2006/relationships/slideLayout" Target="../slideLayouts/slideLayout122.xml"/><Relationship Id="rId14" Type="http://schemas.openxmlformats.org/officeDocument/2006/relationships/slideLayout" Target="../slideLayouts/slideLayout123.xml"/><Relationship Id="rId15" Type="http://schemas.openxmlformats.org/officeDocument/2006/relationships/slideLayout" Target="../slideLayouts/slideLayout124.xml"/><Relationship Id="rId16" Type="http://schemas.openxmlformats.org/officeDocument/2006/relationships/slideLayout" Target="../slideLayouts/slideLayout125.xml"/><Relationship Id="rId17" Type="http://schemas.openxmlformats.org/officeDocument/2006/relationships/slideLayout" Target="../slideLayouts/slideLayout126.xml"/><Relationship Id="rId18" Type="http://schemas.openxmlformats.org/officeDocument/2006/relationships/slideLayout" Target="../slideLayouts/slideLayout127.xml"/><Relationship Id="rId19" Type="http://schemas.openxmlformats.org/officeDocument/2006/relationships/slideLayout" Target="../slideLayouts/slideLayout128.xml"/><Relationship Id="rId20" Type="http://schemas.openxmlformats.org/officeDocument/2006/relationships/slideLayout" Target="../slideLayouts/slideLayout129.xml"/><Relationship Id="rId21" Type="http://schemas.openxmlformats.org/officeDocument/2006/relationships/slideLayout" Target="../slideLayouts/slideLayout130.xml"/><Relationship Id="rId22" Type="http://schemas.openxmlformats.org/officeDocument/2006/relationships/slideLayout" Target="../slideLayouts/slideLayout131.xml"/><Relationship Id="rId2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73.xml"/><Relationship Id="rId15" Type="http://schemas.openxmlformats.org/officeDocument/2006/relationships/slideLayout" Target="../slideLayouts/slideLayout74.xml"/><Relationship Id="rId16" Type="http://schemas.openxmlformats.org/officeDocument/2006/relationships/slideLayout" Target="../slideLayouts/slideLayout75.xml"/><Relationship Id="rId17" Type="http://schemas.openxmlformats.org/officeDocument/2006/relationships/slideLayout" Target="../slideLayouts/slideLayout76.xml"/><Relationship Id="rId18" Type="http://schemas.openxmlformats.org/officeDocument/2006/relationships/slideLayout" Target="../slideLayouts/slideLayout77.xml"/><Relationship Id="rId19" Type="http://schemas.openxmlformats.org/officeDocument/2006/relationships/slideLayout" Target="../slideLayouts/slideLayout78.xml"/><Relationship Id="rId20" Type="http://schemas.openxmlformats.org/officeDocument/2006/relationships/slideLayout" Target="../slideLayouts/slideLayout79.xml"/><Relationship Id="rId21" Type="http://schemas.openxmlformats.org/officeDocument/2006/relationships/slideLayout" Target="../slideLayouts/slideLayout80.xml"/><Relationship Id="rId22" Type="http://schemas.openxmlformats.org/officeDocument/2006/relationships/slideLayout" Target="../slideLayouts/slideLayout81.xml"/><Relationship Id="rId23" Type="http://schemas.openxmlformats.org/officeDocument/2006/relationships/slideLayout" Target="../slideLayouts/slideLayout82.xml"/><Relationship Id="rId24" Type="http://schemas.openxmlformats.org/officeDocument/2006/relationships/slideLayout" Target="../slideLayouts/slideLayout83.xml"/><Relationship Id="rId2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97.xml"/><Relationship Id="rId13" Type="http://schemas.openxmlformats.org/officeDocument/2006/relationships/slideLayout" Target="../slideLayouts/slideLayout98.xml"/><Relationship Id="rId14" Type="http://schemas.openxmlformats.org/officeDocument/2006/relationships/slideLayout" Target="../slideLayouts/slideLayout99.xml"/><Relationship Id="rId15" Type="http://schemas.openxmlformats.org/officeDocument/2006/relationships/slideLayout" Target="../slideLayouts/slideLayout100.xml"/><Relationship Id="rId16" Type="http://schemas.openxmlformats.org/officeDocument/2006/relationships/slideLayout" Target="../slideLayouts/slideLayout101.xml"/><Relationship Id="rId17" Type="http://schemas.openxmlformats.org/officeDocument/2006/relationships/slideLayout" Target="../slideLayouts/slideLayout102.xml"/><Relationship Id="rId18" Type="http://schemas.openxmlformats.org/officeDocument/2006/relationships/slideLayout" Target="../slideLayouts/slideLayout103.xml"/><Relationship Id="rId19" Type="http://schemas.openxmlformats.org/officeDocument/2006/relationships/slideLayout" Target="../slideLayouts/slideLayout104.xml"/><Relationship Id="rId20" Type="http://schemas.openxmlformats.org/officeDocument/2006/relationships/slideLayout" Target="../slideLayouts/slideLayout105.xml"/><Relationship Id="rId21" Type="http://schemas.openxmlformats.org/officeDocument/2006/relationships/slideLayout" Target="../slideLayouts/slideLayout106.xml"/><Relationship Id="rId22" Type="http://schemas.openxmlformats.org/officeDocument/2006/relationships/slideLayout" Target="../slideLayouts/slideLayout107.xml"/><Relationship Id="rId2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9640" indent="-44964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886680" indent="-44316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2" marL="1217880" indent="-33084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3" marL="1548720" indent="-33084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4" marL="1879920" indent="-33084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5" marL="1879920" indent="-330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6" marL="1879920" indent="-330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62960" y="6315120"/>
            <a:ext cx="12952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43080" y="630504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21120" y="5476680"/>
            <a:ext cx="1482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2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0D167-2BE6-48DB-905D-4AD1EFDDFC16}" type="slidenum">
              <a:rPr b="0" lang="en-US" sz="8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8"/>
          <p:cNvGrpSpPr/>
          <p:nvPr/>
        </p:nvGrpSpPr>
        <p:grpSpPr>
          <a:xfrm>
            <a:off x="2058480" y="376920"/>
            <a:ext cx="5033160" cy="3450600"/>
            <a:chOff x="2058480" y="376920"/>
            <a:chExt cx="5033160" cy="3450600"/>
          </a:xfrm>
        </p:grpSpPr>
        <p:sp>
          <p:nvSpPr>
            <p:cNvPr id="394" name="Rectangle 7"/>
            <p:cNvSpPr/>
            <p:nvPr/>
          </p:nvSpPr>
          <p:spPr>
            <a:xfrm rot="232200">
              <a:off x="2168280" y="535680"/>
              <a:ext cx="4813200" cy="3123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oudy Old Style"/>
              </a:endParaRPr>
            </a:p>
          </p:txBody>
        </p:sp>
        <p:grpSp>
          <p:nvGrpSpPr>
            <p:cNvPr id="395" name="Rectangle 8"/>
            <p:cNvGrpSpPr/>
            <p:nvPr/>
          </p:nvGrpSpPr>
          <p:grpSpPr>
            <a:xfrm>
              <a:off x="2058480" y="377280"/>
              <a:ext cx="5033160" cy="3450240"/>
              <a:chOff x="2058480" y="377280"/>
              <a:chExt cx="5033160" cy="3450240"/>
            </a:xfrm>
          </p:grpSpPr>
          <p:pic>
            <p:nvPicPr>
              <p:cNvPr id="396" name="Rectangle 8" descr="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2058480" y="379080"/>
                <a:ext cx="5032440" cy="344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 rot="231600">
                <a:off x="2168280" y="536040"/>
                <a:ext cx="4813200" cy="313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oudy Old Style"/>
                </a:endParaRPr>
              </a:p>
            </p:txBody>
          </p:sp>
        </p:grp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9640" indent="-44964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886680" indent="-44316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2" marL="1217880" indent="-33084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3" marL="1548720" indent="-33084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4" marL="1879920" indent="-330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5" marL="1879920" indent="-330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6" marL="1879920" indent="-33084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7662960" y="6315120"/>
            <a:ext cx="12952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943080" y="630504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7521120" y="5476680"/>
            <a:ext cx="1482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2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46836-B697-4BCB-9F16-CD7A137F99BD}" type="slidenum">
              <a:rPr b="0" lang="en-US" sz="8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13"/>
          <p:cNvGrpSpPr/>
          <p:nvPr/>
        </p:nvGrpSpPr>
        <p:grpSpPr>
          <a:xfrm>
            <a:off x="114480" y="115920"/>
            <a:ext cx="3968640" cy="3705120"/>
            <a:chOff x="114480" y="115920"/>
            <a:chExt cx="3968640" cy="3705120"/>
          </a:xfrm>
        </p:grpSpPr>
        <p:sp>
          <p:nvSpPr>
            <p:cNvPr id="440" name="Rectangle 7"/>
            <p:cNvSpPr/>
            <p:nvPr/>
          </p:nvSpPr>
          <p:spPr>
            <a:xfrm rot="21420000">
              <a:off x="210600" y="219600"/>
              <a:ext cx="3777840" cy="348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oudy Old Style"/>
              </a:endParaRPr>
            </a:p>
          </p:txBody>
        </p:sp>
        <p:grpSp>
          <p:nvGrpSpPr>
            <p:cNvPr id="441" name="Rectangle 8"/>
            <p:cNvGrpSpPr/>
            <p:nvPr/>
          </p:nvGrpSpPr>
          <p:grpSpPr>
            <a:xfrm>
              <a:off x="114480" y="115920"/>
              <a:ext cx="3968640" cy="3705120"/>
              <a:chOff x="114480" y="115920"/>
              <a:chExt cx="3968640" cy="3705120"/>
            </a:xfrm>
          </p:grpSpPr>
          <p:pic>
            <p:nvPicPr>
              <p:cNvPr id="44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480" y="115920"/>
                <a:ext cx="3968640" cy="37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 rot="21420000">
                <a:off x="210960" y="219600"/>
                <a:ext cx="3777840" cy="349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oudy Old Style"/>
                </a:endParaRPr>
              </a:p>
            </p:txBody>
          </p:sp>
        </p:grpSp>
      </p:grpSp>
      <p:grpSp>
        <p:nvGrpSpPr>
          <p:cNvPr id="444" name="Group 9"/>
          <p:cNvGrpSpPr/>
          <p:nvPr/>
        </p:nvGrpSpPr>
        <p:grpSpPr>
          <a:xfrm>
            <a:off x="4165560" y="317160"/>
            <a:ext cx="4792680" cy="3461400"/>
            <a:chOff x="4165560" y="317160"/>
            <a:chExt cx="4792680" cy="3461400"/>
          </a:xfrm>
        </p:grpSpPr>
        <p:sp>
          <p:nvSpPr>
            <p:cNvPr id="445" name="Rectangle 10"/>
            <p:cNvSpPr/>
            <p:nvPr/>
          </p:nvSpPr>
          <p:spPr>
            <a:xfrm rot="360000">
              <a:off x="4326480" y="542520"/>
              <a:ext cx="4469760" cy="300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oudy Old Style"/>
              </a:endParaRPr>
            </a:p>
          </p:txBody>
        </p:sp>
        <p:grpSp>
          <p:nvGrpSpPr>
            <p:cNvPr id="446" name="Rectangle 11"/>
            <p:cNvGrpSpPr/>
            <p:nvPr/>
          </p:nvGrpSpPr>
          <p:grpSpPr>
            <a:xfrm>
              <a:off x="4165560" y="317160"/>
              <a:ext cx="4792680" cy="3461400"/>
              <a:chOff x="4165560" y="317160"/>
              <a:chExt cx="4792680" cy="3461400"/>
            </a:xfrm>
          </p:grpSpPr>
          <p:pic>
            <p:nvPicPr>
              <p:cNvPr id="447" name="Rectangl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4165560" y="324000"/>
                <a:ext cx="4792680" cy="344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360000">
                <a:off x="4326120" y="542520"/>
                <a:ext cx="4469760" cy="30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oudy Old Style"/>
                </a:endParaRPr>
              </a:p>
            </p:txBody>
          </p:sp>
        </p:grp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9640" indent="-44964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886680" indent="-44316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2" marL="1217880" indent="-33084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3" marL="1548720" indent="-330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4" marL="1879920" indent="-330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5" marL="1879920" indent="-33084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6" marL="1879920" indent="-33084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7662960" y="6315120"/>
            <a:ext cx="12952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943080" y="630504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7521120" y="5476680"/>
            <a:ext cx="1482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2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D29CD-8DFE-4048-951D-E866E80B02F2}" type="slidenum">
              <a:rPr b="0" lang="en-US" sz="8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2"/>
    <p:sldLayoutId id="2147483780" r:id="rId13"/>
    <p:sldLayoutId id="2147483781" r:id="rId14"/>
    <p:sldLayoutId id="2147483782" r:id="rId15"/>
    <p:sldLayoutId id="2147483783" r:id="rId16"/>
    <p:sldLayoutId id="2147483784" r:id="rId17"/>
    <p:sldLayoutId id="2147483785" r:id="rId18"/>
    <p:sldLayoutId id="2147483786" r:id="rId19"/>
    <p:sldLayoutId id="2147483787" r:id="rId20"/>
    <p:sldLayoutId id="2147483788" r:id="rId21"/>
    <p:sldLayoutId id="2147483789" r:id="rId22"/>
    <p:sldLayoutId id="214748379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9640" indent="-44964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886680" indent="-44316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2" marL="1217880" indent="-33084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3" marL="1548720" indent="-33084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4" marL="1879920" indent="-33084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5" marL="1879920" indent="-330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6" marL="1879920" indent="-330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00360"/>
            <a:ext cx="19843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959280" y="6300360"/>
            <a:ext cx="38131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75320" y="6300360"/>
            <a:ext cx="6858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FBF35-BB87-4D89-9FEC-ABA9B6448F4E}" type="slidenum">
              <a:rPr b="0" lang="en-US" sz="1100" spc="-1" strike="noStrike">
                <a:solidFill>
                  <a:srgbClr val="000000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9640" indent="-44964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886680" indent="-44316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2" marL="1217880" indent="-33084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3" marL="1548720" indent="-33084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4" marL="1879920" indent="-33084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5" marL="1879920" indent="-330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6" marL="1879920" indent="-330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99280"/>
            <a:ext cx="1981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962160" y="6299280"/>
            <a:ext cx="38098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264160" y="6311880"/>
            <a:ext cx="6858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0D523D-8165-4E08-9CAB-169987383E3B}" type="slidenum">
              <a:rPr b="0" lang="en-US" sz="1100" spc="-1" strike="noStrike">
                <a:solidFill>
                  <a:srgbClr val="000000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9640" indent="-44964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886680" indent="-44316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2" marL="1217880" indent="-33084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3" marL="1548720" indent="-33084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4" marL="1879920" indent="-33084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5" marL="1879920" indent="-330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6" marL="1879920" indent="-330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662960" y="6315120"/>
            <a:ext cx="12952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943080" y="630504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521120" y="5476680"/>
            <a:ext cx="1482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2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C57C2-AF07-4A84-8E8E-17859DAE9665}" type="slidenum">
              <a:rPr b="0" lang="en-US" sz="8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9640" indent="-44964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886680" indent="-44316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2" marL="1217880" indent="-33084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3" marL="1548720" indent="-33084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4" marL="1879920" indent="-33084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5" marL="1879920" indent="-330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6" marL="1879920" indent="-330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662960" y="6315120"/>
            <a:ext cx="12952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943080" y="630504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521120" y="5476680"/>
            <a:ext cx="1482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2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E33DA-DEF2-479B-9A10-CEE89EBDEC8C}" type="slidenum">
              <a:rPr b="0" lang="en-US" sz="8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8"/>
          <p:cNvGrpSpPr/>
          <p:nvPr/>
        </p:nvGrpSpPr>
        <p:grpSpPr>
          <a:xfrm>
            <a:off x="654120" y="430920"/>
            <a:ext cx="5416560" cy="3660480"/>
            <a:chOff x="654120" y="430920"/>
            <a:chExt cx="5416560" cy="3660480"/>
          </a:xfrm>
        </p:grpSpPr>
        <p:sp>
          <p:nvSpPr>
            <p:cNvPr id="206" name="Rectangle 7"/>
            <p:cNvSpPr/>
            <p:nvPr/>
          </p:nvSpPr>
          <p:spPr>
            <a:xfrm rot="21240000">
              <a:off x="820800" y="687960"/>
              <a:ext cx="5076720" cy="3138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oudy Old Style"/>
              </a:endParaRPr>
            </a:p>
          </p:txBody>
        </p:sp>
        <p:grpSp>
          <p:nvGrpSpPr>
            <p:cNvPr id="207" name="Rectangle 8"/>
            <p:cNvGrpSpPr/>
            <p:nvPr/>
          </p:nvGrpSpPr>
          <p:grpSpPr>
            <a:xfrm>
              <a:off x="654120" y="430920"/>
              <a:ext cx="5416560" cy="3660480"/>
              <a:chOff x="654120" y="430920"/>
              <a:chExt cx="5416560" cy="3660480"/>
            </a:xfrm>
          </p:grpSpPr>
          <p:pic>
            <p:nvPicPr>
              <p:cNvPr id="208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654120" y="444600"/>
                <a:ext cx="5416560" cy="363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240000">
                <a:off x="821520" y="687600"/>
                <a:ext cx="5076720" cy="314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oudy Old Style"/>
                </a:endParaRPr>
              </a:p>
            </p:txBody>
          </p:sp>
        </p:grp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9640" indent="-44964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886680" indent="-44316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2" marL="1217880" indent="-33084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3" marL="1548720" indent="-33084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4" marL="1879920" indent="-330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5" marL="1879920" indent="-330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6" marL="1879920" indent="-33084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7662960" y="6315120"/>
            <a:ext cx="12952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943080" y="630504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7521120" y="5476680"/>
            <a:ext cx="1482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2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66052-3D5D-4677-80A3-F92EE5B2BB51}" type="slidenum">
              <a:rPr b="0" lang="en-US" sz="8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Comparison-Underline.png"/>
          <p:cNvPicPr/>
          <p:nvPr/>
        </p:nvPicPr>
        <p:blipFill>
          <a:blip r:embed="rId3"/>
          <a:stretch/>
        </p:blipFill>
        <p:spPr>
          <a:xfrm>
            <a:off x="957240" y="1897200"/>
            <a:ext cx="3228840" cy="1425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Comparison-Underline.png"/>
          <p:cNvPicPr/>
          <p:nvPr/>
        </p:nvPicPr>
        <p:blipFill>
          <a:blip r:embed="rId4"/>
          <a:stretch/>
        </p:blipFill>
        <p:spPr>
          <a:xfrm>
            <a:off x="4916520" y="1897200"/>
            <a:ext cx="3228840" cy="142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Comparison-Underline.png"/>
          <p:cNvPicPr/>
          <p:nvPr/>
        </p:nvPicPr>
        <p:blipFill>
          <a:blip r:embed="rId5"/>
          <a:stretch/>
        </p:blipFill>
        <p:spPr>
          <a:xfrm>
            <a:off x="957240" y="1897200"/>
            <a:ext cx="3228840" cy="142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Comparison-Underline.png"/>
          <p:cNvPicPr/>
          <p:nvPr/>
        </p:nvPicPr>
        <p:blipFill>
          <a:blip r:embed="rId6"/>
          <a:stretch/>
        </p:blipFill>
        <p:spPr>
          <a:xfrm>
            <a:off x="4916520" y="1897200"/>
            <a:ext cx="3228840" cy="142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9640" indent="-44964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886680" indent="-44316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2" marL="1217880" indent="-330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3" marL="1548720" indent="-33084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4" marL="1879920" indent="-33084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5" marL="1879920" indent="-330840">
              <a:spcBef>
                <a:spcPts val="20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6" marL="1879920" indent="-330840">
              <a:spcBef>
                <a:spcPts val="20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7662960" y="6315120"/>
            <a:ext cx="12952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943080" y="630504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521120" y="5476680"/>
            <a:ext cx="1482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2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FD195-A86B-47CF-9ECC-73B9E85A238D}" type="slidenum">
              <a:rPr b="0" lang="en-US" sz="8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4"/>
    <p:sldLayoutId id="2147483728" r:id="rId15"/>
    <p:sldLayoutId id="2147483729" r:id="rId16"/>
    <p:sldLayoutId id="2147483730" r:id="rId17"/>
    <p:sldLayoutId id="2147483731" r:id="rId18"/>
    <p:sldLayoutId id="2147483732" r:id="rId19"/>
    <p:sldLayoutId id="2147483733" r:id="rId20"/>
    <p:sldLayoutId id="2147483734" r:id="rId21"/>
    <p:sldLayoutId id="2147483735" r:id="rId22"/>
    <p:sldLayoutId id="2147483736" r:id="rId23"/>
    <p:sldLayoutId id="2147483737" r:id="rId24"/>
    <p:sldLayoutId id="2147483738" r:id="rId2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7"/>
          <p:cNvGrpSpPr/>
          <p:nvPr/>
        </p:nvGrpSpPr>
        <p:grpSpPr>
          <a:xfrm>
            <a:off x="628200" y="506160"/>
            <a:ext cx="3852360" cy="5515560"/>
            <a:chOff x="628200" y="506160"/>
            <a:chExt cx="3852360" cy="5515560"/>
          </a:xfrm>
        </p:grpSpPr>
        <p:sp>
          <p:nvSpPr>
            <p:cNvPr id="297" name="Rectangle 7"/>
            <p:cNvSpPr/>
            <p:nvPr/>
          </p:nvSpPr>
          <p:spPr>
            <a:xfrm rot="21421200">
              <a:off x="764640" y="605520"/>
              <a:ext cx="3578040" cy="529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oudy Old Style"/>
              </a:endParaRPr>
            </a:p>
          </p:txBody>
        </p:sp>
        <p:grpSp>
          <p:nvGrpSpPr>
            <p:cNvPr id="298" name="Rectangle 8"/>
            <p:cNvGrpSpPr/>
            <p:nvPr/>
          </p:nvGrpSpPr>
          <p:grpSpPr>
            <a:xfrm>
              <a:off x="628200" y="506160"/>
              <a:ext cx="3852360" cy="5515560"/>
              <a:chOff x="628200" y="506160"/>
              <a:chExt cx="3852360" cy="5515560"/>
            </a:xfrm>
          </p:grpSpPr>
          <p:pic>
            <p:nvPicPr>
              <p:cNvPr id="299" name="Rectangle 8" descr="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628560" y="506520"/>
                <a:ext cx="3851280" cy="551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21200">
                <a:off x="765000" y="605880"/>
                <a:ext cx="3578040" cy="531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oudy Old Style"/>
                </a:endParaRPr>
              </a:p>
            </p:txBody>
          </p:sp>
        </p:grp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9640" indent="-44964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886680" indent="-44316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2" marL="1217880" indent="-33084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3" marL="1548720" indent="-33084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4" marL="1879920" indent="-330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5" marL="1879920" indent="-330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6" marL="1879920" indent="-33084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7662960" y="6315120"/>
            <a:ext cx="12952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943080" y="630504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7521120" y="5476680"/>
            <a:ext cx="1482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2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630974-AA66-4577-A6EE-C0312C4386F6}" type="slidenum">
              <a:rPr b="0" lang="en-US" sz="8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13"/>
          <p:cNvGrpSpPr/>
          <p:nvPr/>
        </p:nvGrpSpPr>
        <p:grpSpPr>
          <a:xfrm>
            <a:off x="312480" y="3511440"/>
            <a:ext cx="4089600" cy="3043080"/>
            <a:chOff x="312480" y="3511440"/>
            <a:chExt cx="4089600" cy="3043080"/>
          </a:xfrm>
        </p:grpSpPr>
        <p:sp>
          <p:nvSpPr>
            <p:cNvPr id="343" name="Rectangle 7"/>
            <p:cNvSpPr/>
            <p:nvPr/>
          </p:nvSpPr>
          <p:spPr>
            <a:xfrm rot="21214200">
              <a:off x="461160" y="3714840"/>
              <a:ext cx="3787920" cy="2627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oudy Old Style"/>
              </a:endParaRPr>
            </a:p>
          </p:txBody>
        </p:sp>
        <p:grpSp>
          <p:nvGrpSpPr>
            <p:cNvPr id="344" name="Rectangle 8"/>
            <p:cNvGrpSpPr/>
            <p:nvPr/>
          </p:nvGrpSpPr>
          <p:grpSpPr>
            <a:xfrm>
              <a:off x="312480" y="3511800"/>
              <a:ext cx="4089600" cy="3042720"/>
              <a:chOff x="312480" y="3511800"/>
              <a:chExt cx="4089600" cy="3042720"/>
            </a:xfrm>
          </p:grpSpPr>
          <p:pic>
            <p:nvPicPr>
              <p:cNvPr id="345" name="Rectangle 8" descr="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312480" y="3521160"/>
                <a:ext cx="4089240" cy="302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 rot="21214200">
                <a:off x="461520" y="3715200"/>
                <a:ext cx="3787920" cy="263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oudy Old Style"/>
                </a:endParaRPr>
              </a:p>
            </p:txBody>
          </p:sp>
        </p:grpSp>
      </p:grpSp>
      <p:grpSp>
        <p:nvGrpSpPr>
          <p:cNvPr id="347" name="Group 9"/>
          <p:cNvGrpSpPr/>
          <p:nvPr/>
        </p:nvGrpSpPr>
        <p:grpSpPr>
          <a:xfrm>
            <a:off x="169920" y="240840"/>
            <a:ext cx="4088160" cy="3026520"/>
            <a:chOff x="169920" y="240840"/>
            <a:chExt cx="4088160" cy="3026520"/>
          </a:xfrm>
        </p:grpSpPr>
        <p:sp>
          <p:nvSpPr>
            <p:cNvPr id="348" name="Rectangle 10"/>
            <p:cNvSpPr/>
            <p:nvPr/>
          </p:nvSpPr>
          <p:spPr>
            <a:xfrm rot="232200">
              <a:off x="267480" y="372240"/>
              <a:ext cx="3894120" cy="2758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oudy Old Style"/>
              </a:endParaRPr>
            </a:p>
          </p:txBody>
        </p:sp>
        <p:grpSp>
          <p:nvGrpSpPr>
            <p:cNvPr id="349" name="Rectangle 11"/>
            <p:cNvGrpSpPr/>
            <p:nvPr/>
          </p:nvGrpSpPr>
          <p:grpSpPr>
            <a:xfrm>
              <a:off x="169920" y="240840"/>
              <a:ext cx="4088160" cy="3026520"/>
              <a:chOff x="169920" y="240840"/>
              <a:chExt cx="4088160" cy="3026520"/>
            </a:xfrm>
          </p:grpSpPr>
          <p:pic>
            <p:nvPicPr>
              <p:cNvPr id="350" name="Rectangle 11" descr=""/>
              <p:cNvPicPr/>
              <p:nvPr/>
            </p:nvPicPr>
            <p:blipFill>
              <a:blip r:embed="rId4"/>
              <a:stretch/>
            </p:blipFill>
            <p:spPr>
              <a:xfrm rot="21599400">
                <a:off x="169920" y="241200"/>
                <a:ext cx="4087800" cy="302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"/>
              <p:cNvSpPr/>
              <p:nvPr/>
            </p:nvSpPr>
            <p:spPr>
              <a:xfrm rot="231600">
                <a:off x="267120" y="372600"/>
                <a:ext cx="3894120" cy="276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oudy Old Style"/>
                </a:endParaRPr>
              </a:p>
            </p:txBody>
          </p:sp>
        </p:grp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9640" indent="-44964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886680" indent="-44316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2" marL="1217880" indent="-33084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3" marL="1548720" indent="-330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4" marL="1879920" indent="-330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5" marL="1879920" indent="-33084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6" marL="1879920" indent="-33084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7662960" y="6315120"/>
            <a:ext cx="12952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3943080" y="630504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7521120" y="5476680"/>
            <a:ext cx="1482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2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6B767-4A28-41A9-A19B-A206C8F1244F}" type="slidenum">
              <a:rPr b="0" lang="en-US" sz="8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2"/>
    <p:sldLayoutId id="2147483754" r:id="rId13"/>
    <p:sldLayoutId id="2147483755" r:id="rId14"/>
    <p:sldLayoutId id="2147483756" r:id="rId15"/>
    <p:sldLayoutId id="2147483757" r:id="rId16"/>
    <p:sldLayoutId id="2147483758" r:id="rId17"/>
    <p:sldLayoutId id="2147483759" r:id="rId18"/>
    <p:sldLayoutId id="2147483760" r:id="rId19"/>
    <p:sldLayoutId id="2147483761" r:id="rId20"/>
    <p:sldLayoutId id="2147483762" r:id="rId21"/>
    <p:sldLayoutId id="2147483763" r:id="rId22"/>
    <p:sldLayoutId id="2147483764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4" descr="LCorp_W_logo"/>
          <p:cNvPicPr/>
          <p:nvPr/>
        </p:nvPicPr>
        <p:blipFill>
          <a:blip r:embed="rId1"/>
          <a:stretch/>
        </p:blipFill>
        <p:spPr>
          <a:xfrm>
            <a:off x="1177920" y="2525760"/>
            <a:ext cx="67867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05040" y="6149880"/>
            <a:ext cx="7076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Do All These Folks Have in Common?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668600" y="1647360"/>
            <a:ext cx="3566880" cy="37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Boniface 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David Brainerd 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John and Charles Wesley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Samuel Mills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Annie Armstrong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Lott Carey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Robert Raikes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Bishop William White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5401800" y="1647360"/>
            <a:ext cx="3567240" cy="37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Hudson Taylor 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Apostle Paul 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Cameron Townsend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Adoniram Judson 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Luther Rice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Jim Elliot 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William Carey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Stephen Paxson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1830240" y="2004480"/>
            <a:ext cx="7313760" cy="37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lnSpc>
                <a:spcPct val="9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What might a Sunday School class or small group look like if it demonstrated the seven elements found in Transformational Church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issionary Mentality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ibrant Leadership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lational Intentionality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ayerful Dependence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orship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mmunity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ission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830240" y="1653840"/>
            <a:ext cx="7313760" cy="416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does it mean to live your life on mission? 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y is it important for Sunday School to be on mission? 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might a Sunday School look like if it saw itself as a missionary enterprise: thinking and acting out of a missionary mindset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1422360" y="2192400"/>
            <a:ext cx="7313760" cy="38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One Mission that runs throughout the incredible story of the Sunday School movement is transformation (personal, church-wide, and cultural).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tack pole for the missionary Sunday School is His Story. The textbook is the Bible.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very person at every age and stage of life should study the Bible for all of his or her life. 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45680" y="6048000"/>
            <a:ext cx="635004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One Mission: Transforma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830240" y="1335240"/>
            <a:ext cx="731376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re Than A Program—From Social Gospel to Social Evangelis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pages 8-11)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Missionary Valley Enterprise—A Horse Named Robert Raik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pages 12-15)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ooks and Libraries—From History to His Sto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pages 15-20). 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601812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Road to Missions</a:t>
            </a:r>
            <a:endParaRPr b="0" lang="en-US" sz="3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830240" y="148068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lnSpc>
                <a:spcPct val="9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Step 1: Utilize Bible study to equip the missionaries.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9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Step 2: Provide basic training to help the appointees to acknowledge, affirm, and embrace their identities as missionaries.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9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Step 3: Equip the missionaries to communicate the Bible—His Story—in the language of the people being reached (youth in this case and different youth people groups).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9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Step 4: Develop a Bible study plan for all of life (LifeSpan).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-74880" y="6048360"/>
            <a:ext cx="7313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vangelism vs. Nurture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92240" y="1418760"/>
            <a:ext cx="320040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Open Groups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019160" y="2174760"/>
            <a:ext cx="356544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systematic study plan that engages students in the whole message of the Bible</a:t>
            </a:r>
            <a:endParaRPr b="0" lang="en-US" sz="17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open to both lost and saved students as well as students who may be inconsistent in attendance</a:t>
            </a:r>
            <a:endParaRPr b="0" lang="en-US" sz="17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ongoing Bible study plan</a:t>
            </a:r>
            <a:endParaRPr b="0" lang="en-US" sz="17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low level of commitment and accountability</a:t>
            </a:r>
            <a:endParaRPr b="0" lang="en-US" sz="17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foundational discipleship </a:t>
            </a:r>
            <a:endParaRPr b="0" lang="en-US" sz="17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51520" y="1418760"/>
            <a:ext cx="320040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D-Groups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766760" y="2174760"/>
            <a:ext cx="356724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Specific study plan that addresses important discipleship emphases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designed more for the saved and growing student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short term Bible study plan that lasts 4-8 weeks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high level of commitment and accountability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advanced discipleship 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93840" y="1943280"/>
            <a:ext cx="6950160" cy="397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ffffff"/>
                </a:solidFill>
                <a:latin typeface="Arial"/>
                <a:ea typeface="Arial"/>
              </a:rPr>
              <a:t>Ignite your Sunday School for: </a:t>
            </a:r>
            <a:br>
              <a:rPr sz="4600"/>
            </a:br>
            <a:br>
              <a:rPr sz="4600"/>
            </a:br>
            <a:r>
              <a:rPr b="0" i="1" lang="en-US" sz="4600" spc="-1" strike="noStrike">
                <a:solidFill>
                  <a:srgbClr val="ffffff"/>
                </a:solidFill>
                <a:latin typeface="Arial"/>
                <a:ea typeface="Arial"/>
              </a:rPr>
              <a:t>One Mission</a:t>
            </a:r>
            <a:br>
              <a:rPr sz="4600"/>
            </a:br>
            <a:r>
              <a:rPr b="0" i="1" lang="en-US" sz="4600" spc="-1" strike="noStrike">
                <a:solidFill>
                  <a:srgbClr val="ffffff"/>
                </a:solidFill>
                <a:latin typeface="Arial"/>
                <a:ea typeface="Arial"/>
              </a:rPr>
              <a:t>   Fueled by His Story</a:t>
            </a:r>
            <a:br>
              <a:rPr sz="4600"/>
            </a:br>
            <a:r>
              <a:rPr b="0" i="1" lang="en-US" sz="4600" spc="-1" strike="noStrike">
                <a:solidFill>
                  <a:srgbClr val="ffffff"/>
                </a:solidFill>
                <a:latin typeface="Arial"/>
                <a:ea typeface="Arial"/>
              </a:rPr>
              <a:t>    Concerned about  </a:t>
            </a:r>
            <a:br>
              <a:rPr sz="4600"/>
            </a:br>
            <a:r>
              <a:rPr b="0" i="1" lang="en-US" sz="4600" spc="-1" strike="noStrike">
                <a:solidFill>
                  <a:srgbClr val="ffffff"/>
                </a:solidFill>
                <a:latin typeface="Arial"/>
                <a:ea typeface="Arial"/>
              </a:rPr>
              <a:t>         Every Person.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6:22:03Z</dcterms:created>
  <dc:creator>Dwayne Ulmer</dc:creator>
  <dc:description/>
  <dc:language>en-US</dc:language>
  <cp:lastModifiedBy>G. Dwayne McCrary</cp:lastModifiedBy>
  <dcterms:modified xsi:type="dcterms:W3CDTF">2011-12-02T12:46:28Z</dcterms:modified>
  <cp:revision>11</cp:revision>
  <dc:subject/>
  <dc:title>What Do All These Folks Have in Common</dc:title>
</cp:coreProperties>
</file>