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ECA-9D2D-4110-A6DE-D19F2D3A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057-7916-4728-8D86-329A001D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8FD-A7AF-46BB-8F56-B8AF4C16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1AA-F47A-4E5A-B7DF-19CDD970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05A-C5A9-4D0B-91EB-E1F36918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5D7-375A-4056-8EC1-939AE6B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8BC-AE4A-4993-B400-22A09F5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4D4-5667-4BC5-8291-C8437519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C3F-4B9C-4A9F-9CFE-7B83902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C0F-7FC3-472E-B37F-E0BAD8F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38A-C07D-4DF9-B99E-95914C6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1F7-26F7-45FE-9C45-3B1EEF9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40D-E100-497F-B8BC-CD4D248B1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304920"/>
            <a:ext cx="8839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ould you rate your tea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I Tend to Teach for: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nowledge            Understanding                 Application                Training missionari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5"/>
          <p:cNvSpPr/>
          <p:nvPr/>
        </p:nvSpPr>
        <p:spPr>
          <a:xfrm>
            <a:off x="457200" y="2209680"/>
            <a:ext cx="8458200" cy="6098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2" y="0"/>
                </a:lnTo>
                <a:lnTo>
                  <a:pt x="21600" y="10800"/>
                </a:lnTo>
                <a:lnTo>
                  <a:pt x="208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35053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steps do you ne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e in order to move further to the r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" y="2209680"/>
            <a:ext cx="845820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lecting on Your Adul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15998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2860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would you rate your class on the scale below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21337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rriculum Pl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172200" y="2133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o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hatever We Cho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28600" y="3657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steps do you need to take to improve (move closer to the left) the ratings you just gave your adult Sunday School grou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entagon 8"/>
          <p:cNvSpPr/>
          <p:nvPr/>
        </p:nvSpPr>
        <p:spPr>
          <a:xfrm rot="10800000">
            <a:off x="2285640" y="2208960"/>
            <a:ext cx="3886200" cy="3049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entagon 9"/>
          <p:cNvSpPr/>
          <p:nvPr/>
        </p:nvSpPr>
        <p:spPr>
          <a:xfrm rot="10800000">
            <a:off x="2285640" y="2590560"/>
            <a:ext cx="3886200" cy="304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entagon 10"/>
          <p:cNvSpPr/>
          <p:nvPr/>
        </p:nvSpPr>
        <p:spPr>
          <a:xfrm rot="10800000">
            <a:off x="2285640" y="2971440"/>
            <a:ext cx="3886200" cy="3049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1"/>
          <p:cNvSpPr/>
          <p:nvPr/>
        </p:nvSpPr>
        <p:spPr>
          <a:xfrm rot="10800000">
            <a:off x="2285640" y="2208960"/>
            <a:ext cx="38862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 rot="10800000">
            <a:off x="2285640" y="2590560"/>
            <a:ext cx="3886200" cy="304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 rot="10800000">
            <a:off x="2285640" y="2971440"/>
            <a:ext cx="38862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521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828800" y="175248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d has placed each of you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unique contexts and cultures to lead an Adult Sunday School group for the purpose of expanding His kingdom and developing disciples who become missiona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140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No one’s story is complete until it has intersected with His Story which happens best in a community being enriched by the stories of others.” </a:t>
            </a:r>
            <a:br>
              <a:rPr sz="3700"/>
            </a:b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2200" spc="-1" strike="noStrike">
                <a:solidFill>
                  <a:srgbClr val="632523"/>
                </a:solidFill>
                <a:latin typeface="Arial"/>
                <a:ea typeface="Arial"/>
              </a:rPr>
              <a:t>—Missionary Sunday School </a:t>
            </a:r>
            <a:r>
              <a:rPr b="1" lang="en-US" sz="2200" spc="-1" strike="noStrike">
                <a:solidFill>
                  <a:srgbClr val="632523"/>
                </a:solidFill>
                <a:latin typeface="Arial"/>
                <a:ea typeface="Arial"/>
              </a:rPr>
              <a:t>(p. 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ddition to God’s Word, one leader resource that I depend on for my preparation is: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Our Bible study groups u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earner Guide to: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Our best Bible study happens when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5120" y="20574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ake a nametag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to another person, telling them why you enjoy teaching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Get ready to go on a journey with the Missionary Sunday School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17521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hope is that this book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l be sufficient to motivate your class or group to want to start thinking like missionaries and to provide some ideas for beginning that exciting journey.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vid Fran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9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rcle words and phrases that indicate Philip was engaging in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ssionary activity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1523880"/>
            <a:ext cx="858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32523"/>
                </a:solidFill>
                <a:latin typeface="Arial"/>
                <a:ea typeface="Arial"/>
              </a:rPr>
              <a:t>Reliving an Exciting </a:t>
            </a:r>
            <a:br>
              <a:rPr sz="4400"/>
            </a:br>
            <a:r>
              <a:rPr b="1" i="1" lang="en-US" sz="4400" spc="-1" strike="noStrike">
                <a:solidFill>
                  <a:srgbClr val="632523"/>
                </a:solidFill>
                <a:latin typeface="Arial"/>
                <a:ea typeface="Arial"/>
              </a:rPr>
              <a:t>Missionary Momen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381400" y="3048120"/>
            <a:ext cx="48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ad Acts 8:26-40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5943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Questions from Acts 8:26-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perception of the Ethiopian eunuch in this sto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perception of Philip in this sto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 Philip’s actions motivate you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think more like a Sunday School missiona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es this encounter from Scriptur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able you to see Adult Sunday Schoo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more of a “movement” rather than a progra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623440" y="64641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99840" y="19051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ne Mission that runs through the remarkable history of the Sunday School movemen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 spiritual transformation, transformation of churches, an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ltural transformation in the communities surrounding them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issionary Sunday School, pages 6-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8623440" y="64897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523"/>
                </a:solidFill>
                <a:latin typeface="Arial"/>
                <a:ea typeface="Arial"/>
              </a:rPr>
              <a:t>Who are the Champions</a:t>
            </a:r>
            <a:br>
              <a:rPr sz="5400"/>
            </a:br>
            <a:r>
              <a:rPr b="1" lang="en-US" sz="5400" spc="-1" strike="noStrike">
                <a:solidFill>
                  <a:srgbClr val="632523"/>
                </a:solidFill>
                <a:latin typeface="Arial"/>
                <a:ea typeface="Arial"/>
              </a:rPr>
              <a:t>in Sunday School Histor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8623440" y="64641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828800" y="1371600"/>
            <a:ext cx="70102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) Robert Raikes (p. 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) Sunday School in Urban America-Bishop William Whi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.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) From Social Gospel to Social Evangelism (John Wesle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ississippi Valley Enterprise (Francis Scott Key), and Sunday School Missionaries (pp. 12-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) Fast Forward to Today: Motorcycle Sunday Schools, Sidewalk Sunday Schools &amp; More! (pp. 12-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5) Stephen Paxson: Sunday School Missionary (pp. 13-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6) Books and Libraries, Sunday to Weekday, and Schools to Churches (pp. 15-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7) the Sunday School Man (p. 17)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2:47Z</dcterms:created>
  <dc:creator>KEN LUPTON</dc:creator>
  <dc:description/>
  <dc:language>en-US</dc:language>
  <cp:lastModifiedBy>G. Dwayne McCrary</cp:lastModifiedBy>
  <dcterms:modified xsi:type="dcterms:W3CDTF">2011-12-02T12:45:26Z</dcterms:modified>
  <cp:revision>42</cp:revision>
  <dc:subject/>
  <dc:title>Slide 1</dc:title>
</cp:coreProperties>
</file>