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29.jpeg" ContentType="image/jpeg"/>
  <Override PartName="/ppt/media/image12.png" ContentType="image/png"/>
  <Override PartName="/ppt/media/image37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42.png" ContentType="image/png"/>
  <Override PartName="/ppt/media/image30.jpeg" ContentType="image/jpeg"/>
  <Override PartName="/ppt/media/image43.png" ContentType="image/png"/>
  <Override PartName="/ppt/media/image36.jpeg" ContentType="image/jpeg"/>
  <Override PartName="/ppt/media/image20.png" ContentType="image/png"/>
  <Override PartName="/ppt/media/image44.png" ContentType="image/png"/>
  <Override PartName="/ppt/media/image45.jpeg" ContentType="image/jpeg"/>
  <Override PartName="/ppt/media/image13.png" ContentType="image/png"/>
  <Override PartName="/ppt/media/image8.png" ContentType="image/png"/>
  <Override PartName="/ppt/media/image18.png" ContentType="image/png"/>
  <Override PartName="/ppt/media/image6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11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9369-14F1-43B8-B227-E2DB25012A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E41F-9798-4796-8363-977EB60C77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ormational Church Assess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</a:t>
            </a:r>
            <a:fld id="{D0D7602D-56F4-4EC8-B46E-B9EE344B0D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ormational Church Assess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</a:t>
            </a:r>
            <a:fld id="{0A50791D-C82B-4EE0-8E5C-1A113D05FF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ormational Church Assess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</a:t>
            </a:r>
            <a:fld id="{855E806D-ECD4-42C7-81F7-AF4B5E137F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7D24-AD76-4D63-83B8-EF13604FCD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0A96-E518-4918-8810-489D1E3075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B635-B588-4E46-980A-5394F86CEF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4C43-6C6B-4D56-9F33-FC894982EE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1568-DC1D-4398-B849-3A731B24BF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5BCE-A1DF-4BA2-B982-AA07394495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1A81-184E-42B9-BDAD-0ADC311612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8D89-0FF7-4DFE-BF57-DBF5FE41C3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ormational Church Assess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</a:t>
            </a:r>
            <a:fld id="{44D1422D-5826-48AE-8EE6-3C12CDCCC5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C805-D784-42D5-8560-522155476F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A829-49E0-4236-A15E-13E80DFC57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5B66-25BF-4593-AC11-0E8D5F7852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4B5A-C54E-453B-90DD-DB3BD3CE68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134E-D552-49B6-8F02-348697B387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1794-FD44-433E-9B80-371324E383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680C-D97D-4C0C-9E30-36EF916A0A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08E9-ED1A-4BA5-A659-9ACB1B6A9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4E2C-2A51-482B-A7CB-83DFEF20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F6D0-BFD1-4154-A277-F7E79E274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1334-3A48-4682-86CD-936554DBD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AE41-F699-47BA-90BC-187ADF62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7F5C-BFD7-44B2-A79B-6FE2D8E0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DAFC-C1AC-42D7-AE5E-103083C1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98C7-7659-47B0-AE0E-0AC74EB9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D41F-FBE5-4416-A6E2-63A2DCC5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476F-08F2-4F2A-AA95-99C57C26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3764-A59B-4490-BC8B-A72336A0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0157-8389-4C6E-A984-9DE04D63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3ED1-4797-40E4-87F1-C27FDC4E06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27.png"/><Relationship Id="rId19" Type="http://schemas.openxmlformats.org/officeDocument/2006/relationships/image" Target="../media/image27.png"/><Relationship Id="rId20" Type="http://schemas.openxmlformats.org/officeDocument/2006/relationships/image" Target="../media/image28.png"/><Relationship Id="rId2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5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2.png"/><Relationship Id="rId3" Type="http://schemas.openxmlformats.org/officeDocument/2006/relationships/image" Target="../media/image40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3.png"/><Relationship Id="rId3" Type="http://schemas.openxmlformats.org/officeDocument/2006/relationships/image" Target="../media/image40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4.png"/><Relationship Id="rId3" Type="http://schemas.openxmlformats.org/officeDocument/2006/relationships/image" Target="../media/image40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LCorp_K_logo"/>
          <p:cNvPicPr/>
          <p:nvPr/>
        </p:nvPicPr>
        <p:blipFill>
          <a:blip r:embed="rId1"/>
          <a:stretch/>
        </p:blipFill>
        <p:spPr>
          <a:xfrm>
            <a:off x="1177920" y="2525760"/>
            <a:ext cx="678672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0"/>
          <p:cNvSpPr/>
          <p:nvPr/>
        </p:nvSpPr>
        <p:spPr>
          <a:xfrm>
            <a:off x="304920" y="1219320"/>
            <a:ext cx="8610480" cy="5410080"/>
          </a:xfrm>
          <a:prstGeom prst="rect">
            <a:avLst/>
          </a:prstGeom>
          <a:solidFill>
            <a:srgbClr val="ffffff"/>
          </a:solidFill>
          <a:ln w="38160">
            <a:solidFill>
              <a:srgbClr val="b6e1f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Key Question:  Where are w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MISSIONARY MENTALIT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Transformational churches discern their contexts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7030a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derstanding the community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b05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derstand the cultural context surrounding the church.  Know who lives around th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7030a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valuating the churc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b05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now they are called to care for the community.  They strive for everything they do to be in the language and culture of the people they are trying to rea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" descr="Corp_RdBklogo_Whback_pp.jpg"/>
          <p:cNvPicPr/>
          <p:nvPr/>
        </p:nvPicPr>
        <p:blipFill>
          <a:blip r:embed="rId1"/>
          <a:stretch/>
        </p:blipFill>
        <p:spPr>
          <a:xfrm>
            <a:off x="5479920" y="9229680"/>
            <a:ext cx="1521000" cy="4222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2"/>
          <p:cNvSpPr/>
          <p:nvPr/>
        </p:nvSpPr>
        <p:spPr>
          <a:xfrm>
            <a:off x="0" y="58680"/>
            <a:ext cx="1843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17"/>
          <p:cNvSpPr/>
          <p:nvPr/>
        </p:nvSpPr>
        <p:spPr>
          <a:xfrm>
            <a:off x="0" y="973080"/>
            <a:ext cx="1843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iscern Contex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Group 7" descr=""/>
          <p:cNvPicPr/>
          <p:nvPr/>
        </p:nvPicPr>
        <p:blipFill>
          <a:blip r:embed="rId2"/>
          <a:stretch/>
        </p:blipFill>
        <p:spPr>
          <a:xfrm>
            <a:off x="66600" y="85680"/>
            <a:ext cx="1933560" cy="1932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TCimage2.jpg"/>
          <p:cNvPicPr/>
          <p:nvPr/>
        </p:nvPicPr>
        <p:blipFill>
          <a:blip r:embed="rId3"/>
          <a:stretch/>
        </p:blipFill>
        <p:spPr>
          <a:xfrm>
            <a:off x="6742080" y="6227640"/>
            <a:ext cx="2249640" cy="478080"/>
          </a:xfrm>
          <a:prstGeom prst="rect">
            <a:avLst/>
          </a:prstGeom>
          <a:ln w="0">
            <a:noFill/>
          </a:ln>
        </p:spPr>
      </p:pic>
      <p:grpSp>
        <p:nvGrpSpPr>
          <p:cNvPr id="91" name="Slide Number Placeholder 22"/>
          <p:cNvGrpSpPr/>
          <p:nvPr/>
        </p:nvGrpSpPr>
        <p:grpSpPr>
          <a:xfrm>
            <a:off x="139680" y="6205680"/>
            <a:ext cx="469800" cy="469800"/>
            <a:chOff x="139680" y="6205680"/>
            <a:chExt cx="469800" cy="469800"/>
          </a:xfrm>
        </p:grpSpPr>
        <p:pic>
          <p:nvPicPr>
            <p:cNvPr id="92" name="Slide Number Placeholder 22" descr=""/>
            <p:cNvPicPr/>
            <p:nvPr/>
          </p:nvPicPr>
          <p:blipFill>
            <a:blip r:embed="rId4"/>
            <a:stretch/>
          </p:blipFill>
          <p:spPr>
            <a:xfrm>
              <a:off x="139680" y="6205680"/>
              <a:ext cx="46980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212760" y="6276960"/>
              <a:ext cx="323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484E7C7-49F9-4619-9EC9-E02732402F53}" type="slidenum"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4" name="Picture 5" descr="corp blk_wndo"/>
          <p:cNvPicPr/>
          <p:nvPr/>
        </p:nvPicPr>
        <p:blipFill>
          <a:blip r:embed="rId5"/>
          <a:stretch/>
        </p:blipFill>
        <p:spPr>
          <a:xfrm>
            <a:off x="7593120" y="5791320"/>
            <a:ext cx="15508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One Mission: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2040" y="1143000"/>
            <a:ext cx="724212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>
                <a:solidFill>
                  <a:srgbClr val="000000"/>
                </a:solidFill>
                <a:latin typeface="Arial"/>
                <a:ea typeface="Arial"/>
              </a:rPr>
              <a:t>His Story: </a:t>
            </a:r>
            <a:br>
              <a:rPr sz="6700"/>
            </a:br>
            <a:r>
              <a:rPr b="0" lang="en-US" sz="6700" spc="-1" strike="noStrike">
                <a:solidFill>
                  <a:srgbClr val="000000"/>
                </a:solidFill>
                <a:latin typeface="Arial"/>
                <a:ea typeface="Arial"/>
              </a:rPr>
              <a:t>All the Bible for All of Life</a:t>
            </a: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issionary Sunday Sch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ow would your church’s Bible study (Sunday School) be different if you thought of it as missionary train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C3EA-CF79-4E05-BF62-E77AE44647CB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ifeSpan Developmen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peaking the Right Langu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ircle2"/>
          <p:cNvPicPr/>
          <p:nvPr/>
        </p:nvPicPr>
        <p:blipFill>
          <a:blip r:embed="rId1"/>
          <a:stretch/>
        </p:blipFill>
        <p:spPr>
          <a:xfrm>
            <a:off x="3429000" y="24652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orp red_wndo"/>
          <p:cNvPicPr/>
          <p:nvPr/>
        </p:nvPicPr>
        <p:blipFill>
          <a:blip r:embed="rId2"/>
          <a:stretch/>
        </p:blipFill>
        <p:spPr>
          <a:xfrm>
            <a:off x="7578720" y="6095880"/>
            <a:ext cx="1563840" cy="457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Header"/>
          <p:cNvPicPr/>
          <p:nvPr/>
        </p:nvPicPr>
        <p:blipFill>
          <a:blip r:embed="rId3"/>
          <a:stretch/>
        </p:blipFill>
        <p:spPr>
          <a:xfrm>
            <a:off x="228600" y="533520"/>
            <a:ext cx="8686800" cy="1172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Circle3b"/>
          <p:cNvPicPr/>
          <p:nvPr/>
        </p:nvPicPr>
        <p:blipFill>
          <a:blip r:embed="rId4"/>
          <a:stretch/>
        </p:blipFill>
        <p:spPr>
          <a:xfrm>
            <a:off x="6553080" y="2438280"/>
            <a:ext cx="2173320" cy="2221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Circle1"/>
          <p:cNvPicPr/>
          <p:nvPr/>
        </p:nvPicPr>
        <p:blipFill>
          <a:blip r:embed="rId5"/>
          <a:stretch/>
        </p:blipFill>
        <p:spPr>
          <a:xfrm>
            <a:off x="304920" y="2438280"/>
            <a:ext cx="2008080" cy="2008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YAtrans"/>
          <p:cNvPicPr/>
          <p:nvPr/>
        </p:nvPicPr>
        <p:blipFill>
          <a:blip r:embed="rId6"/>
          <a:stretch/>
        </p:blipFill>
        <p:spPr>
          <a:xfrm>
            <a:off x="5638680" y="3200400"/>
            <a:ext cx="822600" cy="560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PreteenTrans"/>
          <p:cNvPicPr/>
          <p:nvPr/>
        </p:nvPicPr>
        <p:blipFill>
          <a:blip r:embed="rId7"/>
          <a:stretch/>
        </p:blipFill>
        <p:spPr>
          <a:xfrm>
            <a:off x="2438280" y="3124080"/>
            <a:ext cx="822600" cy="5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5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Circle2"/>
          <p:cNvPicPr/>
          <p:nvPr/>
        </p:nvPicPr>
        <p:blipFill>
          <a:blip r:embed="rId1"/>
          <a:stretch/>
        </p:blipFill>
        <p:spPr>
          <a:xfrm>
            <a:off x="3733920" y="1508040"/>
            <a:ext cx="1322280" cy="1322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5" descr="Header"/>
          <p:cNvPicPr/>
          <p:nvPr/>
        </p:nvPicPr>
        <p:blipFill>
          <a:blip r:embed="rId2"/>
          <a:stretch/>
        </p:blipFill>
        <p:spPr>
          <a:xfrm>
            <a:off x="395280" y="380880"/>
            <a:ext cx="8353440" cy="944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5" descr="corp red_wndo"/>
          <p:cNvPicPr/>
          <p:nvPr/>
        </p:nvPicPr>
        <p:blipFill>
          <a:blip r:embed="rId3"/>
          <a:stretch/>
        </p:blipFill>
        <p:spPr>
          <a:xfrm>
            <a:off x="7578720" y="6095880"/>
            <a:ext cx="1563840" cy="457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1" descr="Circle3b"/>
          <p:cNvPicPr/>
          <p:nvPr/>
        </p:nvPicPr>
        <p:blipFill>
          <a:blip r:embed="rId4"/>
          <a:stretch/>
        </p:blipFill>
        <p:spPr>
          <a:xfrm>
            <a:off x="6553080" y="1295280"/>
            <a:ext cx="1650960" cy="1687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4" descr="Circle1"/>
          <p:cNvPicPr/>
          <p:nvPr/>
        </p:nvPicPr>
        <p:blipFill>
          <a:blip r:embed="rId5"/>
          <a:stretch/>
        </p:blipFill>
        <p:spPr>
          <a:xfrm>
            <a:off x="990720" y="1600200"/>
            <a:ext cx="1322280" cy="1322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5" descr="YAtrans"/>
          <p:cNvPicPr/>
          <p:nvPr/>
        </p:nvPicPr>
        <p:blipFill>
          <a:blip r:embed="rId6"/>
          <a:stretch/>
        </p:blipFill>
        <p:spPr>
          <a:xfrm>
            <a:off x="5425920" y="1905120"/>
            <a:ext cx="822600" cy="560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6" descr="PreteenTrans"/>
          <p:cNvPicPr/>
          <p:nvPr/>
        </p:nvPicPr>
        <p:blipFill>
          <a:blip r:embed="rId7"/>
          <a:stretch/>
        </p:blipFill>
        <p:spPr>
          <a:xfrm>
            <a:off x="2606760" y="1905120"/>
            <a:ext cx="822240" cy="56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7" descr="description2"/>
          <p:cNvPicPr/>
          <p:nvPr/>
        </p:nvPicPr>
        <p:blipFill>
          <a:blip r:embed="rId8"/>
          <a:stretch/>
        </p:blipFill>
        <p:spPr>
          <a:xfrm>
            <a:off x="2895480" y="3124080"/>
            <a:ext cx="2925720" cy="1578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8" descr="description3"/>
          <p:cNvPicPr/>
          <p:nvPr/>
        </p:nvPicPr>
        <p:blipFill>
          <a:blip r:embed="rId9"/>
          <a:stretch/>
        </p:blipFill>
        <p:spPr>
          <a:xfrm>
            <a:off x="5943600" y="3124080"/>
            <a:ext cx="2876400" cy="1578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0" descr="arrows1"/>
          <p:cNvPicPr/>
          <p:nvPr/>
        </p:nvPicPr>
        <p:blipFill>
          <a:blip r:embed="rId10"/>
          <a:stretch/>
        </p:blipFill>
        <p:spPr>
          <a:xfrm>
            <a:off x="990720" y="5370480"/>
            <a:ext cx="950760" cy="725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1" descr="arrows2"/>
          <p:cNvPicPr/>
          <p:nvPr/>
        </p:nvPicPr>
        <p:blipFill>
          <a:blip r:embed="rId11"/>
          <a:stretch/>
        </p:blipFill>
        <p:spPr>
          <a:xfrm>
            <a:off x="1828800" y="5257800"/>
            <a:ext cx="2913120" cy="382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2" descr="arrows3"/>
          <p:cNvPicPr/>
          <p:nvPr/>
        </p:nvPicPr>
        <p:blipFill>
          <a:blip r:embed="rId12"/>
          <a:stretch/>
        </p:blipFill>
        <p:spPr>
          <a:xfrm>
            <a:off x="2057400" y="5257800"/>
            <a:ext cx="5853240" cy="950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4" descr="web2"/>
          <p:cNvPicPr/>
          <p:nvPr/>
        </p:nvPicPr>
        <p:blipFill>
          <a:blip r:embed="rId13"/>
          <a:stretch/>
        </p:blipFill>
        <p:spPr>
          <a:xfrm>
            <a:off x="3276720" y="4876920"/>
            <a:ext cx="2182680" cy="188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1" descr="web1"/>
          <p:cNvPicPr/>
          <p:nvPr/>
        </p:nvPicPr>
        <p:blipFill>
          <a:blip r:embed="rId14"/>
          <a:stretch/>
        </p:blipFill>
        <p:spPr>
          <a:xfrm>
            <a:off x="380880" y="4876920"/>
            <a:ext cx="2224080" cy="188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2" descr="description1"/>
          <p:cNvPicPr/>
          <p:nvPr/>
        </p:nvPicPr>
        <p:blipFill>
          <a:blip r:embed="rId15"/>
          <a:stretch/>
        </p:blipFill>
        <p:spPr>
          <a:xfrm>
            <a:off x="304920" y="3200400"/>
            <a:ext cx="2431800" cy="1395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3" descr="web3"/>
          <p:cNvPicPr/>
          <p:nvPr/>
        </p:nvPicPr>
        <p:blipFill>
          <a:blip r:embed="rId16"/>
          <a:stretch/>
        </p:blipFill>
        <p:spPr>
          <a:xfrm>
            <a:off x="6172200" y="4876920"/>
            <a:ext cx="2335320" cy="188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4" descr="TM2"/>
          <p:cNvPicPr/>
          <p:nvPr/>
        </p:nvPicPr>
        <p:blipFill>
          <a:blip r:embed="rId17"/>
          <a:stretch/>
        </p:blipFill>
        <p:spPr>
          <a:xfrm>
            <a:off x="2057400" y="2819520"/>
            <a:ext cx="120600" cy="66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5" descr="TM2"/>
          <p:cNvPicPr/>
          <p:nvPr/>
        </p:nvPicPr>
        <p:blipFill>
          <a:blip r:embed="rId18"/>
          <a:stretch/>
        </p:blipFill>
        <p:spPr>
          <a:xfrm>
            <a:off x="4876920" y="2743200"/>
            <a:ext cx="120600" cy="66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6" descr="TM2"/>
          <p:cNvPicPr/>
          <p:nvPr/>
        </p:nvPicPr>
        <p:blipFill>
          <a:blip r:embed="rId19"/>
          <a:stretch/>
        </p:blipFill>
        <p:spPr>
          <a:xfrm>
            <a:off x="7848720" y="2666880"/>
            <a:ext cx="120600" cy="66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7" descr="trademard"/>
          <p:cNvPicPr/>
          <p:nvPr/>
        </p:nvPicPr>
        <p:blipFill>
          <a:blip r:embed="rId20"/>
          <a:stretch/>
        </p:blipFill>
        <p:spPr>
          <a:xfrm>
            <a:off x="347760" y="6400800"/>
            <a:ext cx="4605120" cy="22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corp red_wndo"/>
          <p:cNvPicPr/>
          <p:nvPr/>
        </p:nvPicPr>
        <p:blipFill>
          <a:blip r:embed="rId1"/>
          <a:stretch/>
        </p:blipFill>
        <p:spPr>
          <a:xfrm>
            <a:off x="7578720" y="6095880"/>
            <a:ext cx="1563840" cy="457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Circle1"/>
          <p:cNvPicPr/>
          <p:nvPr/>
        </p:nvPicPr>
        <p:blipFill>
          <a:blip r:embed="rId2"/>
          <a:stretch/>
        </p:blipFill>
        <p:spPr>
          <a:xfrm>
            <a:off x="380880" y="380880"/>
            <a:ext cx="2895840" cy="28958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9"/>
          <p:cNvSpPr/>
          <p:nvPr/>
        </p:nvSpPr>
        <p:spPr>
          <a:xfrm>
            <a:off x="3429000" y="3808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ea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God’s Wo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505320" y="129528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now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God’s Wo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3581280" y="220968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God’s Wo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304920" y="41148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ught through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prescriptiv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eve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of biblical learning that are age appropri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Hear. Know. Do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98108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feWay Kids “Levels of Biblical Learning” provides one of the frameworks for helping boys and girls </a:t>
            </a:r>
            <a:r>
              <a:rPr b="1" lang="en-US" sz="3200" spc="-1" strike="noStrike" u="sng">
                <a:solidFill>
                  <a:srgbClr val="009900"/>
                </a:solidFill>
                <a:uFillTx/>
                <a:latin typeface="Arial"/>
                <a:ea typeface="Arial"/>
              </a:rPr>
              <a:t>he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3200" spc="-1" strike="noStrike" u="sng">
                <a:solidFill>
                  <a:srgbClr val="0066ff"/>
                </a:solidFill>
                <a:uFillTx/>
                <a:latin typeface="Arial"/>
                <a:ea typeface="Arial"/>
              </a:rPr>
              <a:t>kn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od’s Wor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 rot="867600">
            <a:off x="5341680" y="1523880"/>
            <a:ext cx="3039840" cy="388620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632523"/>
                </a:solidFill>
                <a:latin typeface="Arial"/>
                <a:ea typeface="Arial"/>
              </a:rPr>
              <a:t>What are the 10 Concepts?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143000" y="1752120"/>
            <a:ext cx="381168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Go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Jesu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ib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re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ami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4191120" y="1751040"/>
            <a:ext cx="4647960" cy="49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el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hur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mmunity &amp; Worl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oly Spir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alv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Hear. Know. Do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09480" y="1600200"/>
            <a:ext cx="45720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dvantag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vides teachers, parents, and ministers of preschoolers and children with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ilesto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related to biblical knowledge, skills, and attitudes at the designated levels from birth through pretee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 rot="867600">
            <a:off x="5341680" y="1523880"/>
            <a:ext cx="3039840" cy="388620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72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32523"/>
                </a:solidFill>
                <a:latin typeface="Arial"/>
                <a:ea typeface="Arial"/>
              </a:rPr>
              <a:t>Development of ‘God’ Concep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-360" y="1598760"/>
            <a:ext cx="891540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Babies – 2s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God loves 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3s – Pre-K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God loves me and is with 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K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God is always with 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1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  <a:ea typeface="Arial"/>
              </a:rPr>
              <a:t>st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 &amp; 2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  <a:ea typeface="Arial"/>
              </a:rPr>
              <a:t>nd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God is everywhe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3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  <a:ea typeface="Arial"/>
              </a:rPr>
              <a:t>rd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 &amp; 4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  <a:ea typeface="Arial"/>
              </a:rPr>
              <a:t>th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God is everywhere at all tim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Preteen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God is omnipres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45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6000"/>
                            </p:stCondLst>
                            <p:childTnLst>
                              <p:par>
                                <p:cTn id="25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75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4878360" cy="16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32523"/>
                </a:solidFill>
                <a:latin typeface="Arial"/>
                <a:ea typeface="Arial"/>
              </a:rPr>
              <a:t>Foundational Bible Stori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0" y="3581280"/>
            <a:ext cx="87631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3 foundational stories shared in Babies through Kindergart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4 more are added in Grades One through Si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4" descr="men_2066c"/>
          <p:cNvPicPr/>
          <p:nvPr/>
        </p:nvPicPr>
        <p:blipFill>
          <a:blip r:embed="rId1"/>
          <a:stretch/>
        </p:blipFill>
        <p:spPr>
          <a:xfrm>
            <a:off x="6238800" y="228600"/>
            <a:ext cx="2581200" cy="3276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87c9c7d28c89ab24"/>
          <p:cNvPicPr/>
          <p:nvPr/>
        </p:nvPicPr>
        <p:blipFill>
          <a:blip r:embed="rId2"/>
          <a:stretch/>
        </p:blipFill>
        <p:spPr>
          <a:xfrm>
            <a:off x="6781680" y="1066680"/>
            <a:ext cx="1333800" cy="9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ear. Know. Do.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ngs to Rememb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09480" y="1371600"/>
            <a:ext cx="45720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though children develop spiritually in similar ways, the rate of tha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velopm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i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ertain concepts are introduce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a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hen that concept and content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sefu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aningfu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o the chil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 rot="867600">
            <a:off x="5667120" y="1536840"/>
            <a:ext cx="3039840" cy="388620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ear. Know. Do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ngs to Rememb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28600" y="1371240"/>
            <a:ext cx="495288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ile God nor His attributes change, a child’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derstand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ocabul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oe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teaching or developing resources for broad-age groupings of children, concepts may be combined or adapted t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e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rou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 rot="867600">
            <a:off x="5667120" y="1765440"/>
            <a:ext cx="3039840" cy="388620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95480" y="380880"/>
            <a:ext cx="6019920" cy="163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evels of Bible Skills — Goal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281916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8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1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  <a:ea typeface="Arial"/>
              </a:rPr>
              <a:t>st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 &amp; 2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  <a:ea typeface="Arial"/>
              </a:rPr>
              <a:t>nd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Will know all the books of the Bible in order and can locate th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8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3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  <a:ea typeface="Arial"/>
              </a:rPr>
              <a:t>rd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 &amp; 4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  <a:ea typeface="Arial"/>
              </a:rPr>
              <a:t>th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Can quote up to 25 verses when given references. Begin to use Bible study help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8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Preteen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dentify prominent Bible people and their stories. Can establish a discipline of daily Bible read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5" descr="word_5599c1_web"/>
          <p:cNvPicPr/>
          <p:nvPr/>
        </p:nvPicPr>
        <p:blipFill>
          <a:blip r:embed="rId1"/>
          <a:stretch/>
        </p:blipFill>
        <p:spPr>
          <a:xfrm>
            <a:off x="228600" y="152280"/>
            <a:ext cx="2322360" cy="23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0" y="-254160"/>
            <a:ext cx="9144000" cy="711216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7391520" y="6019920"/>
            <a:ext cx="17524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corp red_wndo"/>
          <p:cNvPicPr/>
          <p:nvPr/>
        </p:nvPicPr>
        <p:blipFill>
          <a:blip r:embed="rId2"/>
          <a:stretch/>
        </p:blipFill>
        <p:spPr>
          <a:xfrm>
            <a:off x="7580160" y="5943600"/>
            <a:ext cx="156384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Circle2"/>
          <p:cNvPicPr/>
          <p:nvPr/>
        </p:nvPicPr>
        <p:blipFill>
          <a:blip r:embed="rId1"/>
          <a:stretch/>
        </p:blipFill>
        <p:spPr>
          <a:xfrm>
            <a:off x="3429000" y="24652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corp red_wndo"/>
          <p:cNvPicPr/>
          <p:nvPr/>
        </p:nvPicPr>
        <p:blipFill>
          <a:blip r:embed="rId2"/>
          <a:stretch/>
        </p:blipFill>
        <p:spPr>
          <a:xfrm>
            <a:off x="7578720" y="6095880"/>
            <a:ext cx="1563840" cy="457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Header"/>
          <p:cNvPicPr/>
          <p:nvPr/>
        </p:nvPicPr>
        <p:blipFill>
          <a:blip r:embed="rId3"/>
          <a:stretch/>
        </p:blipFill>
        <p:spPr>
          <a:xfrm>
            <a:off x="228600" y="533520"/>
            <a:ext cx="8686800" cy="1172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Circle1"/>
          <p:cNvPicPr/>
          <p:nvPr/>
        </p:nvPicPr>
        <p:blipFill>
          <a:blip r:embed="rId4"/>
          <a:stretch/>
        </p:blipFill>
        <p:spPr>
          <a:xfrm>
            <a:off x="304920" y="2438280"/>
            <a:ext cx="2008080" cy="20084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PreteenTrans"/>
          <p:cNvPicPr/>
          <p:nvPr/>
        </p:nvPicPr>
        <p:blipFill>
          <a:blip r:embed="rId5"/>
          <a:stretch/>
        </p:blipFill>
        <p:spPr>
          <a:xfrm>
            <a:off x="2438280" y="3124080"/>
            <a:ext cx="822600" cy="5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SMP_Parent Partner_Present6"/>
          <p:cNvPicPr/>
          <p:nvPr/>
        </p:nvPicPr>
        <p:blipFill>
          <a:blip r:embed="rId2"/>
          <a:stretch/>
        </p:blipFill>
        <p:spPr>
          <a:xfrm>
            <a:off x="-6480" y="0"/>
            <a:ext cx="9150480" cy="683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Research &amp; Known Stategy_2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Oval 2"/>
          <p:cNvGrpSpPr/>
          <p:nvPr/>
        </p:nvGrpSpPr>
        <p:grpSpPr>
          <a:xfrm>
            <a:off x="2511360" y="603360"/>
            <a:ext cx="3060720" cy="3060720"/>
            <a:chOff x="2511360" y="603360"/>
            <a:chExt cx="3060720" cy="3060720"/>
          </a:xfrm>
        </p:grpSpPr>
        <p:pic>
          <p:nvPicPr>
            <p:cNvPr id="50" name="Oval 2" descr=""/>
            <p:cNvPicPr/>
            <p:nvPr/>
          </p:nvPicPr>
          <p:blipFill>
            <a:blip r:embed="rId1"/>
            <a:stretch/>
          </p:blipFill>
          <p:spPr>
            <a:xfrm>
              <a:off x="2511360" y="603360"/>
              <a:ext cx="3060720" cy="30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960640" y="1055520"/>
              <a:ext cx="2156040" cy="21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Oval 3"/>
          <p:cNvGrpSpPr/>
          <p:nvPr/>
        </p:nvGrpSpPr>
        <p:grpSpPr>
          <a:xfrm>
            <a:off x="4413240" y="3803760"/>
            <a:ext cx="3060720" cy="3060720"/>
            <a:chOff x="4413240" y="3803760"/>
            <a:chExt cx="3060720" cy="3060720"/>
          </a:xfrm>
        </p:grpSpPr>
        <p:pic>
          <p:nvPicPr>
            <p:cNvPr id="53" name="Oval 3" descr=""/>
            <p:cNvPicPr/>
            <p:nvPr/>
          </p:nvPicPr>
          <p:blipFill>
            <a:blip r:embed="rId2"/>
            <a:stretch/>
          </p:blipFill>
          <p:spPr>
            <a:xfrm>
              <a:off x="4413240" y="3803760"/>
              <a:ext cx="3060720" cy="30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4865760" y="4255920"/>
              <a:ext cx="2155680" cy="21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Oval 4"/>
          <p:cNvGrpSpPr/>
          <p:nvPr/>
        </p:nvGrpSpPr>
        <p:grpSpPr>
          <a:xfrm>
            <a:off x="530280" y="3651120"/>
            <a:ext cx="3060720" cy="3060720"/>
            <a:chOff x="530280" y="3651120"/>
            <a:chExt cx="3060720" cy="3060720"/>
          </a:xfrm>
        </p:grpSpPr>
        <p:pic>
          <p:nvPicPr>
            <p:cNvPr id="56" name="Oval 4" descr=""/>
            <p:cNvPicPr/>
            <p:nvPr/>
          </p:nvPicPr>
          <p:blipFill>
            <a:blip r:embed="rId3"/>
            <a:stretch/>
          </p:blipFill>
          <p:spPr>
            <a:xfrm>
              <a:off x="530280" y="3651120"/>
              <a:ext cx="3060720" cy="30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79560" y="4103640"/>
              <a:ext cx="2155680" cy="21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" name="Title 1"/>
          <p:cNvSpPr/>
          <p:nvPr/>
        </p:nvSpPr>
        <p:spPr>
          <a:xfrm>
            <a:off x="3200400" y="3505320"/>
            <a:ext cx="1371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reeform 4"/>
          <p:cNvSpPr/>
          <p:nvPr/>
        </p:nvSpPr>
        <p:spPr>
          <a:xfrm rot="21319800">
            <a:off x="5328720" y="2106720"/>
            <a:ext cx="1293840" cy="1819080"/>
          </a:xfrm>
          <a:custGeom>
            <a:avLst/>
            <a:gdLst>
              <a:gd name="textAreaLeft" fmla="*/ 0 w 1293840"/>
              <a:gd name="textAreaRight" fmla="*/ 1294200 w 1293840"/>
              <a:gd name="textAreaTop" fmla="*/ 0 h 1819080"/>
              <a:gd name="textAreaBottom" fmla="*/ 1819440 h 1819080"/>
            </a:gdLst>
            <a:ahLst/>
            <a:rect l="textAreaLeft" t="textAreaTop" r="textAreaRight" b="textAreaBottom"/>
            <a:pathLst>
              <a:path w="679" h="955">
                <a:moveTo>
                  <a:pt x="201" y="661"/>
                </a:moveTo>
                <a:lnTo>
                  <a:pt x="409" y="955"/>
                </a:lnTo>
                <a:lnTo>
                  <a:pt x="679" y="717"/>
                </a:lnTo>
                <a:lnTo>
                  <a:pt x="546" y="699"/>
                </a:lnTo>
                <a:lnTo>
                  <a:pt x="545" y="696"/>
                </a:lnTo>
                <a:cubicBezTo>
                  <a:pt x="541" y="675"/>
                  <a:pt x="536" y="613"/>
                  <a:pt x="525" y="573"/>
                </a:cubicBezTo>
                <a:cubicBezTo>
                  <a:pt x="514" y="533"/>
                  <a:pt x="496" y="491"/>
                  <a:pt x="476" y="454"/>
                </a:cubicBezTo>
                <a:cubicBezTo>
                  <a:pt x="456" y="417"/>
                  <a:pt x="442" y="396"/>
                  <a:pt x="407" y="353"/>
                </a:cubicBezTo>
                <a:cubicBezTo>
                  <a:pt x="372" y="310"/>
                  <a:pt x="325" y="252"/>
                  <a:pt x="264" y="198"/>
                </a:cubicBezTo>
                <a:cubicBezTo>
                  <a:pt x="203" y="144"/>
                  <a:pt x="86" y="60"/>
                  <a:pt x="42" y="27"/>
                </a:cubicBezTo>
                <a:lnTo>
                  <a:pt x="0" y="0"/>
                </a:lnTo>
                <a:lnTo>
                  <a:pt x="29" y="48"/>
                </a:lnTo>
                <a:cubicBezTo>
                  <a:pt x="76" y="115"/>
                  <a:pt x="235" y="298"/>
                  <a:pt x="285" y="403"/>
                </a:cubicBezTo>
                <a:cubicBezTo>
                  <a:pt x="335" y="508"/>
                  <a:pt x="346" y="635"/>
                  <a:pt x="332" y="678"/>
                </a:cubicBezTo>
                <a:lnTo>
                  <a:pt x="201" y="661"/>
                </a:lnTo>
                <a:close/>
              </a:path>
            </a:pathLst>
          </a:custGeom>
          <a:gradFill rotWithShape="0">
            <a:gsLst>
              <a:gs pos="0">
                <a:srgbClr val="93cddd"/>
              </a:gs>
              <a:gs pos="100000">
                <a:srgbClr val="b3a2c7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Freeform 7"/>
          <p:cNvSpPr/>
          <p:nvPr/>
        </p:nvSpPr>
        <p:spPr>
          <a:xfrm rot="7248000">
            <a:off x="3056760" y="5369400"/>
            <a:ext cx="1293840" cy="1819440"/>
          </a:xfrm>
          <a:custGeom>
            <a:avLst/>
            <a:gdLst>
              <a:gd name="textAreaLeft" fmla="*/ 0 w 1293840"/>
              <a:gd name="textAreaRight" fmla="*/ 1294200 w 1293840"/>
              <a:gd name="textAreaTop" fmla="*/ 0 h 1819440"/>
              <a:gd name="textAreaBottom" fmla="*/ 1819800 h 1819440"/>
            </a:gdLst>
            <a:ahLst/>
            <a:rect l="textAreaLeft" t="textAreaTop" r="textAreaRight" b="textAreaBottom"/>
            <a:pathLst>
              <a:path w="679" h="955">
                <a:moveTo>
                  <a:pt x="201" y="661"/>
                </a:moveTo>
                <a:lnTo>
                  <a:pt x="409" y="955"/>
                </a:lnTo>
                <a:lnTo>
                  <a:pt x="679" y="717"/>
                </a:lnTo>
                <a:lnTo>
                  <a:pt x="546" y="699"/>
                </a:lnTo>
                <a:lnTo>
                  <a:pt x="545" y="696"/>
                </a:lnTo>
                <a:cubicBezTo>
                  <a:pt x="541" y="675"/>
                  <a:pt x="536" y="613"/>
                  <a:pt x="525" y="573"/>
                </a:cubicBezTo>
                <a:cubicBezTo>
                  <a:pt x="514" y="533"/>
                  <a:pt x="496" y="491"/>
                  <a:pt x="476" y="454"/>
                </a:cubicBezTo>
                <a:cubicBezTo>
                  <a:pt x="456" y="417"/>
                  <a:pt x="442" y="396"/>
                  <a:pt x="407" y="353"/>
                </a:cubicBezTo>
                <a:cubicBezTo>
                  <a:pt x="372" y="310"/>
                  <a:pt x="325" y="252"/>
                  <a:pt x="264" y="198"/>
                </a:cubicBezTo>
                <a:cubicBezTo>
                  <a:pt x="203" y="144"/>
                  <a:pt x="86" y="60"/>
                  <a:pt x="42" y="27"/>
                </a:cubicBezTo>
                <a:lnTo>
                  <a:pt x="0" y="0"/>
                </a:lnTo>
                <a:lnTo>
                  <a:pt x="29" y="48"/>
                </a:lnTo>
                <a:cubicBezTo>
                  <a:pt x="76" y="115"/>
                  <a:pt x="235" y="298"/>
                  <a:pt x="285" y="403"/>
                </a:cubicBezTo>
                <a:cubicBezTo>
                  <a:pt x="335" y="508"/>
                  <a:pt x="346" y="635"/>
                  <a:pt x="332" y="678"/>
                </a:cubicBezTo>
                <a:lnTo>
                  <a:pt x="201" y="661"/>
                </a:lnTo>
                <a:close/>
              </a:path>
            </a:pathLst>
          </a:custGeom>
          <a:gradFill rotWithShape="0">
            <a:gsLst>
              <a:gs pos="0">
                <a:srgbClr val="b3a2c7"/>
              </a:gs>
              <a:gs pos="100000">
                <a:srgbClr val="c3d69b"/>
              </a:gs>
            </a:gsLst>
            <a:lin ang="17052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reeform 8"/>
          <p:cNvSpPr/>
          <p:nvPr/>
        </p:nvSpPr>
        <p:spPr>
          <a:xfrm rot="14374800">
            <a:off x="1137240" y="1861200"/>
            <a:ext cx="1293840" cy="1819080"/>
          </a:xfrm>
          <a:custGeom>
            <a:avLst/>
            <a:gdLst>
              <a:gd name="textAreaLeft" fmla="*/ 0 w 1293840"/>
              <a:gd name="textAreaRight" fmla="*/ 1294200 w 1293840"/>
              <a:gd name="textAreaTop" fmla="*/ 0 h 1819080"/>
              <a:gd name="textAreaBottom" fmla="*/ 1819440 h 1819080"/>
            </a:gdLst>
            <a:ahLst/>
            <a:rect l="textAreaLeft" t="textAreaTop" r="textAreaRight" b="textAreaBottom"/>
            <a:pathLst>
              <a:path w="679" h="955">
                <a:moveTo>
                  <a:pt x="201" y="661"/>
                </a:moveTo>
                <a:lnTo>
                  <a:pt x="409" y="955"/>
                </a:lnTo>
                <a:lnTo>
                  <a:pt x="679" y="717"/>
                </a:lnTo>
                <a:lnTo>
                  <a:pt x="546" y="699"/>
                </a:lnTo>
                <a:lnTo>
                  <a:pt x="545" y="696"/>
                </a:lnTo>
                <a:cubicBezTo>
                  <a:pt x="541" y="675"/>
                  <a:pt x="536" y="613"/>
                  <a:pt x="525" y="573"/>
                </a:cubicBezTo>
                <a:cubicBezTo>
                  <a:pt x="514" y="533"/>
                  <a:pt x="496" y="491"/>
                  <a:pt x="476" y="454"/>
                </a:cubicBezTo>
                <a:cubicBezTo>
                  <a:pt x="456" y="417"/>
                  <a:pt x="442" y="396"/>
                  <a:pt x="407" y="353"/>
                </a:cubicBezTo>
                <a:cubicBezTo>
                  <a:pt x="372" y="310"/>
                  <a:pt x="325" y="252"/>
                  <a:pt x="264" y="198"/>
                </a:cubicBezTo>
                <a:cubicBezTo>
                  <a:pt x="203" y="144"/>
                  <a:pt x="86" y="60"/>
                  <a:pt x="42" y="27"/>
                </a:cubicBezTo>
                <a:lnTo>
                  <a:pt x="0" y="0"/>
                </a:lnTo>
                <a:lnTo>
                  <a:pt x="29" y="48"/>
                </a:lnTo>
                <a:cubicBezTo>
                  <a:pt x="76" y="115"/>
                  <a:pt x="235" y="298"/>
                  <a:pt x="285" y="403"/>
                </a:cubicBezTo>
                <a:cubicBezTo>
                  <a:pt x="335" y="508"/>
                  <a:pt x="346" y="635"/>
                  <a:pt x="332" y="678"/>
                </a:cubicBezTo>
                <a:lnTo>
                  <a:pt x="201" y="661"/>
                </a:lnTo>
                <a:close/>
              </a:path>
            </a:pathLst>
          </a:custGeom>
          <a:gradFill rotWithShape="0">
            <a:gsLst>
              <a:gs pos="0">
                <a:srgbClr val="c3d69b"/>
              </a:gs>
              <a:gs pos="100000">
                <a:srgbClr val="93cddd"/>
              </a:gs>
            </a:gsLst>
            <a:lin ang="9924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Diagram 1" descr=""/>
          <p:cNvPicPr/>
          <p:nvPr/>
        </p:nvPicPr>
        <p:blipFill>
          <a:blip r:embed="rId4"/>
          <a:stretch/>
        </p:blipFill>
        <p:spPr>
          <a:xfrm>
            <a:off x="-463680" y="549360"/>
            <a:ext cx="8547120" cy="59547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3"/>
          <p:cNvSpPr/>
          <p:nvPr/>
        </p:nvSpPr>
        <p:spPr>
          <a:xfrm>
            <a:off x="4952880" y="11592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ramework Princi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corp blk_wndo"/>
          <p:cNvPicPr/>
          <p:nvPr/>
        </p:nvPicPr>
        <p:blipFill>
          <a:blip r:embed="rId5"/>
          <a:stretch/>
        </p:blipFill>
        <p:spPr>
          <a:xfrm>
            <a:off x="7593120" y="5943600"/>
            <a:ext cx="15508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0" y="90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uilding 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iblical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odel For Student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01-32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217964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ircle2"/>
          <p:cNvPicPr/>
          <p:nvPr/>
        </p:nvPicPr>
        <p:blipFill>
          <a:blip r:embed="rId1"/>
          <a:stretch/>
        </p:blipFill>
        <p:spPr>
          <a:xfrm>
            <a:off x="3429000" y="24652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corp red_wndo"/>
          <p:cNvPicPr/>
          <p:nvPr/>
        </p:nvPicPr>
        <p:blipFill>
          <a:blip r:embed="rId2"/>
          <a:stretch/>
        </p:blipFill>
        <p:spPr>
          <a:xfrm>
            <a:off x="7578720" y="6095880"/>
            <a:ext cx="1563840" cy="457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Header"/>
          <p:cNvPicPr/>
          <p:nvPr/>
        </p:nvPicPr>
        <p:blipFill>
          <a:blip r:embed="rId3"/>
          <a:stretch/>
        </p:blipFill>
        <p:spPr>
          <a:xfrm>
            <a:off x="228600" y="533520"/>
            <a:ext cx="8686800" cy="1172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ircle3b"/>
          <p:cNvPicPr/>
          <p:nvPr/>
        </p:nvPicPr>
        <p:blipFill>
          <a:blip r:embed="rId4"/>
          <a:stretch/>
        </p:blipFill>
        <p:spPr>
          <a:xfrm>
            <a:off x="6553080" y="2438280"/>
            <a:ext cx="2173320" cy="2221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Circle1"/>
          <p:cNvPicPr/>
          <p:nvPr/>
        </p:nvPicPr>
        <p:blipFill>
          <a:blip r:embed="rId5"/>
          <a:stretch/>
        </p:blipFill>
        <p:spPr>
          <a:xfrm>
            <a:off x="304920" y="2438280"/>
            <a:ext cx="2008080" cy="2008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YAtrans"/>
          <p:cNvPicPr/>
          <p:nvPr/>
        </p:nvPicPr>
        <p:blipFill>
          <a:blip r:embed="rId6"/>
          <a:stretch/>
        </p:blipFill>
        <p:spPr>
          <a:xfrm>
            <a:off x="5638680" y="3200400"/>
            <a:ext cx="822600" cy="5605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PreteenTrans"/>
          <p:cNvPicPr/>
          <p:nvPr/>
        </p:nvPicPr>
        <p:blipFill>
          <a:blip r:embed="rId7"/>
          <a:stretch/>
        </p:blipFill>
        <p:spPr>
          <a:xfrm>
            <a:off x="2438280" y="3124080"/>
            <a:ext cx="822600" cy="5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corp red_wndo"/>
          <p:cNvPicPr/>
          <p:nvPr/>
        </p:nvPicPr>
        <p:blipFill>
          <a:blip r:embed="rId1"/>
          <a:stretch/>
        </p:blipFill>
        <p:spPr>
          <a:xfrm>
            <a:off x="7578720" y="6095880"/>
            <a:ext cx="1563840" cy="457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A"/>
          <p:cNvPicPr/>
          <p:nvPr/>
        </p:nvPicPr>
        <p:blipFill>
          <a:blip r:embed="rId2"/>
          <a:stretch/>
        </p:blipFill>
        <p:spPr>
          <a:xfrm>
            <a:off x="2590920" y="272880"/>
            <a:ext cx="3995640" cy="5274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title"/>
          <p:cNvPicPr/>
          <p:nvPr/>
        </p:nvPicPr>
        <p:blipFill>
          <a:blip r:embed="rId3"/>
          <a:stretch/>
        </p:blipFill>
        <p:spPr>
          <a:xfrm>
            <a:off x="2514600" y="228600"/>
            <a:ext cx="4191120" cy="471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TM2"/>
          <p:cNvPicPr/>
          <p:nvPr/>
        </p:nvPicPr>
        <p:blipFill>
          <a:blip r:embed="rId4"/>
          <a:stretch/>
        </p:blipFill>
        <p:spPr>
          <a:xfrm>
            <a:off x="5943600" y="4952880"/>
            <a:ext cx="120600" cy="66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corp red_wndo"/>
          <p:cNvPicPr/>
          <p:nvPr/>
        </p:nvPicPr>
        <p:blipFill>
          <a:blip r:embed="rId1"/>
          <a:stretch/>
        </p:blipFill>
        <p:spPr>
          <a:xfrm>
            <a:off x="7578720" y="6095880"/>
            <a:ext cx="1563840" cy="4572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B"/>
          <p:cNvPicPr/>
          <p:nvPr/>
        </p:nvPicPr>
        <p:blipFill>
          <a:blip r:embed="rId2"/>
          <a:stretch/>
        </p:blipFill>
        <p:spPr>
          <a:xfrm>
            <a:off x="2590920" y="272880"/>
            <a:ext cx="4743360" cy="5274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title"/>
          <p:cNvPicPr/>
          <p:nvPr/>
        </p:nvPicPr>
        <p:blipFill>
          <a:blip r:embed="rId3"/>
          <a:stretch/>
        </p:blipFill>
        <p:spPr>
          <a:xfrm>
            <a:off x="2514600" y="228600"/>
            <a:ext cx="4191120" cy="471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TM2"/>
          <p:cNvPicPr/>
          <p:nvPr/>
        </p:nvPicPr>
        <p:blipFill>
          <a:blip r:embed="rId4"/>
          <a:stretch/>
        </p:blipFill>
        <p:spPr>
          <a:xfrm>
            <a:off x="5943600" y="4952880"/>
            <a:ext cx="120600" cy="66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5" descr="corp red_wndo"/>
          <p:cNvPicPr/>
          <p:nvPr/>
        </p:nvPicPr>
        <p:blipFill>
          <a:blip r:embed="rId1"/>
          <a:stretch/>
        </p:blipFill>
        <p:spPr>
          <a:xfrm>
            <a:off x="7578720" y="6095880"/>
            <a:ext cx="1563840" cy="4572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C"/>
          <p:cNvPicPr/>
          <p:nvPr/>
        </p:nvPicPr>
        <p:blipFill>
          <a:blip r:embed="rId2"/>
          <a:stretch/>
        </p:blipFill>
        <p:spPr>
          <a:xfrm>
            <a:off x="2590920" y="272880"/>
            <a:ext cx="4743360" cy="6313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title"/>
          <p:cNvPicPr/>
          <p:nvPr/>
        </p:nvPicPr>
        <p:blipFill>
          <a:blip r:embed="rId3"/>
          <a:stretch/>
        </p:blipFill>
        <p:spPr>
          <a:xfrm>
            <a:off x="2514600" y="228600"/>
            <a:ext cx="4191120" cy="471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TM2"/>
          <p:cNvPicPr/>
          <p:nvPr/>
        </p:nvPicPr>
        <p:blipFill>
          <a:blip r:embed="rId4"/>
          <a:stretch/>
        </p:blipFill>
        <p:spPr>
          <a:xfrm>
            <a:off x="5943600" y="4952880"/>
            <a:ext cx="120600" cy="669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5" descr="corp red_wndo"/>
          <p:cNvPicPr/>
          <p:nvPr/>
        </p:nvPicPr>
        <p:blipFill>
          <a:blip r:embed="rId1"/>
          <a:stretch/>
        </p:blipFill>
        <p:spPr>
          <a:xfrm>
            <a:off x="7580160" y="6095880"/>
            <a:ext cx="1563840" cy="4572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D"/>
          <p:cNvPicPr/>
          <p:nvPr/>
        </p:nvPicPr>
        <p:blipFill>
          <a:blip r:embed="rId2"/>
          <a:stretch/>
        </p:blipFill>
        <p:spPr>
          <a:xfrm>
            <a:off x="1817640" y="271440"/>
            <a:ext cx="5515200" cy="63136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title"/>
          <p:cNvPicPr/>
          <p:nvPr/>
        </p:nvPicPr>
        <p:blipFill>
          <a:blip r:embed="rId3"/>
          <a:stretch/>
        </p:blipFill>
        <p:spPr>
          <a:xfrm>
            <a:off x="2514600" y="228600"/>
            <a:ext cx="4191120" cy="4716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TM2"/>
          <p:cNvPicPr/>
          <p:nvPr/>
        </p:nvPicPr>
        <p:blipFill>
          <a:blip r:embed="rId4"/>
          <a:stretch/>
        </p:blipFill>
        <p:spPr>
          <a:xfrm>
            <a:off x="5943600" y="4952880"/>
            <a:ext cx="120600" cy="669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5" descr="corp red_wndo"/>
          <p:cNvPicPr/>
          <p:nvPr/>
        </p:nvPicPr>
        <p:blipFill>
          <a:blip r:embed="rId1"/>
          <a:stretch/>
        </p:blipFill>
        <p:spPr>
          <a:xfrm>
            <a:off x="7578720" y="6095880"/>
            <a:ext cx="1563840" cy="4572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E"/>
          <p:cNvPicPr/>
          <p:nvPr/>
        </p:nvPicPr>
        <p:blipFill>
          <a:blip r:embed="rId2"/>
          <a:stretch/>
        </p:blipFill>
        <p:spPr>
          <a:xfrm>
            <a:off x="1814400" y="271440"/>
            <a:ext cx="5515200" cy="63136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title"/>
          <p:cNvPicPr/>
          <p:nvPr/>
        </p:nvPicPr>
        <p:blipFill>
          <a:blip r:embed="rId3"/>
          <a:stretch/>
        </p:blipFill>
        <p:spPr>
          <a:xfrm>
            <a:off x="2514600" y="228600"/>
            <a:ext cx="4191120" cy="4716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TM2"/>
          <p:cNvPicPr/>
          <p:nvPr/>
        </p:nvPicPr>
        <p:blipFill>
          <a:blip r:embed="rId4"/>
          <a:stretch/>
        </p:blipFill>
        <p:spPr>
          <a:xfrm>
            <a:off x="5943600" y="4952880"/>
            <a:ext cx="120600" cy="66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Every Person: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The Missionary Principle of the People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761760" y="6858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ntex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s a missionary Sunday School we refer to context as it relates to issues of the people group, (Rural 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and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graders; vs. teenage urban boys), their culture, values, and lifesty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ntextualiza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s a missionary Sunday School contextualization refers to developing and/or adapting a strategy determined by the specific context (area and people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1 Corinthian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9:22—</a:t>
            </a:r>
            <a:r>
              <a:rPr b="1" i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“To the weak I became weak, in order to win the weak. </a:t>
            </a:r>
            <a:br>
              <a:rPr sz="1700"/>
            </a:br>
            <a:r>
              <a:rPr b="1" i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I have become all things to all people, so that I may by every possible means save some”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i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HCSB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809520" y="2819160"/>
            <a:ext cx="53341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many ways to categorize nee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el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ticip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ee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609480" y="304920"/>
            <a:ext cx="7925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a number of different barriers that will need to be identified and address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arri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arri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ltu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arri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igi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arri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RANSFORMATIONAL CHUR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0948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feWay Research gathered data for months through surveys and personal interviews with church leader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data provides the framework for the resources LifeWay is developing to guide local churches through the Transformational Church proce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5" descr="corp blk_wndo"/>
          <p:cNvPicPr/>
          <p:nvPr/>
        </p:nvPicPr>
        <p:blipFill>
          <a:blip r:embed="rId2"/>
          <a:stretch/>
        </p:blipFill>
        <p:spPr>
          <a:xfrm>
            <a:off x="7593120" y="5943600"/>
            <a:ext cx="15508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0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What roadblocks does your class or church face when it comes to having a group for everyone in your community? What actions can you take to help remove those roadblock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What would God need to do so your class could establish a new group for a UPG in your communit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What would God need to do to make your class a center for sending missionaries to other groups (preschool, children, student, and other adult groups)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04920" y="12193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book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formational Chur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veals data from groundbreaking research gathered from hundreds of churches, representing multiple denominations, that are leading examples of spiritual transforma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companying the book are a DVD and study guide produced by the church resources divis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online assessment tool will also be available to help churches access the seven elements of Transformational Church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1969-A146-4948-8DEE-C4FF7A7717BD}" type="slidenum">
              <a:rPr b="0" lang="en-US" sz="11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corp blk_wndo"/>
          <p:cNvPicPr/>
          <p:nvPr/>
        </p:nvPicPr>
        <p:blipFill>
          <a:blip r:embed="rId2"/>
          <a:stretch/>
        </p:blipFill>
        <p:spPr>
          <a:xfrm>
            <a:off x="7593120" y="5943600"/>
            <a:ext cx="1550880" cy="4572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RANSFORMATIONAL CHUR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6840" y="129528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al of the Transformational Church initiative is to help churches make a biblical impact with the Gospe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ost important message is that churches are being transformed, and they are actively engaged in the transformation of people and communities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o often we’ve highlighted the negative realities of the declining American church, but we’ve missed the opportunity to magnify the God of hope and transformation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E68B-5B7D-4C08-A69E-6EE565B22F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corp blk_wndo"/>
          <p:cNvPicPr/>
          <p:nvPr/>
        </p:nvPicPr>
        <p:blipFill>
          <a:blip r:embed="rId2"/>
          <a:stretch/>
        </p:blipFill>
        <p:spPr>
          <a:xfrm>
            <a:off x="7593120" y="5943600"/>
            <a:ext cx="1550880" cy="457200"/>
          </a:xfrm>
          <a:prstGeom prst="rect">
            <a:avLst/>
          </a:prstGeom>
          <a:ln w="0">
            <a:noFill/>
          </a:ln>
        </p:spPr>
      </p:pic>
      <p:sp>
        <p:nvSpPr>
          <p:cNvPr id="75" name="Title 1"/>
          <p:cNvSpPr/>
          <p:nvPr/>
        </p:nvSpPr>
        <p:spPr>
          <a:xfrm>
            <a:off x="304920" y="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RANSFORMATIONAL CHUR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7 Elements of Transform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440" y="15998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SCERN YOUR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ission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Mentality – the church understands their community and will minister in contextually appropriate ways to reach local people with the Gosp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F1C1-E029-4213-977C-916EAA409C29}" type="slidenum">
              <a:rPr b="0" lang="en-US" sz="11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7 Elements of Transform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2949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MBRACE PROPER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1599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bran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eadersh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vibrant leaders lead their people to worship, live in community, and live on mission – How can I help you serv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1599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ayerfu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ependence – the level, type, and expectance about prayer is greater in amount and intensity – The Practice of Pray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1599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latio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tentionality – providing platforms to create relationships and processes that produce life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7 Elements of Transform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A9D0-A4A3-4A60-908D-31FEB08C01CD}" type="slidenum">
              <a:rPr b="0" lang="en-US" sz="11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04920" y="1219320"/>
            <a:ext cx="853416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5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NGAGE PROPER 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orsh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Actively Embrace Jesus - A matter of living and not a mode of church programming – Worship is a lifesty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mmun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Connect People with People - the activity of joining lives together – Doing life togeth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i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Show Jesus through Word and Action - the reason behind the thinking, motivation, and activity is God’s Mission to make disciples – Why we do what we 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5:54:51Z</dcterms:created>
  <dc:creator>G. Dwayne McCrary</dc:creator>
  <dc:description/>
  <dc:language>en-US</dc:language>
  <cp:lastModifiedBy>G. Dwayne McCrary</cp:lastModifiedBy>
  <dcterms:modified xsi:type="dcterms:W3CDTF">2011-12-02T12:46:02Z</dcterms:modified>
  <cp:revision>24</cp:revision>
  <dc:subject/>
  <dc:title>Slide 1</dc:title>
</cp:coreProperties>
</file>