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BD590-18B5-439F-BB97-82888E98F06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0E683-6B55-4B03-BE8E-EC8A944FA7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1E15D-860F-43E9-B823-69BA16658F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4ED21-83B7-4E21-97B2-3C52DAD799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3B35E-C124-4266-B147-63D808A1DE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9853F-6F6B-449E-B4DA-5414DCA3F7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72ED0-C2CD-48B9-9FB0-9A9A0E4F3A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30542-8B7A-4230-945F-B1274B2C94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E9975-52B9-41BF-83FF-F804D812F6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A3FDC-48E0-495A-B52F-AA3D4CD150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E4FDC-E7F2-4258-A1C8-155609B568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FF0EC-BEFC-4572-8848-742868A7FB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E9D89-00FF-4EB7-8C78-712DE077E4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7915A-8391-49AA-85AD-92704CA7E4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AC038-69FD-4A24-BB97-6B378430D2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F3BDC-B26C-43ED-85BA-BECB0895C1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240AC-1813-49D3-AE59-6B02A1FF96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DCA1D-3B2A-478B-93EF-4C0150BA3A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95A0C-D38A-48DD-A463-F6E5A681C4B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68C53-ED4F-4865-96DB-0EB598BB1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8B1D0-7505-48B6-B9EC-30DC24B00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36B17-D792-4A52-AFF5-7D0FB4EC5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6F2F2-6983-4FEF-B5DE-4DD453CDF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F76BB-0846-4CCB-8D32-13B470656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0F1E3-0F84-4682-8054-929B1BB62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02323-9102-4B11-973A-329FEC7A4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D46FF-5EF9-4FBA-8B31-CC3EA87A0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BA6AC-7771-4163-971B-0441A24EF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1B55A-D35F-4236-A86D-96EFCC45A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D4BCC-3F51-4A27-8601-1C0E0FD91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8A0B3-366D-4F2F-8E2D-B9CC9F817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03050-C3C2-47A6-A40E-DCBE819E1A72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09B37-4AB2-4781-965D-08A8B9B46E3D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LCorp_K_logo"/>
          <p:cNvPicPr/>
          <p:nvPr/>
        </p:nvPicPr>
        <p:blipFill>
          <a:blip r:embed="rId1"/>
          <a:stretch/>
        </p:blipFill>
        <p:spPr>
          <a:xfrm>
            <a:off x="1177920" y="2525760"/>
            <a:ext cx="6786720" cy="18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2"/>
          <p:cNvSpPr/>
          <p:nvPr/>
        </p:nvSpPr>
        <p:spPr>
          <a:xfrm>
            <a:off x="0" y="1371600"/>
            <a:ext cx="1905120" cy="609480"/>
          </a:xfrm>
          <a:prstGeom prst="rect">
            <a:avLst/>
          </a:prstGeom>
          <a:solidFill>
            <a:srgbClr val="ffffff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1"/>
          <p:cNvSpPr/>
          <p:nvPr/>
        </p:nvSpPr>
        <p:spPr>
          <a:xfrm>
            <a:off x="990720" y="1523880"/>
            <a:ext cx="8153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 Rate your class on these three elements using the scale below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en____________________________________________Clo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going_________________________________________Short ter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stematic Plan__________________________________ Whate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 What steps do you need to take to improve (move closer to the left) the ratings you gave your clas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 In the past six months, who has made a commitment to Christ as a result of the work being done by or through your class or class member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 How would you describe the teaching that takes place in your class: for knowledge or for training missionaries? Give an example from the past two weeks to illustra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. Record an example of how the study of the Bible made a difference in the life of a person in your class, in your church, and in your communit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. What can be done to make these outcomes more consisten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Box 1"/>
          <p:cNvSpPr/>
          <p:nvPr/>
        </p:nvSpPr>
        <p:spPr>
          <a:xfrm>
            <a:off x="2743200" y="2133720"/>
            <a:ext cx="46483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Every Person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he Missionary Principle of the People Grou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Box 1"/>
          <p:cNvSpPr/>
          <p:nvPr/>
        </p:nvSpPr>
        <p:spPr>
          <a:xfrm>
            <a:off x="1295280" y="2209680"/>
            <a:ext cx="76964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bjections challenging the idea that  Sunday School is for Every Per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Our Kids and Those Ki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Religious Education is the Responsibility of Par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Not Little House on the Prair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Box 1"/>
          <p:cNvSpPr/>
          <p:nvPr/>
        </p:nvSpPr>
        <p:spPr>
          <a:xfrm>
            <a:off x="3048120" y="2057400"/>
            <a:ext cx="396216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My People Group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Box 1"/>
          <p:cNvSpPr/>
          <p:nvPr/>
        </p:nvSpPr>
        <p:spPr>
          <a:xfrm>
            <a:off x="1752480" y="1398600"/>
            <a:ext cx="693432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at roadblocks does your class or church face when it comes to having a group for everyone in your community? What actions can you take to help remove those roadblock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at tools are currently in place for your class or church to utilize as a missionary? What tools do you need to help secur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o in your community is not currently being reached by your church? Commit to pray that God will help your church start a Bible study group that will reach them for the sake of Chris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at would God need to do so your class could establish a new group for a UPG in your community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at would God need to do to make your class a center for sending missionaries to other groups (preschool, children, student, and other adult groups)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Box 1"/>
          <p:cNvSpPr/>
          <p:nvPr/>
        </p:nvSpPr>
        <p:spPr>
          <a:xfrm>
            <a:off x="1523880" y="1676520"/>
            <a:ext cx="76201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ols of the                                    Missionary Sunday Sch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First Conta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Printed Litera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Visitation with Literature Distrib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tarting New Grou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Box 1"/>
          <p:cNvSpPr/>
          <p:nvPr/>
        </p:nvSpPr>
        <p:spPr>
          <a:xfrm>
            <a:off x="1981080" y="2057400"/>
            <a:ext cx="62485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32523"/>
                </a:solidFill>
                <a:latin typeface="Arial"/>
              </a:rPr>
              <a:t>The Irreducible La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32523"/>
                </a:solidFill>
                <a:latin typeface="Arial"/>
              </a:rPr>
              <a:t>The Law of 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32523"/>
                </a:solidFill>
                <a:latin typeface="Arial"/>
              </a:rPr>
              <a:t>Flake’s Formula Still Wo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32523"/>
                </a:solidFill>
                <a:latin typeface="Arial"/>
              </a:rPr>
              <a:t>The Principle of Thr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32523"/>
                </a:solidFill>
                <a:latin typeface="Arial"/>
              </a:rPr>
              <a:t>3x5=18 Princi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32523"/>
                </a:solidFill>
                <a:latin typeface="Arial"/>
              </a:rPr>
              <a:t>An Expanding Organ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32523"/>
                </a:solidFill>
                <a:latin typeface="Arial"/>
              </a:rPr>
              <a:t>The Two-Year Princi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32523"/>
                </a:solidFill>
                <a:latin typeface="Arial"/>
              </a:rPr>
              <a:t>Two Solu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Box 1"/>
          <p:cNvSpPr/>
          <p:nvPr/>
        </p:nvSpPr>
        <p:spPr>
          <a:xfrm>
            <a:off x="1523880" y="1676520"/>
            <a:ext cx="76201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ols of the                                    Missionary Sunday Sch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First Conta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Printed Litera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Visitation with Literature Distrib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tarting New Grou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Multiple Sche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Box 2"/>
          <p:cNvSpPr/>
          <p:nvPr/>
        </p:nvSpPr>
        <p:spPr>
          <a:xfrm>
            <a:off x="2057400" y="2209680"/>
            <a:ext cx="56386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632523"/>
                </a:solidFill>
                <a:latin typeface="Arial"/>
              </a:rPr>
              <a:t>The Challeng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New Sunday Schoo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Unreached People Grou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Oval 13"/>
          <p:cNvSpPr/>
          <p:nvPr/>
        </p:nvSpPr>
        <p:spPr>
          <a:xfrm>
            <a:off x="5715000" y="3429000"/>
            <a:ext cx="2286000" cy="2057400"/>
          </a:xfrm>
          <a:prstGeom prst="ellipse">
            <a:avLst/>
          </a:prstGeom>
          <a:solidFill>
            <a:srgbClr val="8eb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Oval 2"/>
          <p:cNvSpPr/>
          <p:nvPr/>
        </p:nvSpPr>
        <p:spPr>
          <a:xfrm>
            <a:off x="3048120" y="1066680"/>
            <a:ext cx="2286000" cy="205740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Oval 3"/>
          <p:cNvSpPr/>
          <p:nvPr/>
        </p:nvSpPr>
        <p:spPr>
          <a:xfrm>
            <a:off x="990720" y="3505320"/>
            <a:ext cx="2286000" cy="2057400"/>
          </a:xfrm>
          <a:prstGeom prst="ellipse">
            <a:avLst/>
          </a:prstGeom>
          <a:solidFill>
            <a:srgbClr val="c3d69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Oval 5"/>
          <p:cNvGrpSpPr/>
          <p:nvPr/>
        </p:nvGrpSpPr>
        <p:grpSpPr>
          <a:xfrm>
            <a:off x="4784760" y="743040"/>
            <a:ext cx="1403280" cy="1257120"/>
            <a:chOff x="4784760" y="743040"/>
            <a:chExt cx="1403280" cy="1257120"/>
          </a:xfrm>
        </p:grpSpPr>
        <p:pic>
          <p:nvPicPr>
            <p:cNvPr id="53" name="Oval 5" descr=""/>
            <p:cNvPicPr/>
            <p:nvPr/>
          </p:nvPicPr>
          <p:blipFill>
            <a:blip r:embed="rId1"/>
            <a:stretch/>
          </p:blipFill>
          <p:spPr>
            <a:xfrm>
              <a:off x="4784760" y="743040"/>
              <a:ext cx="1403280" cy="125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5002200" y="939960"/>
              <a:ext cx="968400" cy="86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TextBox 6"/>
          <p:cNvSpPr/>
          <p:nvPr/>
        </p:nvSpPr>
        <p:spPr>
          <a:xfrm>
            <a:off x="4800600" y="1066680"/>
            <a:ext cx="1371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ission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enta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Oval 7"/>
          <p:cNvGrpSpPr/>
          <p:nvPr/>
        </p:nvGrpSpPr>
        <p:grpSpPr>
          <a:xfrm>
            <a:off x="895320" y="2803680"/>
            <a:ext cx="1409760" cy="1250640"/>
            <a:chOff x="895320" y="2803680"/>
            <a:chExt cx="1409760" cy="1250640"/>
          </a:xfrm>
        </p:grpSpPr>
        <p:pic>
          <p:nvPicPr>
            <p:cNvPr id="57" name="Oval 7" descr=""/>
            <p:cNvPicPr/>
            <p:nvPr/>
          </p:nvPicPr>
          <p:blipFill>
            <a:blip r:embed="rId2"/>
            <a:stretch/>
          </p:blipFill>
          <p:spPr>
            <a:xfrm>
              <a:off x="895320" y="2803680"/>
              <a:ext cx="1409760" cy="125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1116000" y="2997360"/>
              <a:ext cx="968400" cy="86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Oval 8"/>
          <p:cNvGrpSpPr/>
          <p:nvPr/>
        </p:nvGrpSpPr>
        <p:grpSpPr>
          <a:xfrm>
            <a:off x="665280" y="5010120"/>
            <a:ext cx="1412640" cy="1257480"/>
            <a:chOff x="665280" y="5010120"/>
            <a:chExt cx="1412640" cy="1257480"/>
          </a:xfrm>
        </p:grpSpPr>
        <p:pic>
          <p:nvPicPr>
            <p:cNvPr id="60" name="Oval 8" descr=""/>
            <p:cNvPicPr/>
            <p:nvPr/>
          </p:nvPicPr>
          <p:blipFill>
            <a:blip r:embed="rId3"/>
            <a:stretch/>
          </p:blipFill>
          <p:spPr>
            <a:xfrm>
              <a:off x="665280" y="5010120"/>
              <a:ext cx="1412640" cy="125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887400" y="5207040"/>
              <a:ext cx="968400" cy="86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Oval 9"/>
          <p:cNvGrpSpPr/>
          <p:nvPr/>
        </p:nvGrpSpPr>
        <p:grpSpPr>
          <a:xfrm>
            <a:off x="2724120" y="4552920"/>
            <a:ext cx="1409760" cy="1257480"/>
            <a:chOff x="2724120" y="4552920"/>
            <a:chExt cx="1409760" cy="1257480"/>
          </a:xfrm>
        </p:grpSpPr>
        <p:pic>
          <p:nvPicPr>
            <p:cNvPr id="63" name="Oval 9" descr=""/>
            <p:cNvPicPr/>
            <p:nvPr/>
          </p:nvPicPr>
          <p:blipFill>
            <a:blip r:embed="rId4"/>
            <a:stretch/>
          </p:blipFill>
          <p:spPr>
            <a:xfrm>
              <a:off x="2724120" y="4552920"/>
              <a:ext cx="1409760" cy="125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>
              <a:off x="2944800" y="4749840"/>
              <a:ext cx="968400" cy="86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Oval 10"/>
          <p:cNvGrpSpPr/>
          <p:nvPr/>
        </p:nvGrpSpPr>
        <p:grpSpPr>
          <a:xfrm>
            <a:off x="5315040" y="2724120"/>
            <a:ext cx="1409760" cy="1257480"/>
            <a:chOff x="5315040" y="2724120"/>
            <a:chExt cx="1409760" cy="1257480"/>
          </a:xfrm>
        </p:grpSpPr>
        <p:pic>
          <p:nvPicPr>
            <p:cNvPr id="66" name="Oval 10" descr=""/>
            <p:cNvPicPr/>
            <p:nvPr/>
          </p:nvPicPr>
          <p:blipFill>
            <a:blip r:embed="rId5"/>
            <a:stretch/>
          </p:blipFill>
          <p:spPr>
            <a:xfrm>
              <a:off x="5315040" y="2724120"/>
              <a:ext cx="1409760" cy="125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"/>
            <p:cNvSpPr/>
            <p:nvPr/>
          </p:nvSpPr>
          <p:spPr>
            <a:xfrm>
              <a:off x="5535720" y="2921040"/>
              <a:ext cx="968400" cy="86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" name="Oval 11"/>
          <p:cNvGrpSpPr/>
          <p:nvPr/>
        </p:nvGrpSpPr>
        <p:grpSpPr>
          <a:xfrm>
            <a:off x="5772240" y="5010120"/>
            <a:ext cx="1409760" cy="1257480"/>
            <a:chOff x="5772240" y="5010120"/>
            <a:chExt cx="1409760" cy="1257480"/>
          </a:xfrm>
        </p:grpSpPr>
        <p:pic>
          <p:nvPicPr>
            <p:cNvPr id="69" name="Oval 11" descr=""/>
            <p:cNvPicPr/>
            <p:nvPr/>
          </p:nvPicPr>
          <p:blipFill>
            <a:blip r:embed="rId6"/>
            <a:stretch/>
          </p:blipFill>
          <p:spPr>
            <a:xfrm>
              <a:off x="5772240" y="5010120"/>
              <a:ext cx="1409760" cy="125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5992920" y="5207040"/>
              <a:ext cx="968400" cy="86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Oval 12"/>
          <p:cNvGrpSpPr/>
          <p:nvPr/>
        </p:nvGrpSpPr>
        <p:grpSpPr>
          <a:xfrm>
            <a:off x="7143840" y="2955960"/>
            <a:ext cx="1409760" cy="1251000"/>
            <a:chOff x="7143840" y="2955960"/>
            <a:chExt cx="1409760" cy="1251000"/>
          </a:xfrm>
        </p:grpSpPr>
        <p:pic>
          <p:nvPicPr>
            <p:cNvPr id="72" name="Oval 12" descr=""/>
            <p:cNvPicPr/>
            <p:nvPr/>
          </p:nvPicPr>
          <p:blipFill>
            <a:blip r:embed="rId7"/>
            <a:stretch/>
          </p:blipFill>
          <p:spPr>
            <a:xfrm>
              <a:off x="7143840" y="2955960"/>
              <a:ext cx="1409760" cy="125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"/>
            <p:cNvSpPr/>
            <p:nvPr/>
          </p:nvSpPr>
          <p:spPr>
            <a:xfrm>
              <a:off x="7364520" y="3149640"/>
              <a:ext cx="968400" cy="86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TextBox 14"/>
          <p:cNvSpPr/>
          <p:nvPr/>
        </p:nvSpPr>
        <p:spPr>
          <a:xfrm>
            <a:off x="3200400" y="160020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Discer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15"/>
          <p:cNvSpPr/>
          <p:nvPr/>
        </p:nvSpPr>
        <p:spPr>
          <a:xfrm>
            <a:off x="1143000" y="403848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Eng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16"/>
          <p:cNvSpPr/>
          <p:nvPr/>
        </p:nvSpPr>
        <p:spPr>
          <a:xfrm>
            <a:off x="1066680" y="320040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Worsh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17"/>
          <p:cNvSpPr/>
          <p:nvPr/>
        </p:nvSpPr>
        <p:spPr>
          <a:xfrm>
            <a:off x="685800" y="548640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mmun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18"/>
          <p:cNvSpPr/>
          <p:nvPr/>
        </p:nvSpPr>
        <p:spPr>
          <a:xfrm>
            <a:off x="2971800" y="4952880"/>
            <a:ext cx="106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is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19"/>
          <p:cNvSpPr/>
          <p:nvPr/>
        </p:nvSpPr>
        <p:spPr>
          <a:xfrm>
            <a:off x="5181480" y="293544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elatio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ntentiona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20"/>
          <p:cNvSpPr/>
          <p:nvPr/>
        </p:nvSpPr>
        <p:spPr>
          <a:xfrm>
            <a:off x="7162920" y="3200400"/>
            <a:ext cx="144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Vibra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eadersh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21"/>
          <p:cNvSpPr/>
          <p:nvPr/>
        </p:nvSpPr>
        <p:spPr>
          <a:xfrm>
            <a:off x="5562720" y="533412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rayerfu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epend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22"/>
          <p:cNvSpPr/>
          <p:nvPr/>
        </p:nvSpPr>
        <p:spPr>
          <a:xfrm>
            <a:off x="5791320" y="403848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Embra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22"/>
          <p:cNvSpPr/>
          <p:nvPr/>
        </p:nvSpPr>
        <p:spPr>
          <a:xfrm>
            <a:off x="6248520" y="457200"/>
            <a:ext cx="2438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 Missionary Sunday School Starts Here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Straight Arrow Connector 24"/>
          <p:cNvCxnSpPr>
            <a:endCxn id="55" idx="0"/>
          </p:cNvCxnSpPr>
          <p:nvPr/>
        </p:nvCxnSpPr>
        <p:spPr>
          <a:xfrm flipH="1">
            <a:off x="5485680" y="609480"/>
            <a:ext cx="762840" cy="457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pic>
        <p:nvPicPr>
          <p:cNvPr id="85" name="Picture 5" descr="corp blk_wndo"/>
          <p:cNvPicPr/>
          <p:nvPr/>
        </p:nvPicPr>
        <p:blipFill>
          <a:blip r:embed="rId8"/>
          <a:stretch/>
        </p:blipFill>
        <p:spPr>
          <a:xfrm>
            <a:off x="7593120" y="5943600"/>
            <a:ext cx="155088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Box 1"/>
          <p:cNvSpPr/>
          <p:nvPr/>
        </p:nvSpPr>
        <p:spPr>
          <a:xfrm>
            <a:off x="2083320" y="2209680"/>
            <a:ext cx="65786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Missionary Sunday School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is all about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ne Mis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is S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very Per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Box 5"/>
          <p:cNvSpPr/>
          <p:nvPr/>
        </p:nvSpPr>
        <p:spPr>
          <a:xfrm>
            <a:off x="2514600" y="2590920"/>
            <a:ext cx="5257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One Mission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ransform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Box 1"/>
          <p:cNvSpPr/>
          <p:nvPr/>
        </p:nvSpPr>
        <p:spPr>
          <a:xfrm>
            <a:off x="5347440" y="1295280"/>
            <a:ext cx="2913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Robert Raik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1"/>
          <p:cNvSpPr/>
          <p:nvPr/>
        </p:nvSpPr>
        <p:spPr>
          <a:xfrm>
            <a:off x="4038480" y="2286000"/>
            <a:ext cx="4191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unday School in Urban Americ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2743200" y="3733920"/>
            <a:ext cx="4572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unday School missionaries and Stephen Pax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Box 1"/>
          <p:cNvSpPr/>
          <p:nvPr/>
        </p:nvSpPr>
        <p:spPr>
          <a:xfrm>
            <a:off x="1828800" y="990720"/>
            <a:ext cx="662940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w did the church you attend (or lead) get started? What were the circumstances? How does that impact what your church is today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w does your class or Sunday School organization reflect a missionary mentality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at is your class or Sunday School organization doing to become a more effective missionary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at is your class or Sunday School organization doing to model being a missionary to others? What have you done in the past three months that declares you are a missionary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at is your class or Sunday School organization doing to become a more effective missionary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at is your class or Sunday School organization doing to model for other classes what it means to be a missionary Sunday School clas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Box 1"/>
          <p:cNvSpPr/>
          <p:nvPr/>
        </p:nvSpPr>
        <p:spPr>
          <a:xfrm>
            <a:off x="1679400" y="2362320"/>
            <a:ext cx="63878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s Story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All the Bible for All of Lif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Box 1"/>
          <p:cNvSpPr/>
          <p:nvPr/>
        </p:nvSpPr>
        <p:spPr>
          <a:xfrm>
            <a:off x="1600200" y="1371600"/>
            <a:ext cx="64008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Bible is the textbook of the Sunday School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t’s about all the Bible for all of life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at follows a pla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d is done on purpose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8T19:13:21Z</dcterms:created>
  <dc:creator>G. Dwayne McCrary</dc:creator>
  <dc:description/>
  <dc:language>en-US</dc:language>
  <cp:lastModifiedBy>LifeWay Christian Resources</cp:lastModifiedBy>
  <dcterms:modified xsi:type="dcterms:W3CDTF">2011-11-21T16:19:56Z</dcterms:modified>
  <cp:revision>85</cp:revision>
  <dc:subject/>
  <dc:title>Slide 1</dc:title>
</cp:coreProperties>
</file>