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49F-CEB4-485C-88DE-D9937474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208-7735-42CE-B968-B9E03A49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104-226A-4612-AE21-D165E685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F2B-D1D5-48C5-90FB-AD80CAC3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841-B90C-4929-B758-9B2D2C1F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4FE-808D-4F19-A60C-9D417777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905-61D9-4890-ACC9-6EE1F5A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665-3530-466C-971F-9B82F86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C5C-A526-434B-8299-02BE0D99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46D-177A-4A36-B9A1-53C5766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755-C8CA-4CA3-BA08-CCA6F86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010-99AE-4565-B136-4878557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5BA-A9B7-4CC5-9A42-6C1CBD797B11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Corp_W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learning about th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preschool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do we put it all toge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TTING IT ALL TOGET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1870200" cy="243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6858000" y="380880"/>
            <a:ext cx="1676520" cy="260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191448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1600200" y="3200400"/>
            <a:ext cx="1914480" cy="256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53341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Mis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s Sto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 pers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Make a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I’m a Missionary”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name tag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3341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Mis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s Sto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 pers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19320" y="13716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What might a Sunday School look like if it saw itself as a missionary enterprise: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thinking and acting out of a missionary mindset?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What is it in our service as a preschool leader that . . 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is worth the doing?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3712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Missionary Sunday School has One Mission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. . . the centerpiece of the Sunday School movement is Bible stud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Biblic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0" y="1752480"/>
            <a:ext cx="41148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ording to God's grace that was given to me, I have laid a foundation as a skilled master builder, and another builds on it. But each one must be careful how he builds on it.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Corinthians 3:10, HCSB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" name="Picture 4" descr="LL"/>
          <p:cNvPicPr/>
          <p:nvPr/>
        </p:nvPicPr>
        <p:blipFill>
          <a:blip r:embed="rId1"/>
          <a:stretch/>
        </p:blipFill>
        <p:spPr>
          <a:xfrm>
            <a:off x="1752480" y="2133720"/>
            <a:ext cx="23529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20:40Z</dcterms:created>
  <dc:creator>AEDWARD</dc:creator>
  <dc:description/>
  <dc:language>en-US</dc:language>
  <cp:lastModifiedBy>G. Dwayne McCrary</cp:lastModifiedBy>
  <dcterms:modified xsi:type="dcterms:W3CDTF">2011-12-02T12:44:58Z</dcterms:modified>
  <cp:revision>165</cp:revision>
  <dc:subject/>
  <dc:title>How-to Sunday School Guide: Curriculum Workshop for Preschool Leaders</dc:title>
</cp:coreProperties>
</file>