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3018-53BD-4E47-8CA3-E33D66626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3824-5160-4BEE-9E48-3888FE55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30D0-E4D1-4700-AE36-CB441695B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05B5-20B8-4A31-80D8-C8D1AA67F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6CDA-5274-44A3-A4AB-6A7B102B6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4940-663A-4E97-A43E-A7B7ADB5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AFC6-D255-4CDB-9F35-057D7082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296A-0E12-4B25-9711-8311DB3E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5B1F-34DE-457A-A010-2F60F3B6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7AB5-B325-4499-90FB-25ADC98E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243D-D262-40B1-B35F-54332760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6232-9C76-42CA-946F-A917DB81E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5437-53E4-46A8-AFDE-36833B5D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991B-6AC0-46B0-B91C-7A2A6562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5CBB-5714-4CBD-A607-D849C9AD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B1E2-3CBF-428D-A2B3-0997453D3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8DFC-C2B5-40F1-88E1-F434C0F6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562F-4ABD-4A80-B33A-CBDDA454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D8F4-3B27-493C-9A0A-E3E82542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77DB-D389-473D-A504-AE347A6A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AAE9-FA13-4A85-B9A1-6B611BAA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0878-F363-47A7-AECD-04982497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FB6C-B1A1-4CC8-9A52-B37340B7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D472-2345-4653-96EC-AF327BCC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1556-51B2-4C92-8997-BF2F393CC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2357-EAA4-4BFD-9458-6E11A163B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066680" y="2438280"/>
            <a:ext cx="701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Welcome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523880" y="4343400"/>
            <a:ext cx="617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Mark 2:1-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Slid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228600" y="33480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pect New People Every Week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514600" y="1600200"/>
            <a:ext cx="632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sad it would be if you did all this to get ready for company and you gave them a boxed meal you prepared on the way to church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Slid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28600" y="33480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xpect People to Say “Yes!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895480" y="2514600"/>
            <a:ext cx="59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Yes, Lord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Slid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723960" y="60948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Will you come to Sunday School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572000" y="4038480"/>
            <a:ext cx="40384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Slid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723960" y="228600"/>
            <a:ext cx="7696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Would you like to join our Sunday School clas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4572000" y="4038480"/>
            <a:ext cx="40384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Slid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723960" y="228600"/>
            <a:ext cx="7696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Would you prepare for our study next week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4572000" y="4038480"/>
            <a:ext cx="40384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Slid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723960" y="228600"/>
            <a:ext cx="7696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Would you participate in clas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572000" y="4038480"/>
            <a:ext cx="40384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Slid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723960" y="638280"/>
            <a:ext cx="7696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Would you serve as a class leader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4572000" y="4038480"/>
            <a:ext cx="40384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Slid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495360" y="304920"/>
            <a:ext cx="81151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Would you serve as a care group leader in an adult clas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495680" y="4495680"/>
            <a:ext cx="40388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Slid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495360" y="304920"/>
            <a:ext cx="81151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As a student or child, will you help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572000" y="4038480"/>
            <a:ext cx="40384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Slid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495360" y="304920"/>
            <a:ext cx="81151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Will you serve beyond the class session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4572000" y="4038480"/>
            <a:ext cx="40384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Slid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343080" y="2286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sguided or Misunderstood 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038480" y="1447920"/>
            <a:ext cx="4724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Auto Pilot Mod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Slid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495360" y="304920"/>
            <a:ext cx="8115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Will you pray for the lost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4572000" y="4038480"/>
            <a:ext cx="40384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Slid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495360" y="304920"/>
            <a:ext cx="81151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Will you attend regular leadership meeting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4572000" y="4038480"/>
            <a:ext cx="40384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Slid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3"/>
          <p:cNvSpPr/>
          <p:nvPr/>
        </p:nvSpPr>
        <p:spPr>
          <a:xfrm>
            <a:off x="495360" y="638280"/>
            <a:ext cx="8115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Will you attend training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4572000" y="4038480"/>
            <a:ext cx="40384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Yes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Slid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228600" y="22860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xpect Classes to Reproduc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762120" y="1600200"/>
            <a:ext cx="807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ymptoms of Unproductive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886200" y="3124080"/>
            <a:ext cx="4952880" cy="25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TEC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INT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304920" y="380880"/>
            <a:ext cx="876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xpect Classes to Reproduc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04920" y="1143000"/>
            <a:ext cx="8610480" cy="47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ather space da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ather class da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ake sure each class is training lead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list leaders and members for new cla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vide a list of prospects for the new cla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volve current clas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elebrate new lif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Slid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3276720" y="457200"/>
            <a:ext cx="533376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400" spc="-1" strike="noStrike">
                <a:solidFill>
                  <a:srgbClr val="ffffff"/>
                </a:solidFill>
                <a:latin typeface="Arial"/>
              </a:rPr>
              <a:t>100,000 New Classes by 2020?</a:t>
            </a:r>
            <a:endParaRPr b="0" lang="en-US" sz="7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380880" y="1676520"/>
            <a:ext cx="769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Do you expect . .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419040" y="2743200"/>
            <a:ext cx="83059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m to send newcomers every wee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cipants to receive a fresh Word from Him each wee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mbers to say “ye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r Sunday School to reprodu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380880" y="2270160"/>
            <a:ext cx="8382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We have never seen anything like this!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724280" y="48769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k 2:12, HC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Slid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457200" y="25884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sguided or Misunderstood 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609480" y="1219320"/>
            <a:ext cx="7925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Sunday School Schizophreni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Slid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457200" y="15228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alance is the Strength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"/>
          <p:cNvSpPr/>
          <p:nvPr/>
        </p:nvSpPr>
        <p:spPr>
          <a:xfrm>
            <a:off x="1676520" y="2514600"/>
            <a:ext cx="56386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4572000" y="3657600"/>
            <a:ext cx="4267080" cy="1981080"/>
          </a:xfrm>
          <a:prstGeom prst="wedgeRectCallout">
            <a:avLst>
              <a:gd name="adj1" fmla="val -50481"/>
              <a:gd name="adj2" fmla="val -1081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ength of the Sunday School movement is found in the balance between biblical community and biblical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685800" y="1828800"/>
            <a:ext cx="19051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blical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6477120" y="1828800"/>
            <a:ext cx="19047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blical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Slid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457200" y="1522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ep Two Process Ratio Ra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80880" y="1474920"/>
            <a:ext cx="8534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 culture and circumstances make an on-campus ministry like Sunday School possible, it is hard to beat in terms of helping a maximum number of people actually move from Step One to Step Two in a disciple-making proces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572000" y="43434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iner &amp; Geiger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mple Chu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Slid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152280" y="22860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ep Two Process Ratio Ra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685800" y="1676520"/>
            <a:ext cx="8153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verage Worship Atten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verage in Sunday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spcBef>
                <a:spcPts val="20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vide Step Two by Step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733920" y="4464000"/>
            <a:ext cx="5181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&lt; 70% = Healthy Rat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Slid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190440" y="228600"/>
            <a:ext cx="8763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reat Expect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nday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457200" y="2209680"/>
            <a:ext cx="85345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9040" indent="-689040"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pects new people every wee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9040" indent="-689040"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pects people to say “yes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9040" indent="-689040">
              <a:spcBef>
                <a:spcPts val="22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pects classes to reprodu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Slid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228600" y="22860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pect New People Every Week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80880" y="1295280"/>
            <a:ext cx="853452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very week may be somebody’s first wee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572000" y="3733920"/>
            <a:ext cx="3809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t’s not a good week, they may not ever come back for a second week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Slid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228600" y="21276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pect New People Every Week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819520" y="1066680"/>
            <a:ext cx="563868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you expect new people every week,  what are some things you will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U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y vis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3:11:10Z</dcterms:created>
  <dc:creator>JMCCLEN</dc:creator>
  <dc:description/>
  <dc:language>en-US</dc:language>
  <cp:lastModifiedBy>DMCCRAR</cp:lastModifiedBy>
  <cp:lastPrinted>2009-11-19T19:54:47Z</cp:lastPrinted>
  <dcterms:modified xsi:type="dcterms:W3CDTF">2009-12-02T18:23:37Z</dcterms:modified>
  <cp:revision>10</cp:revision>
  <dc:subject/>
  <dc:title>Slide 1</dc:title>
</cp:coreProperties>
</file>