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596-0284-40D7-A36B-E5C9E612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7544-1337-4D73-9027-DAD7322E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7A54-C80F-4A15-8F44-4CE768DC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459A-F8C6-4016-8ED1-233AA321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483-60AF-44B1-8C25-2E02FF8B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23DD-13F2-4CCE-B820-50902169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B98-B0FF-43F2-8DFE-7DEBF547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57A-44B6-410C-93B3-6A1AE239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11E-B125-4CAF-9C4C-4917C9AB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E5DD-83E0-4FCA-92B7-25CBB197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6421-A820-4472-BAE5-26AB7596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DEC-110C-409F-A298-964225EB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0223-1260-4C48-B49E-16CBB8B66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457200" y="3429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Print your name on a nametag using a marker p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990720" y="4267080"/>
            <a:ext cx="7162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hat are expectations you have of your Sunday School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Of this training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2819520" y="22096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ELCOME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lide7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9"/>
          <p:cNvSpPr/>
          <p:nvPr/>
        </p:nvSpPr>
        <p:spPr>
          <a:xfrm>
            <a:off x="609480" y="53352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ree significant teaching and learning metho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981080" y="21337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/answ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685800" y="314964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ries/illustrations/Object less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743200" y="4038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62120" y="289548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 ways Jesus involved His students in each 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ree step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a Bible study experien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62120" y="44956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dentify how Jesus incorporated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eaching metho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s He taught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191120" y="76212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rk 4:13-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191120" y="1676520"/>
            <a:ext cx="419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rk 4:26-3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04920" y="2286000"/>
            <a:ext cx="86104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Brush Script MT"/>
              </a:rPr>
              <a:t>Great Expectation #1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w people experience                               great Bible study each wee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04920" y="2286000"/>
            <a:ext cx="861048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Brush Script MT"/>
              </a:rPr>
              <a:t>Great Expectation #2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ect people to say “Yes.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lide6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09480" y="45720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609480" y="533520"/>
            <a:ext cx="8153640" cy="15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te your class (or your own self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- 1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1143000" y="28195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 – We seldom do th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33520" y="41148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0 – We do this all the tim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2666880" y="2249640"/>
            <a:ext cx="685800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invite non members to atten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invite non members to enro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prepare for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participate in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295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exp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2952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can we build expecta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286000" y="2133720"/>
            <a:ext cx="6858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serve within the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engage care group leaders to respond to members’ nee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engage associate members/missionaries from the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295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exp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29528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can we build expecta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133720" y="1981080"/>
            <a:ext cx="73911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pray for unsaved pers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participate in train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distribute literature to members and prosp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e visit (face to face) with prospec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71600" y="1143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ow can we build expecta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371600" y="30492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o you exp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lide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SERVE"/>
          <p:cNvPicPr/>
          <p:nvPr/>
        </p:nvPicPr>
        <p:blipFill>
          <a:blip r:embed="rId2"/>
          <a:stretch/>
        </p:blipFill>
        <p:spPr>
          <a:xfrm>
            <a:off x="5638680" y="4267080"/>
            <a:ext cx="1892520" cy="2210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124080" y="380880"/>
            <a:ext cx="54104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We must get people out of rows and into circles.</a:t>
            </a: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	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We must get people out of circles and engaged in service and mis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GO"/>
          <p:cNvPicPr/>
          <p:nvPr/>
        </p:nvPicPr>
        <p:blipFill>
          <a:blip r:embed="rId3"/>
          <a:stretch/>
        </p:blipFill>
        <p:spPr>
          <a:xfrm>
            <a:off x="2971800" y="4952880"/>
            <a:ext cx="1587600" cy="19051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7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Slide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609480" y="68580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we could only get members and prospects in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ow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how could we affirm our members and be the best class possi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295280" y="243828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we could only get members and prospects into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how could we affirm our members and be the best class possi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33520" y="4191120"/>
            <a:ext cx="8153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we could get members and prospect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ngaged in service and missio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how could we affirm our members and be the best class possi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04920" y="3211560"/>
            <a:ext cx="86104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What are prioritie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(the “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ore of the matter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”)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that every Sunday School clas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is to focus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981080" y="220968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ad Acts 4:29-3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3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puppies_unlimitedRF.jpg"/>
          <p:cNvPicPr/>
          <p:nvPr/>
        </p:nvPicPr>
        <p:blipFill>
          <a:blip r:embed="rId2"/>
          <a:stretch/>
        </p:blipFill>
        <p:spPr>
          <a:xfrm>
            <a:off x="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Flowers_unlimitedRF.jpg"/>
          <p:cNvPicPr/>
          <p:nvPr/>
        </p:nvPicPr>
        <p:blipFill>
          <a:blip r:embed="rId3"/>
          <a:srcRect l="21363" t="21573" r="0" b="0"/>
          <a:stretch/>
        </p:blipFill>
        <p:spPr>
          <a:xfrm>
            <a:off x="4572000" y="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Babies_UnlimitedRF.jpg"/>
          <p:cNvPicPr/>
          <p:nvPr/>
        </p:nvPicPr>
        <p:blipFill>
          <a:blip r:embed="rId4"/>
          <a:srcRect l="0" t="7504" r="0" b="0"/>
          <a:stretch/>
        </p:blipFill>
        <p:spPr>
          <a:xfrm>
            <a:off x="0" y="3048120"/>
            <a:ext cx="4572000" cy="281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Lambs_unlimitedRF.jpg"/>
          <p:cNvPicPr/>
          <p:nvPr/>
        </p:nvPicPr>
        <p:blipFill>
          <a:blip r:embed="rId5"/>
          <a:srcRect l="0" t="7507" r="0" b="0"/>
          <a:stretch/>
        </p:blipFill>
        <p:spPr>
          <a:xfrm>
            <a:off x="4572000" y="3048120"/>
            <a:ext cx="4572000" cy="2816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2"/>
          <p:cNvSpPr/>
          <p:nvPr/>
        </p:nvSpPr>
        <p:spPr>
          <a:xfrm>
            <a:off x="1828800" y="2209680"/>
            <a:ext cx="5410080" cy="64260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#3 Expect to Reprodu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533520" y="7621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That’s part of your problem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85800" y="2743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“…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f you don’t hav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list of member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6"/>
          <p:cNvSpPr/>
          <p:nvPr/>
        </p:nvSpPr>
        <p:spPr>
          <a:xfrm>
            <a:off x="533520" y="7621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That’s part of your problem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5800" y="2743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“…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f you don’t hav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list of prospect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33520" y="7621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Bradley Hand ITC"/>
              </a:rPr>
              <a:t>That’s part of your problem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85800" y="2743200"/>
            <a:ext cx="8001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“…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f you don’t hav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ass social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581280" y="838080"/>
            <a:ext cx="518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are some things you’ve learned that would help you influence your class to reproduc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28800" y="2057400"/>
            <a:ext cx="556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 least three people willing to be members of a new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43000" y="3429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600200" y="44197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ce and time to me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47920" y="609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ctors for new classes to be starte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Slide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762120" y="21780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ayer for God to work in the lives of members and pro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219320" y="3429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sion for connecting with peo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981080" y="426708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rpose of encouraging people to be discipled so they can serve the L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447920" y="6094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actors for new classes to be started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Slid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990720" y="7621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 ages, life stages, or life transitions of adults in your community that could be opportunities to start a new cla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4267080" y="3809880"/>
            <a:ext cx="464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are opportunities and challenges you face in helping start at least one new cla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6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1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3"/>
          <p:cNvSpPr/>
          <p:nvPr/>
        </p:nvSpPr>
        <p:spPr>
          <a:xfrm>
            <a:off x="304920" y="21337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1 New people experienc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eat Bible study each we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04920" y="38862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2 Expect people to say “Yes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04920" y="49068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#3 Expect to Reprodu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762120" y="990720"/>
            <a:ext cx="7696080" cy="39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semble expectantly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ay boldly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P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vide for needs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unch lasting impact</a:t>
            </a:r>
            <a:r>
              <a:rPr b="1" lang="en-US" sz="2000" spc="-1" strike="noStrike">
                <a:solidFill>
                  <a:srgbClr val="808080"/>
                </a:solidFill>
                <a:latin typeface="Times New Roman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0000"/>
                </a:solidFill>
                <a:uFillTx/>
                <a:latin typeface="Times New Roman"/>
              </a:rPr>
              <a:t>E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courager discover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380880" y="3049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e are to take and plant see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apple_unlimitedRF.jpg"/>
          <p:cNvPicPr/>
          <p:nvPr/>
        </p:nvPicPr>
        <p:blipFill>
          <a:blip r:embed="rId2"/>
          <a:srcRect l="15707" t="17705" r="13069" b="0"/>
          <a:stretch/>
        </p:blipFill>
        <p:spPr>
          <a:xfrm>
            <a:off x="5486400" y="1646280"/>
            <a:ext cx="29718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77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6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8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0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77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77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1" dur="77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77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0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2" dur="77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77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9" dur="77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1" dur="77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3" dur="77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77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2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685800" y="1752480"/>
            <a:ext cx="7696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ay boldly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(4:29-30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semble expectantly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 (4:3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aunch lasting impact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(4:32-3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vide for needs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 (4:34-3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ncourager discovered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   (4:36-37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057400" y="5335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Core of the Matter” for your Sunday School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7238880" y="3809880"/>
            <a:ext cx="1762200" cy="1828800"/>
            <a:chOff x="7238880" y="3809880"/>
            <a:chExt cx="1762200" cy="1828800"/>
          </a:xfrm>
        </p:grpSpPr>
        <p:sp>
          <p:nvSpPr>
            <p:cNvPr id="55" name=""/>
            <p:cNvSpPr/>
            <p:nvPr/>
          </p:nvSpPr>
          <p:spPr>
            <a:xfrm>
              <a:off x="7467480" y="5257800"/>
              <a:ext cx="114300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7238880" y="3809880"/>
              <a:ext cx="1762200" cy="1828800"/>
              <a:chOff x="7238880" y="3809880"/>
              <a:chExt cx="1762200" cy="1828800"/>
            </a:xfrm>
          </p:grpSpPr>
          <p:sp>
            <p:nvSpPr>
              <p:cNvPr id="57" name=""/>
              <p:cNvSpPr/>
              <p:nvPr/>
            </p:nvSpPr>
            <p:spPr>
              <a:xfrm>
                <a:off x="7315200" y="3809880"/>
                <a:ext cx="1447920" cy="144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Picture 5" descr="CONNECT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3809880"/>
                <a:ext cx="1762200" cy="1828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7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7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applecore_unlimited.jpg"/>
          <p:cNvPicPr/>
          <p:nvPr/>
        </p:nvPicPr>
        <p:blipFill>
          <a:blip r:embed="rId2"/>
          <a:srcRect l="0" t="25555" r="0" b="0"/>
          <a:stretch/>
        </p:blipFill>
        <p:spPr>
          <a:xfrm>
            <a:off x="609480" y="457200"/>
            <a:ext cx="2995560" cy="33526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many 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ed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” have you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“found” in your ap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Slid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many apple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e in those see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1640" y="45716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ow many trees are in those ap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appletree_unlimited.jpg"/>
          <p:cNvPicPr/>
          <p:nvPr/>
        </p:nvPicPr>
        <p:blipFill>
          <a:blip r:embed="rId2"/>
          <a:stretch/>
        </p:blipFill>
        <p:spPr>
          <a:xfrm>
            <a:off x="4572000" y="1447920"/>
            <a:ext cx="4240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Slid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8"/>
          <p:cNvSpPr/>
          <p:nvPr/>
        </p:nvSpPr>
        <p:spPr>
          <a:xfrm>
            <a:off x="1828800" y="2438280"/>
            <a:ext cx="556272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ild 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Great Expectation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unday School clas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Slide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04920" y="2286000"/>
            <a:ext cx="861048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Brush Script MT"/>
              </a:rPr>
              <a:t>Great Expectation #1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people experience                               great Bible study each wee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09480" y="4572000"/>
            <a:ext cx="1576440" cy="1828800"/>
            <a:chOff x="609480" y="4572000"/>
            <a:chExt cx="1576440" cy="1828800"/>
          </a:xfrm>
        </p:grpSpPr>
        <p:sp>
          <p:nvSpPr>
            <p:cNvPr id="63" name=""/>
            <p:cNvSpPr/>
            <p:nvPr/>
          </p:nvSpPr>
          <p:spPr>
            <a:xfrm>
              <a:off x="609480" y="4572000"/>
              <a:ext cx="1447920" cy="15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62120" y="6019920"/>
              <a:ext cx="1143000" cy="380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GROW"/>
            <p:cNvPicPr/>
            <p:nvPr/>
          </p:nvPicPr>
          <p:blipFill>
            <a:blip r:embed="rId2"/>
            <a:stretch/>
          </p:blipFill>
          <p:spPr>
            <a:xfrm>
              <a:off x="609480" y="4572000"/>
              <a:ext cx="157644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380880" y="27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191120" y="2787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590920" y="7621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o extrem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828800" y="42670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e need a bal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581280"/>
            <a:ext cx="5334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Slid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533520" y="1752480"/>
            <a:ext cx="266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m perspective of attending memb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895480" y="3657600"/>
            <a:ext cx="34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m perspective of non attending members or prosp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400800" y="197964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om perspective of Jes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09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 from different persp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2590920" y="2133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We expect new people each wee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590920" y="300816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aders and workers arrive prepared  and ear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90920" y="4387680"/>
            <a:ext cx="579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eople want to come back and be part of the cla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60948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 from different persp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lid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1828800" y="1995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eople discover and apply God’s Wor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828800" y="2743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ollowing tools are available and used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590920" y="3429000"/>
            <a:ext cx="5790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st of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urces for Bible stu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ources for minist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38080" y="6094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luate from different persp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Slide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990720" y="21636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troduction/Create Intere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90720" y="3048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ncounter God’s W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90720" y="3962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ring Clos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762120" y="685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ree significant steps for  each Bible study experienc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4920" y="6400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47:20Z</dcterms:created>
  <dc:creator>DMCCRAR</dc:creator>
  <dc:description/>
  <dc:language>en-US</dc:language>
  <cp:lastModifiedBy>DMCCRAR</cp:lastModifiedBy>
  <dcterms:modified xsi:type="dcterms:W3CDTF">2009-12-02T18:42:57Z</dcterms:modified>
  <cp:revision>29</cp:revision>
  <dc:subject/>
  <dc:title>Slide 1</dc:title>
</cp:coreProperties>
</file>