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BA8-812D-4EEE-81D1-4186A27A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49B7-4910-43A0-8FF8-5432A262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BB57-4878-4499-878A-C4E0B78E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A02-20FB-448B-A8C1-F234791F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61CC-7890-4B5B-983C-13EE270F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0914-09D1-43B8-B255-490490C6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CD29-FFE0-4D5F-805B-7F14D81C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8BE0-431D-4B0B-8015-4F56EED7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D64-BC1A-48EA-8AC5-16E46377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97F-D1F9-4EAE-8101-F17E85B7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5E85-AEDF-4086-BD8F-4138D514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7F60-438C-4875-B636-05A80A51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B493-430C-40F6-990D-E55DC2338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LifeWay.com/kids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Slide1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685800" y="1905120"/>
            <a:ext cx="77724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ant a Seed a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ch It Grow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Children’s Sunday School               Training Experienc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Slid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ect This, Get T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expect the curriculum to be all that I nee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I sometimes have to go to Wal-Mart</a:t>
            </a:r>
            <a:r>
              <a:rPr b="0" lang="en-US" sz="1200" spc="-1" strike="noStrike" baseline="100000">
                <a:solidFill>
                  <a:srgbClr val="ffffff"/>
                </a:solidFill>
                <a:latin typeface="Arial"/>
              </a:rPr>
              <a:t>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pick up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Slide4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277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nday School Soi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574800" y="1295280"/>
            <a:ext cx="5111640" cy="34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hildren need to be disciple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ut the discipleship hour doesn’t seem to exist anymore. I must teach not only biblical truths in Sunday School but biblical living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277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nday School Soi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657240" y="1447560"/>
            <a:ext cx="51116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hildren need to know about our rich Southern Baptist heritag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ut with all the curriculum choices out there, they sometimes miss it! I must use curriculum that teaches our children about our faith as Southern Bapti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277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nday School Soi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657240" y="1447560"/>
            <a:ext cx="51116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hildren need to know about missions and missionari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ut missions education classes are scarce. I must teach children about missions while they are in Sunday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277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nday School Soi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657240" y="990720"/>
            <a:ext cx="5111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ottie Moon and Annie Armstrong were great women of fa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ut does this generation know who they were? I must teach children about the International Mission Board and the North American Mission Board  in Sunday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277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nday School Soi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574800" y="1066680"/>
            <a:ext cx="511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 grew up going to Sunday School on Sunday morn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ut our church only has worship services on Sunday morning. I might need to learn how to teach Sunday School on Tuesday nights!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277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nday School Soi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4800" y="1904760"/>
            <a:ext cx="511164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ids today are so bus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 must find a balance of fellowship and Bible study in Sunday School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277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nday School Soi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574800" y="1752120"/>
            <a:ext cx="5111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ecause 87.5% of the most vibrant Southern Baptist churches still have Sunday School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 must understand that it does have a huge imp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277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nday School Soi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74800" y="1447560"/>
            <a:ext cx="51116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eople are most open to accepting Christ as their personal Savior before age 12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 must offer opportunities for children to accept Christ while in Sunday School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Slid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ts of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nday School P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66720" y="2285640"/>
            <a:ext cx="40388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s: Expect New People Every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m &amp; Leaf: Expect Kids and Teachers to Say “Yes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er: Expect New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parts_ofa_plant.jpg"/>
          <p:cNvPicPr/>
          <p:nvPr/>
        </p:nvPicPr>
        <p:blipFill>
          <a:blip r:embed="rId2"/>
          <a:stretch/>
        </p:blipFill>
        <p:spPr>
          <a:xfrm>
            <a:off x="914400" y="3733920"/>
            <a:ext cx="2349360" cy="27543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Slid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4343400" y="609480"/>
            <a:ext cx="380988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lco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seed in your hand could grow to be a beautiful flower, tasty fruit, or gigantic tree. On the nametag provided, draw what you think this seed could grow to be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Slide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dology of Inv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 rot="16200000">
            <a:off x="3238560" y="799920"/>
            <a:ext cx="4952880" cy="60962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logy of Invitation: The act of being driven by the idea that you consistently believe you can have new people in your class every Sun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ology of Invitation: The act of believing that the Bible exhorts us to compel others to come and to treat them with honor when they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Slide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dology of Inv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 rot="16200000">
            <a:off x="3352680" y="990360"/>
            <a:ext cx="4724280" cy="60962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ology of Invitation: The act of avoiding the natural inertia for making your group a “closed group” as opposed to maintaining an “open group” where children are always welco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rmacology of Invitation: The process by which some people get very nervous or anxious about asking someone to come to church wit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9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9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Slide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dology of Inv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 rot="16200000">
            <a:off x="3745440" y="673560"/>
            <a:ext cx="3938760" cy="60962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of Invitation: The use of FaceBook, Twitter, blogs, e-mail, text messages, and so forth to invite people to come to church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y of Invitation: The act of avoiding “church speak” when inviting friends, neighbors, and even family members to come to chu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9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9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Slide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edology of Invi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 rot="16200000">
            <a:off x="4012200" y="635400"/>
            <a:ext cx="3405240" cy="60962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eorology of Invitation: The “perfect weather” for inviting someone to church. When it com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viting someone to church, it’s always sunny out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9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Teacher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 rot="16200000">
            <a:off x="2792160" y="-27000"/>
            <a:ext cx="3559320" cy="88394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nual Teacher: One who never seems to be happy where he is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ennial Teacher: One who has taught for many years and the kids in her class still love coming to church each week to learn biblical tru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rmant Teacher: One who is counting the days until she can retire or one who doesn’t really care about growing in her teaching 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Slid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457200" y="152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ed Packet Sound 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228600" y="990720"/>
            <a:ext cx="868680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hing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eneva"/>
              </a:rPr>
              <a:t>Send postcards to new prospects and guests. Follow-up on all VBS kids in your ag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eneva"/>
              </a:rPr>
              <a:t>Send copies of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Geneva"/>
              </a:rPr>
              <a:t>More, Adventure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eneva"/>
              </a:rPr>
              <a:t>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Geneva"/>
              </a:rPr>
              <a:t>Bible Exp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eneva"/>
              </a:rPr>
              <a:t> to kids who are ab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eneva"/>
              </a:rPr>
              <a:t>Let kids create cards to mail to prospects and absent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eneva"/>
              </a:rPr>
              <a:t>Host a pizza fellowship and invite prospects, absentees, and regular attend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eneva"/>
              </a:rPr>
              <a:t>Contact the church or Sunday School office for a list of prospects for your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Slid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457200" y="152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ed Packet Sound 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228600" y="914400"/>
            <a:ext cx="86868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eneva"/>
              </a:rPr>
              <a:t>Contact the International Mission Board to find out the names of missionaries on stateside assignment and collect items they n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eneva"/>
              </a:rPr>
              <a:t>Host a “Can-Drive” party. Take kids to a neighborhood and let them collect canned food for a local food b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eneva"/>
              </a:rPr>
              <a:t>Take kids to a nursing home and let them visit resi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eneva"/>
              </a:rPr>
              <a:t>Collect pennies for a mission trip your church is spons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eneva"/>
              </a:rPr>
              <a:t>Take kids to rake leaves at the home of a homebound church me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Slid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457200" y="1522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ed Packet Sound O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533520" y="990720"/>
            <a:ext cx="792468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ning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eneva"/>
              </a:rPr>
              <a:t>Plan monthly or bi-weekly training sessions using “Kids Ministry 101” as your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eneva"/>
              </a:rPr>
              <a:t>Contact your state Baptist convention to find dates and times for teacher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eneva"/>
              </a:rPr>
              <a:t>Contact your local Baptist association to find dates and times for teacher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eneva"/>
              </a:rPr>
              <a:t>Send regular e-mail updates with teacher training tips. Consider providing links to articles foun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Geneva"/>
                <a:hlinkClick r:id="rId2"/>
              </a:rPr>
              <a:t>www.LifeWay.com/kid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enev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Geneva"/>
              </a:rPr>
              <a:t>Provide a training resource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Slide8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brid Growth Sunday School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352320" y="1828800"/>
            <a:ext cx="4496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ariety is not an option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t’s a Guy Th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iversif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et an Upda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earrang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pplem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lug I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hake it 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9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9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9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9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9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9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9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Slide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it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nflower Seed Fac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Placeholder 5"/>
          <p:cNvSpPr/>
          <p:nvPr/>
        </p:nvSpPr>
        <p:spPr>
          <a:xfrm rot="16200000">
            <a:off x="2408040" y="-960120"/>
            <a:ext cx="4175280" cy="83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(Body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(Body)"/>
              </a:rPr>
              <a:t>Sunflowers are one of the fastest growing plants, reaching heights of 8-12 feet t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(Body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(Body)"/>
              </a:rPr>
              <a:t>Sunflower seeds are tasty and healthy snacks for both people and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(Body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(Body)"/>
              </a:rPr>
              <a:t>Sunflowers produce oil that can be used for coo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(Body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(Body)"/>
              </a:rPr>
              <a:t>A single sunflower can produce more than 2,000 new s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(Body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(Body)"/>
              </a:rPr>
              <a:t>Only one flower grows from a single s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(Body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9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9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9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9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Slid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ect This, Get T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59984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expect to find the supplies I need at chur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I find an unorganized supply closet and my own supplies are miss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lid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nflower Seed Fac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 rot="16200000">
            <a:off x="2566080" y="-127440"/>
            <a:ext cx="4175280" cy="702144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 (Body)"/>
              </a:rPr>
              <a:t>Thousands of people can come to know Christ as the result of one Sunday School teacher s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(Body)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(Body)"/>
              </a:rPr>
              <a:t>How about that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(Body)"/>
              </a:rPr>
              <a:t>Great Expecta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9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9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9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Slid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Slid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ect This, Get T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495680" y="2057400"/>
            <a:ext cx="41911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expect to have co-teachers who are as committed as I a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I don’t feel like they even prep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Slid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ect This, Get T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expect kids to respect and listen to m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I often spend more time “guiding behavior” than teac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lid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ect This, Get T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expect to be appreciated for my servic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sometimes I feel like I am being taken advantage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lid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ect This, Get T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expect my kids to arrive to class on ti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I’m lucky if I have half my class for 45 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Slid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ect This, Get T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expect kids to be excited about coming to churc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when I am competing with cell phones, DS’s, and other electronics, this can be a challe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Slid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pect This, Get T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expect parents to continue the kids’ Christian education at hom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I think parents rely on me to be the only Christian leader their children k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2:44:47Z</dcterms:created>
  <dc:creator>DMCCRAR</dc:creator>
  <dc:description/>
  <dc:language>en-US</dc:language>
  <cp:lastModifiedBy>DMCCRAR</cp:lastModifiedBy>
  <cp:lastPrinted>2009-11-19T15:58:08Z</cp:lastPrinted>
  <dcterms:modified xsi:type="dcterms:W3CDTF">2009-12-02T18:50:10Z</dcterms:modified>
  <cp:revision>19</cp:revision>
  <dc:subject/>
  <dc:title>Slide 1</dc:title>
</cp:coreProperties>
</file>