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0B4-4EEE-4CE9-8BC6-BEDA8628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1BF-ABBC-4519-8A24-2A826FB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8A3F-FA6D-4808-9062-031C4DC5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131A-2660-49BA-9DD9-32B88A4C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C3F-A0B5-4D7E-9BC6-4AE86041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A11-73FC-44E6-8135-7FBD5CB1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0510-432F-4221-BE77-2EF59C57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00AE-FD43-4401-91D8-C31BFE87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8E8-9CFF-4DEE-9759-DE9EE7DA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AC3-9221-4919-8448-D27F5843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4A95-6AFD-432E-97D3-1583BE4E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0B54-972A-4227-8720-F05DC041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594-8BE7-4807-9444-B99F60C5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reschool Con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nametags for teachers to wear to identify themselves to the pa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nametags for each child (make multiple name tags for Babies &amp; 1s that identify their belongin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g the appropriate poster for month’s unit on the wall near the door for all parents to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find something encouraging to say about the child and the experiences he had during the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 the 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curriculum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plan a great Sunday morning experience for preschoolers of all ag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Identif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ways the curriculum helps you gather the correct resources for Sunday Scho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assif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ys the curriculum helps you teach preschool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Discov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ys the curriculum helps you minister to the child during the we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685800" y="1447920"/>
            <a:ext cx="739152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 you agree or disagre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choolers may be enrolled in Sunday School anytime with the permission of their paren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xpect New People Every 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 must come 3 times before they can be enrolled in Sunday Schoo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visitor needs to be placed on a class ro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ce every visitor on a prospect li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ct visitors and members when they are abs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Physic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ff"/>
                </a:solidFill>
                <a:latin typeface="Arial"/>
              </a:rPr>
              <a:t>Men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Social/Emo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Spiri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Assig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Form 2 grou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Answer this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What goes on in a Sunday morning teaching ses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523520" y="17226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happens in a planning mee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ff"/>
                </a:solidFill>
                <a:latin typeface="Arial"/>
              </a:rPr>
              <a:t>Lif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ff"/>
                </a:solidFill>
                <a:latin typeface="Arial"/>
              </a:rPr>
              <a:t>Span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ff"/>
                </a:solidFill>
                <a:latin typeface="Arial"/>
              </a:rPr>
              <a:t>Strateg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H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d’s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Romans 10:14-17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Kn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od’s word as they understand and comprehend biblical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2 Timothy 3:14-15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es your church greet visitor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D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God’s word by applying it to their everyday l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James 1:22-25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ing for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begin new uni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 we enlist new l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we find pro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Pray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Leadershi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Class Memb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ither the one who plants nor the one who waters is anything, but only God who gives the grow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the one who plants and the one who waters are equal, and each will receive his own reward accor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his own la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1 Corinthians 3:7-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ow do you greet preschoolers who are visiting for the first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w do you make a great first impressio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t parents with a sm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ak to a child on his ey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welcoming atmosphere for visitors and mem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 signage throughout the preschool area that guides parents to the correct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teachers to arrive early and be ready when the first child arr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security system that is easy for both the parent and the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1:23:43Z</dcterms:created>
  <dc:creator>AEDWARD</dc:creator>
  <dc:description/>
  <dc:language>en-US</dc:language>
  <cp:lastModifiedBy>DMCCRAR</cp:lastModifiedBy>
  <cp:lastPrinted>2009-11-20T20:16:59Z</cp:lastPrinted>
  <dcterms:modified xsi:type="dcterms:W3CDTF">2009-12-02T19:05:57Z</dcterms:modified>
  <cp:revision>22</cp:revision>
  <dc:subject/>
  <dc:title> Preschool Conference</dc:title>
</cp:coreProperties>
</file>