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134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7752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5604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2628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5604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2628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27752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37134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27752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5604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26280" y="152388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5604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426280" y="3713400"/>
            <a:ext cx="225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77520" y="371340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77520" y="1523880"/>
            <a:ext cx="3420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13400"/>
            <a:ext cx="70102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514600" y="6049800"/>
            <a:ext cx="44956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ww.lifeway.com/students  •  1.800.458.2772  •  LifeWay Christian S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8381880" cy="335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93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828800" y="-312408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838080"/>
            <a:ext cx="4496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The Discov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        </a:t>
            </a:r>
            <a:r>
              <a:rPr b="0" lang="en-US" sz="8000" spc="-1" strike="noStrike">
                <a:solidFill>
                  <a:srgbClr val="000000"/>
                </a:solidFill>
                <a:latin typeface="Impact"/>
              </a:rPr>
              <a:t>Tria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Why are good questions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Questioning is essential for two-way communication between a teacher and student, or between students and themsel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Good question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elicit thought from stud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elps students build their  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       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draws out what students are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upport active, student-cente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acilitate inquiry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elp students to construc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elp students to develop problem-solv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Improve long-term retention of knowledge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4820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2. Good questions promote student-centered teaching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making them more aware of their learn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promoting high-level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giving them an opportunity to provide feedback about what they don’t understand, what they do understand, and what they need in order to enhance their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TO EXPLORE 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a general aspec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life or Bible study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TO ENCOURAGE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creativity and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TO FOCUS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 attention on a specific issue or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      </a:t>
            </a: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STORI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His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Your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heir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His Stories: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4 Characteristics of good storytel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ngle themed, clearly defin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Well developed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aithful to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Dramatic app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trengths of the ora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Variety of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Facial Expression - the face can give a sense of pain, happiness,  urgency,  and a host of ot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Gestures - use the body to relay the actions and movement of a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Humor through Contrasts - The strong, simultaneous expression of two contrasting attitudes creates a humorous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Transitions - changing from first to third person can help students place themselves in a situation and discuss it for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Nonreversible Time - the listener cannot move ahead of the storyteller. They must wait for you to move further into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Pause - “oral language requires sound and silence”… “A common mistake is to believe that a story consists only of words, and therefore a pause is the absence of stor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SHEPHERD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Preparing the story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Read the story in scrip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ReRead the story, visualizing it in your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Read for a third time, noticing sound, smell, sight, emotio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Live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Turn to John 21:1-19 and silently read the story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s you walk around the room</a:t>
            </a: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. 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Notice the smell, sound, emotion, and sight words as you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8016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 a Biblical Model of Student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For development to be biblical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it must also be rela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He said to him, “Love the Lord your God with all your heart, with all your soul, and with all your mind…Love your neighbor as yoursel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Impact"/>
              </a:rPr>
              <a:t>Matthew 22:37-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059600" y="6095880"/>
            <a:ext cx="20844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9592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01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I do, you wa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I do, you hel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You do, I hel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You do, I wat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-406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You do, I do something el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06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4952880"/>
            <a:ext cx="5410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8800" spc="-1" strike="noStrike">
                <a:solidFill>
                  <a:srgbClr val="000000"/>
                </a:solidFill>
                <a:latin typeface="Impact"/>
              </a:rPr>
              <a:t>SCRIPTUR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“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Never Tell A Student Anything You Can Le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Him To Discov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On His Own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457200" y="3352680"/>
            <a:ext cx="785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askerville Old Face"/>
                <a:ea typeface="ヒラギノ角ゴ Pro W3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847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he days of telling a student what the Bible says and then expecting them to g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“</a:t>
            </a: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o” it are ove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9275" t="8325" r="44422" b="7584"/>
          <a:stretch/>
        </p:blipFill>
        <p:spPr>
          <a:xfrm>
            <a:off x="-318960" y="0"/>
            <a:ext cx="5149800" cy="7010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24280" y="1759680"/>
            <a:ext cx="376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Socratic approach to teaching is based on the practice of disciplined, rigorously thoughtful di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575400">
            <a:off x="4952880" y="4267080"/>
            <a:ext cx="27432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cc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crates</a:t>
            </a:r>
            <a:endParaRPr b="0" lang="en-US" sz="2400" spc="1" strike="noStrike">
              <a:ln w="0">
                <a:noFill/>
              </a:ln>
              <a:solidFill>
                <a:srgbClr val="cccc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225960"/>
            <a:ext cx="1981080" cy="1117440"/>
          </a:xfrm>
          <a:custGeom>
            <a:avLst/>
            <a:gdLst/>
            <a:ahLst/>
            <a:rect l="l" t="t" r="r" b="b"/>
            <a:pathLst>
              <a:path w="1248" h="704">
                <a:moveTo>
                  <a:pt x="1104" y="704"/>
                </a:moveTo>
                <a:cubicBezTo>
                  <a:pt x="1068" y="592"/>
                  <a:pt x="1032" y="480"/>
                  <a:pt x="1056" y="416"/>
                </a:cubicBezTo>
                <a:cubicBezTo>
                  <a:pt x="1080" y="352"/>
                  <a:pt x="1248" y="384"/>
                  <a:pt x="1248" y="320"/>
                </a:cubicBezTo>
                <a:cubicBezTo>
                  <a:pt x="1248" y="256"/>
                  <a:pt x="1144" y="64"/>
                  <a:pt x="1056" y="32"/>
                </a:cubicBezTo>
                <a:cubicBezTo>
                  <a:pt x="968" y="0"/>
                  <a:pt x="816" y="88"/>
                  <a:pt x="720" y="128"/>
                </a:cubicBezTo>
                <a:cubicBezTo>
                  <a:pt x="624" y="168"/>
                  <a:pt x="568" y="272"/>
                  <a:pt x="480" y="272"/>
                </a:cubicBezTo>
                <a:cubicBezTo>
                  <a:pt x="392" y="272"/>
                  <a:pt x="272" y="152"/>
                  <a:pt x="192" y="128"/>
                </a:cubicBezTo>
                <a:cubicBezTo>
                  <a:pt x="112" y="104"/>
                  <a:pt x="40" y="128"/>
                  <a:pt x="0" y="128"/>
                </a:cubicBezTo>
              </a:path>
            </a:pathLst>
          </a:custGeom>
          <a:noFill/>
          <a:ln w="152280">
            <a:solidFill>
              <a:srgbClr val="cc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1:01:17Z</dcterms:created>
  <dc:creator>Microsoft Office</dc:creator>
  <dc:description/>
  <dc:language>en-US</dc:language>
  <cp:lastModifiedBy>SSPILLM</cp:lastModifiedBy>
  <cp:lastPrinted>2007-03-08T17:12:32Z</cp:lastPrinted>
  <dcterms:modified xsi:type="dcterms:W3CDTF">2008-04-24T16:30:06Z</dcterms:modified>
  <cp:revision>18</cp:revision>
  <dc:subject/>
  <dc:title>PowerPoint Presentation</dc:title>
</cp:coreProperties>
</file>