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A62-BAAC-40FA-8AA6-97BE0BDC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F45A-A62C-4D17-B8AA-6BD8DBE8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3B9-4714-474C-96EB-2F7ACAB8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00680"/>
            <a:ext cx="264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B75-201B-4573-A89D-C3A66C2D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506-9BA3-43B0-8720-FA1A31DF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F459-8B91-4CCC-A1CC-869D0F28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C70-298D-4CDE-AEB5-E2BF0256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613-6B9D-46CC-B039-926E48E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307-796B-41C7-813A-0689196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7847-EBD1-4674-B500-4956FDEE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0068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C63-1D0C-47A9-A9DA-7468704C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0680"/>
            <a:ext cx="822960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E91-FB45-4CA1-9936-1CF8C2A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68A1-8818-4BEB-80E6-E4E330C9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2858" r="0" b="1425"/>
          <a:stretch/>
        </p:blipFill>
        <p:spPr>
          <a:xfrm>
            <a:off x="4130640" y="1752480"/>
            <a:ext cx="5013360" cy="5181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657600" y="1219320"/>
            <a:ext cx="5486400" cy="56386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7240" cy="1663560"/>
            <a:chOff x="0" y="0"/>
            <a:chExt cx="9147240" cy="1663560"/>
          </a:xfrm>
        </p:grpSpPr>
        <p:sp>
          <p:nvSpPr>
            <p:cNvPr id="44" name=""/>
            <p:cNvSpPr txBox="1"/>
            <p:nvPr/>
          </p:nvSpPr>
          <p:spPr>
            <a:xfrm>
              <a:off x="5562720" y="455760"/>
              <a:ext cx="3581280" cy="72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dddddd">
                        <a:alpha val="50000"/>
                      </a:srgbClr>
                    </a:outerShdw>
                  </a:effectLst>
                  <a:latin typeface="Arial Black"/>
                </a:rPr>
                <a:t>TRIAD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dddddd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0" y="0"/>
              <a:ext cx="9147240" cy="1663560"/>
              <a:chOff x="0" y="0"/>
              <a:chExt cx="9147240" cy="1663560"/>
            </a:xfrm>
          </p:grpSpPr>
          <p:sp>
            <p:nvSpPr>
              <p:cNvPr id="46" name=""/>
              <p:cNvSpPr/>
              <p:nvPr/>
            </p:nvSpPr>
            <p:spPr>
              <a:xfrm>
                <a:off x="0" y="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TH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 txBox="1"/>
              <p:nvPr/>
            </p:nvSpPr>
            <p:spPr>
              <a:xfrm>
                <a:off x="0" y="457200"/>
                <a:ext cx="556272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5297ac"/>
                    </a:solidFill>
                    <a:effectLst>
                      <a:outerShdw dist="17819" dir="2700000" blurRad="0" rotWithShape="0">
                        <a:srgbClr val="dddddd"/>
                      </a:outerShdw>
                    </a:effectLst>
                    <a:latin typeface="Arial Black"/>
                  </a:rPr>
                  <a:t>DISCOVER</a:t>
                </a:r>
                <a:endParaRPr b="1" lang="en-US" sz="1800" spc="1" strike="noStrike">
                  <a:ln w="0">
                    <a:noFill/>
                  </a:ln>
                  <a:solidFill>
                    <a:srgbClr val="5297ac"/>
                  </a:solidFill>
                  <a:effectLst>
                    <a:outerShdw dist="17819" dir="2700000" blurRad="0" rotWithShape="0">
                      <a:srgbClr val="ddddd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48" name=""/>
              <p:cNvSpPr txBox="1"/>
              <p:nvPr/>
            </p:nvSpPr>
            <p:spPr>
              <a:xfrm>
                <a:off x="5565600" y="455760"/>
                <a:ext cx="3581640" cy="723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RIAD</a:t>
                </a:r>
                <a:endParaRPr b="0" lang="en-US" sz="1800" spc="1" strike="noStrike">
                  <a:ln w="9360">
                    <a:solidFill>
                      <a:srgbClr val="dddddd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120" y="1295280"/>
                <a:ext cx="662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THREE FACETS OF A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DYNAMIC SUNDAY SCHOOL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 CLA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0" name="" descr=""/>
          <p:cNvPicPr/>
          <p:nvPr/>
        </p:nvPicPr>
        <p:blipFill>
          <a:blip r:embed="rId1"/>
          <a:srcRect l="0" t="2858" r="0" b="1425"/>
          <a:stretch/>
        </p:blipFill>
        <p:spPr>
          <a:xfrm>
            <a:off x="4056120" y="1676520"/>
            <a:ext cx="5087880" cy="525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8396"/>
                </a:solidFill>
                <a:latin typeface="Arial Black"/>
              </a:rPr>
              <a:t>Purpose of Discovering</a:t>
            </a:r>
            <a:br>
              <a:rPr sz="4800"/>
            </a:br>
            <a:r>
              <a:rPr b="1" lang="en-US" sz="4000" spc="-1" strike="noStrike">
                <a:solidFill>
                  <a:srgbClr val="488396"/>
                </a:solidFill>
                <a:latin typeface="Arial Black"/>
              </a:rPr>
              <a:t>2 Chronicles 34:14-25</a:t>
            </a:r>
            <a:endParaRPr b="1" lang="en-US" sz="40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Are we rediscovering that 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8080"/>
                </a:solidFill>
                <a:uFillTx/>
                <a:latin typeface="Arial Black"/>
              </a:rPr>
              <a:t>______________________________</a:t>
            </a: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?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200400"/>
            <a:ext cx="7772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d6d"/>
                </a:solidFill>
                <a:latin typeface="Arial Black"/>
              </a:rPr>
              <a:t>God’s Word means what it say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8396"/>
                </a:solidFill>
                <a:latin typeface="Arial Black"/>
              </a:rPr>
              <a:t>Purpose of Discovering</a:t>
            </a:r>
            <a:br>
              <a:rPr sz="4800"/>
            </a:br>
            <a:r>
              <a:rPr b="1" lang="en-US" sz="4000" spc="-1" strike="noStrike">
                <a:solidFill>
                  <a:srgbClr val="488396"/>
                </a:solidFill>
                <a:latin typeface="Arial Black"/>
              </a:rPr>
              <a:t>2 Chronicles 34:26-33</a:t>
            </a:r>
            <a:endParaRPr b="1" lang="en-US" sz="40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Are we rediscovering 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8080"/>
                </a:solidFill>
                <a:uFillTx/>
                <a:latin typeface="Arial Black"/>
              </a:rPr>
              <a:t>________________</a:t>
            </a: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?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138480"/>
            <a:ext cx="3886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d6d"/>
                </a:solidFill>
                <a:latin typeface="Arial Black"/>
              </a:rPr>
              <a:t>the coven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297ac"/>
                </a:solidFill>
                <a:latin typeface="Arial Black"/>
              </a:rPr>
              <a:t>Power of</a:t>
            </a:r>
            <a:r>
              <a:rPr b="1" lang="en-US" sz="8000" spc="-1" strike="noStrike">
                <a:solidFill>
                  <a:srgbClr val="5297ac"/>
                </a:solidFill>
                <a:latin typeface="Arial Black"/>
              </a:rPr>
              <a:t> Scripture</a:t>
            </a:r>
            <a:endParaRPr b="1" lang="en-US" sz="80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533520"/>
            <a:ext cx="532908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297ac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Arial Black"/>
              </a:rPr>
              <a:t>DISCOVER</a:t>
            </a:r>
            <a:endParaRPr b="1" lang="en-US" sz="1800" spc="1" strike="noStrike">
              <a:ln w="0">
                <a:noFill/>
              </a:ln>
              <a:solidFill>
                <a:srgbClr val="5297ac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 Black"/>
              </a:rPr>
              <a:t>Power of Scripture</a:t>
            </a:r>
            <a:endParaRPr b="1" lang="en-US" sz="48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hat would be the result if we rediscover what God has done and has promised?</a:t>
            </a:r>
            <a:endParaRPr b="1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828800" y="533520"/>
            <a:ext cx="532908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297ac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Arial Black"/>
              </a:rPr>
              <a:t>DISCOVER</a:t>
            </a:r>
            <a:endParaRPr b="1" lang="en-US" sz="1800" spc="1" strike="noStrike">
              <a:ln w="0">
                <a:noFill/>
              </a:ln>
              <a:solidFill>
                <a:srgbClr val="5297ac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88396"/>
                </a:solidFill>
                <a:latin typeface="Arial Black"/>
              </a:rPr>
              <a:t>Preparing for </a:t>
            </a:r>
            <a:br>
              <a:rPr sz="6000"/>
            </a:br>
            <a:r>
              <a:rPr b="1" lang="en-US" sz="6000" spc="-1" strike="noStrike">
                <a:solidFill>
                  <a:srgbClr val="488396"/>
                </a:solidFill>
                <a:latin typeface="Arial Black"/>
              </a:rPr>
              <a:t>Discovery</a:t>
            </a:r>
            <a:endParaRPr b="1" lang="en-US" sz="60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6172200"/>
            <a:ext cx="5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8396"/>
                </a:solidFill>
                <a:latin typeface="Arial Black"/>
              </a:rPr>
              <a:t>Three things each </a:t>
            </a:r>
            <a:br>
              <a:rPr sz="4800"/>
            </a:br>
            <a:r>
              <a:rPr b="1" lang="en-US" sz="4800" spc="-1" strike="noStrike">
                <a:solidFill>
                  <a:srgbClr val="488396"/>
                </a:solidFill>
                <a:latin typeface="Arial Black"/>
              </a:rPr>
              <a:t>teacher needs to know:</a:t>
            </a:r>
            <a:endParaRPr b="1" lang="en-US" sz="48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Know ______ you are trying to teach.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Know _____ you are assigned to teach.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Know _____ to teach.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057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6d"/>
                </a:solidFill>
                <a:latin typeface="Arial Black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3611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6d"/>
                </a:solidFill>
                <a:latin typeface="Arial Black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51814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d6d"/>
                </a:solidFill>
                <a:latin typeface="Arial Black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396"/>
                </a:solidFill>
                <a:latin typeface="Arial Black"/>
              </a:rPr>
              <a:t>Prepare Yourself for a Dynamic Bible study experience</a:t>
            </a:r>
            <a:endParaRPr b="1" lang="en-US" sz="40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Prayer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Scripture reading and study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Identify personal implications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How can this passage impact others?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8396"/>
                </a:solidFill>
                <a:latin typeface="Arial Black"/>
              </a:rPr>
              <a:t>Prepare a discovery plan</a:t>
            </a:r>
            <a:endParaRPr b="1" lang="en-US" sz="48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Create interest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Encounter God’s Word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Apply God’s Word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Bring Closure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Preparing for Discovery</a:t>
            </a:r>
            <a:endParaRPr b="1" lang="en-US" sz="4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Prepare teaching and learning aids</a:t>
            </a:r>
            <a:br>
              <a:rPr sz="4000"/>
            </a:b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Prepare room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Priorities of Discovery learning</a:t>
            </a: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Statement you most successfully fulfill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Statement representing the greatest challenge for you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3809880"/>
            <a:ext cx="7239240" cy="1752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143000" y="-228600"/>
            <a:ext cx="7009920" cy="1362240"/>
            <a:chOff x="1143000" y="-228600"/>
            <a:chExt cx="7009920" cy="1362240"/>
          </a:xfrm>
        </p:grpSpPr>
        <p:sp>
          <p:nvSpPr>
            <p:cNvPr id="53" name=""/>
            <p:cNvSpPr/>
            <p:nvPr/>
          </p:nvSpPr>
          <p:spPr>
            <a:xfrm>
              <a:off x="1143000" y="-228600"/>
              <a:ext cx="64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1143000" y="122400"/>
              <a:ext cx="4262040" cy="58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5297ac"/>
                  </a:solidFill>
                  <a:effectLst>
                    <a:outerShdw dist="17819" dir="2700000" blurRad="0" rotWithShape="0">
                      <a:srgbClr val="dddddd"/>
                    </a:outerShdw>
                  </a:effectLst>
                  <a:latin typeface="Arial Black"/>
                </a:rPr>
                <a:t>DISCOVER</a:t>
              </a:r>
              <a:endParaRPr b="1" lang="en-US" sz="1800" spc="1" strike="noStrike">
                <a:ln w="0">
                  <a:noFill/>
                </a:ln>
                <a:solidFill>
                  <a:srgbClr val="5297ac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5408280" y="120600"/>
              <a:ext cx="2744640" cy="55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ddddd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RIAD</a:t>
              </a:r>
              <a:endParaRPr b="0" lang="en-US" sz="1800" spc="1" strike="noStrike">
                <a:ln w="9360">
                  <a:solidFill>
                    <a:srgbClr val="dddddd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765360"/>
              <a:ext cx="678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THREE FACETS OF A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YNAMIC SUNDAY SCHOOL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990720" y="-685800"/>
            <a:ext cx="7162560" cy="7620120"/>
            <a:chOff x="990720" y="-685800"/>
            <a:chExt cx="7162560" cy="7620120"/>
          </a:xfrm>
        </p:grpSpPr>
        <p:sp>
          <p:nvSpPr>
            <p:cNvPr id="58" name=""/>
            <p:cNvSpPr/>
            <p:nvPr/>
          </p:nvSpPr>
          <p:spPr>
            <a:xfrm>
              <a:off x="2819520" y="-685800"/>
              <a:ext cx="3124080" cy="5715000"/>
            </a:xfrm>
            <a:prstGeom prst="triangle">
              <a:avLst>
                <a:gd name="adj" fmla="val 50000"/>
              </a:avLst>
            </a:prstGeom>
            <a:noFill/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286000" y="5029200"/>
              <a:ext cx="533520" cy="1905120"/>
            </a:xfrm>
            <a:prstGeom prst="line">
              <a:avLst/>
            </a:prstGeom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43600" y="5029200"/>
              <a:ext cx="533520" cy="1905120"/>
            </a:xfrm>
            <a:prstGeom prst="line">
              <a:avLst/>
            </a:prstGeom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1219320"/>
              <a:ext cx="7162560" cy="4217760"/>
            </a:xfrm>
            <a:prstGeom prst="rect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eaeaea"/>
                </a:gs>
              </a:gsLst>
              <a:lin ang="5400000"/>
            </a:gra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62320" y="5465880"/>
              <a:ext cx="609480" cy="759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91320" y="5465880"/>
              <a:ext cx="609480" cy="759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295280" y="16765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808080"/>
                </a:solidFill>
                <a:latin typeface="Arial Black"/>
              </a:rPr>
              <a:t>WELCO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50532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97ac"/>
                </a:solidFill>
                <a:latin typeface="Arial Black"/>
              </a:rPr>
              <a:t>Make a name ta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Jesus modeled discovery teaching and learning</a:t>
            </a:r>
            <a:endParaRPr b="1" lang="en-US" sz="4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6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Actions a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learner</a:t>
            </a: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 can take to be part of a dynamic Bible study experience</a:t>
            </a:r>
            <a:endParaRPr b="1" lang="en-US" sz="4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Actions a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teacher</a:t>
            </a: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 can take to lead a dynamic Bible study experience</a:t>
            </a:r>
            <a:endParaRPr b="1" lang="en-US" sz="4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31237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88396"/>
                </a:solidFill>
                <a:latin typeface="Arial Black"/>
              </a:rPr>
              <a:t>Discover Significance of </a:t>
            </a:r>
            <a:r>
              <a:rPr b="1" lang="en-US" sz="8800" spc="-1" strike="noStrike">
                <a:solidFill>
                  <a:srgbClr val="488396"/>
                </a:solidFill>
                <a:latin typeface="Arial Black"/>
              </a:rPr>
              <a:t>STORIES</a:t>
            </a:r>
            <a:endParaRPr b="1" lang="en-US" sz="8800" spc="-1" strike="noStrike">
              <a:solidFill>
                <a:srgbClr val="488396"/>
              </a:solidFill>
              <a:latin typeface="Arial Black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rcRect l="13847" t="0" r="0" b="0"/>
            <a:stretch/>
          </p:blipFill>
          <p:spPr>
            <a:xfrm>
              <a:off x="0" y="0"/>
              <a:ext cx="1422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"/>
            <a:srcRect l="0" t="0" r="17045" b="0"/>
            <a:stretch/>
          </p:blipFill>
          <p:spPr>
            <a:xfrm>
              <a:off x="1422360" y="0"/>
              <a:ext cx="1854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4800600" y="0"/>
              <a:ext cx="2514600" cy="16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rcRect l="21762" t="0" r="5182" b="0"/>
            <a:stretch/>
          </p:blipFill>
          <p:spPr>
            <a:xfrm>
              <a:off x="7315200" y="0"/>
              <a:ext cx="1828800" cy="16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5"/>
            <a:stretch/>
          </p:blipFill>
          <p:spPr>
            <a:xfrm>
              <a:off x="3276720" y="0"/>
              <a:ext cx="16603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0" y="1676520"/>
              <a:ext cx="9144000" cy="0"/>
            </a:xfrm>
            <a:prstGeom prst="line">
              <a:avLst/>
            </a:prstGeom>
            <a:ln w="28440">
              <a:solidFill>
                <a:srgbClr val="488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533520"/>
            <a:ext cx="883944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3800" indent="-7938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 rot="5400000">
            <a:off x="-1904760" y="297144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364520" y="5867280"/>
            <a:ext cx="1779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533520"/>
            <a:ext cx="883944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3800" indent="-7938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 rot="5400000">
            <a:off x="-1904760" y="297144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364520" y="586728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00200" y="533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Sharing 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pilgrimage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14479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Tell me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the greate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story ever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33520"/>
            <a:ext cx="883944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3800" indent="-7938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 rot="5400000">
            <a:off x="-1904760" y="297144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364520" y="586728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600200" y="533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Sharing </a:t>
            </a:r>
            <a:r>
              <a:rPr b="0" lang="en-US" sz="3200" spc="-1" strike="noStrike">
                <a:solidFill>
                  <a:srgbClr val="808080"/>
                </a:solidFill>
                <a:latin typeface="Arial Rounded MT Bold"/>
              </a:rPr>
              <a:t>our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pilgrimage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1371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Tell me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the greatest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story ever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22860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OPEN GROUPS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: an intention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33520"/>
            <a:ext cx="883944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3800" indent="-7938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 rot="5400000">
            <a:off x="-1904760" y="297144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364520" y="586728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00200" y="533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Sharing </a:t>
            </a:r>
            <a:r>
              <a:rPr b="0" lang="en-US" sz="3200" spc="-1" strike="noStrike">
                <a:solidFill>
                  <a:srgbClr val="808080"/>
                </a:solidFill>
                <a:latin typeface="Arial Rounded MT Bold"/>
              </a:rPr>
              <a:t>our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pilgrimage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371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Tell me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the greatest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story ever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22860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OPEN GROUPS</a:t>
            </a:r>
            <a:r>
              <a:rPr b="1" lang="en-US" sz="3200" spc="-1" strike="noStrike">
                <a:solidFill>
                  <a:srgbClr val="808080"/>
                </a:solidFill>
                <a:latin typeface="Arial Rounded MT Bold"/>
              </a:rPr>
              <a:t>: an intentional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7400" y="3200400"/>
            <a:ext cx="58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joice with those who rejoice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29000" y="3962520"/>
            <a:ext cx="48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ep with those who weep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533520"/>
            <a:ext cx="883944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3800" indent="-7938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 rot="5400000">
            <a:off x="-1904760" y="297144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364520" y="586728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533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Sharing </a:t>
            </a:r>
            <a:r>
              <a:rPr b="0" lang="en-US" sz="3200" spc="-1" strike="noStrike">
                <a:solidFill>
                  <a:srgbClr val="808080"/>
                </a:solidFill>
                <a:latin typeface="Arial Rounded MT Bold"/>
              </a:rPr>
              <a:t>our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pilgrimage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1371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Tell me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the greatest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story ever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2860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OPEN GROUPS</a:t>
            </a:r>
            <a:r>
              <a:rPr b="1" lang="en-US" sz="3200" spc="-1" strike="noStrike">
                <a:solidFill>
                  <a:srgbClr val="808080"/>
                </a:solidFill>
                <a:latin typeface="Arial Rounded MT Bold"/>
              </a:rPr>
              <a:t>: an intentional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3276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Rounded MT Bold"/>
              </a:rPr>
              <a:t>REJOICE …; w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41911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Intersect our life story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wi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God’s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533520"/>
            <a:ext cx="883944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3800" indent="-7938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 rot="5400000">
            <a:off x="-1904760" y="297144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364520" y="586728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600200" y="533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Sharing </a:t>
            </a:r>
            <a:r>
              <a:rPr b="0" lang="en-US" sz="3200" spc="-1" strike="noStrike">
                <a:solidFill>
                  <a:srgbClr val="808080"/>
                </a:solidFill>
                <a:latin typeface="Arial Rounded MT Bold"/>
              </a:rPr>
              <a:t>our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pilgrimage of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1371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Tell me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the greatest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"/>
              </a:rPr>
              <a:t>story ever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22860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OPEN GROUPS</a:t>
            </a:r>
            <a:r>
              <a:rPr b="1" lang="en-US" sz="3200" spc="-1" strike="noStrike">
                <a:solidFill>
                  <a:srgbClr val="808080"/>
                </a:solidFill>
                <a:latin typeface="Arial Rounded MT Bold"/>
              </a:rPr>
              <a:t>: an intentional </a:t>
            </a:r>
            <a:r>
              <a:rPr b="1" lang="en-US" sz="3200" spc="-1" strike="noStrike" u="sng">
                <a:solidFill>
                  <a:srgbClr val="808080"/>
                </a:solidFill>
                <a:uFillTx/>
                <a:latin typeface="Arial Rounded MT Bold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3276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Rounded MT Bold"/>
              </a:rPr>
              <a:t>REJOICE …; w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41911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8080"/>
                </a:solidFill>
                <a:uFillTx/>
                <a:latin typeface="Arial Rounded MT Bold"/>
              </a:rPr>
              <a:t>Intersect our life story</a:t>
            </a:r>
            <a:r>
              <a:rPr b="1" lang="en-US" sz="2800" spc="-1" strike="noStrike">
                <a:solidFill>
                  <a:srgbClr val="808080"/>
                </a:solidFill>
                <a:latin typeface="Arial Rounded MT Bold"/>
              </a:rPr>
              <a:t> with </a:t>
            </a:r>
            <a:r>
              <a:rPr b="1" lang="en-US" sz="2800" spc="-1" strike="noStrike" u="sng">
                <a:solidFill>
                  <a:srgbClr val="808080"/>
                </a:solidFill>
                <a:uFillTx/>
                <a:latin typeface="Arial Rounded MT Bold"/>
              </a:rPr>
              <a:t>God’s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00200" y="4495680"/>
            <a:ext cx="5486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veryone has a story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990720" y="-685800"/>
            <a:ext cx="7162560" cy="7620120"/>
            <a:chOff x="990720" y="-685800"/>
            <a:chExt cx="7162560" cy="7620120"/>
          </a:xfrm>
        </p:grpSpPr>
        <p:sp>
          <p:nvSpPr>
            <p:cNvPr id="69" name=""/>
            <p:cNvSpPr/>
            <p:nvPr/>
          </p:nvSpPr>
          <p:spPr>
            <a:xfrm>
              <a:off x="2819520" y="-685800"/>
              <a:ext cx="3124080" cy="5715000"/>
            </a:xfrm>
            <a:prstGeom prst="triangle">
              <a:avLst>
                <a:gd name="adj" fmla="val 50000"/>
              </a:avLst>
            </a:prstGeom>
            <a:noFill/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86000" y="5029200"/>
              <a:ext cx="533520" cy="1905120"/>
            </a:xfrm>
            <a:prstGeom prst="line">
              <a:avLst/>
            </a:prstGeom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3600" y="5029200"/>
              <a:ext cx="533520" cy="1905120"/>
            </a:xfrm>
            <a:prstGeom prst="line">
              <a:avLst/>
            </a:prstGeom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1219320"/>
              <a:ext cx="7162560" cy="4217760"/>
            </a:xfrm>
            <a:prstGeom prst="rect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eaeaea"/>
                </a:gs>
              </a:gsLst>
              <a:lin ang="5400000"/>
            </a:gra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5465880"/>
              <a:ext cx="609480" cy="759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91320" y="5465880"/>
              <a:ext cx="609480" cy="759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066680" y="2209680"/>
            <a:ext cx="7010640" cy="1362240"/>
            <a:chOff x="1066680" y="2209680"/>
            <a:chExt cx="7010640" cy="1362240"/>
          </a:xfrm>
        </p:grpSpPr>
        <p:sp>
          <p:nvSpPr>
            <p:cNvPr id="76" name=""/>
            <p:cNvSpPr/>
            <p:nvPr/>
          </p:nvSpPr>
          <p:spPr>
            <a:xfrm>
              <a:off x="1066680" y="2209680"/>
              <a:ext cx="6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066680" y="2560680"/>
              <a:ext cx="4262400" cy="58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5297ac"/>
                  </a:solidFill>
                  <a:effectLst>
                    <a:outerShdw dist="17819" dir="2700000" blurRad="0" rotWithShape="0">
                      <a:srgbClr val="dddddd"/>
                    </a:outerShdw>
                  </a:effectLst>
                  <a:latin typeface="Arial Black"/>
                </a:rPr>
                <a:t>DISCOVER</a:t>
              </a:r>
              <a:endParaRPr b="1" lang="en-US" sz="1800" spc="1" strike="noStrike">
                <a:ln w="0">
                  <a:noFill/>
                </a:ln>
                <a:solidFill>
                  <a:srgbClr val="5297ac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5332320" y="2558880"/>
              <a:ext cx="2745000" cy="554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dddddd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RIAD</a:t>
              </a:r>
              <a:endParaRPr b="0" lang="en-US" sz="1800" spc="1" strike="noStrike">
                <a:ln w="9360">
                  <a:solidFill>
                    <a:srgbClr val="dddddd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3203640"/>
              <a:ext cx="678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THREE FACETS OF A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YNAMIC SUNDAY SCHOOL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 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533520"/>
            <a:ext cx="883944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3800" indent="-7938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 rot="5400000">
            <a:off x="-1904760" y="2971440"/>
            <a:ext cx="6095880" cy="106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64520" y="586728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590920" y="1371600"/>
            <a:ext cx="50004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fe place to sh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33680" y="2703600"/>
            <a:ext cx="40766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w Scripture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8120" y="3352680"/>
            <a:ext cx="51051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mpacting our stor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2120" y="5943600"/>
            <a:ext cx="76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274284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3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064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97ac"/>
                </a:solidFill>
                <a:latin typeface="Arial Rounded MT Bold"/>
              </a:rPr>
              <a:t>Jesus modeled discovery teaching and learning</a:t>
            </a:r>
            <a:endParaRPr b="1" lang="en-US" sz="4800" spc="-1" strike="noStrike">
              <a:solidFill>
                <a:srgbClr val="808080"/>
              </a:solidFill>
              <a:latin typeface="Arial Black"/>
            </a:endParaRPr>
          </a:p>
          <a:p>
            <a:pPr marL="793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064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8080"/>
              </a:solidFill>
              <a:latin typeface="Arial Black"/>
            </a:endParaRPr>
          </a:p>
          <a:p>
            <a:pPr marL="793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064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We are to learn from Jesus’ example as we teach God’s Word</a:t>
            </a:r>
            <a:endParaRPr b="1" lang="en-US" sz="3600" spc="-1" strike="noStrike">
              <a:solidFill>
                <a:srgbClr val="808080"/>
              </a:solidFill>
              <a:latin typeface="Arial Black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rcRect l="13847" t="0" r="0" b="0"/>
            <a:stretch/>
          </p:blipFill>
          <p:spPr>
            <a:xfrm>
              <a:off x="0" y="0"/>
              <a:ext cx="1422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rcRect l="0" t="0" r="17045" b="0"/>
            <a:stretch/>
          </p:blipFill>
          <p:spPr>
            <a:xfrm>
              <a:off x="1422360" y="0"/>
              <a:ext cx="1854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4800600" y="0"/>
              <a:ext cx="2514600" cy="16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rcRect l="21762" t="0" r="5182" b="0"/>
            <a:stretch/>
          </p:blipFill>
          <p:spPr>
            <a:xfrm>
              <a:off x="7315200" y="0"/>
              <a:ext cx="1828800" cy="16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3276720" y="0"/>
              <a:ext cx="16603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0" y="1676520"/>
              <a:ext cx="9144000" cy="0"/>
            </a:xfrm>
            <a:prstGeom prst="line">
              <a:avLst/>
            </a:prstGeom>
            <a:ln w="28440">
              <a:solidFill>
                <a:srgbClr val="488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52280" y="1752480"/>
            <a:ext cx="8839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93800" indent="-7938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04640"/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 rot="3402000">
            <a:off x="6009840" y="2760480"/>
            <a:ext cx="1913040" cy="41097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1034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Discover </a:t>
            </a:r>
            <a:br>
              <a:rPr sz="5400"/>
            </a:b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Focus of </a:t>
            </a:r>
            <a:r>
              <a:rPr b="1" lang="en-US" sz="7200" spc="-1" strike="noStrike">
                <a:solidFill>
                  <a:srgbClr val="488396"/>
                </a:solidFill>
                <a:latin typeface="Arial Black"/>
              </a:rPr>
              <a:t>Shepherding</a:t>
            </a:r>
            <a:endParaRPr b="1" lang="en-US" sz="72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3402000">
            <a:off x="5822640" y="1949040"/>
            <a:ext cx="1912680" cy="41101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1798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How the Shepherd </a:t>
            </a:r>
            <a:br>
              <a:rPr sz="5400"/>
            </a:b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is different</a:t>
            </a: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 rot="3402000">
            <a:off x="5822640" y="1949040"/>
            <a:ext cx="1912680" cy="41101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88396"/>
                </a:solidFill>
                <a:latin typeface="Arial Black"/>
              </a:rPr>
              <a:t>The Discover Triad: Shepherding</a:t>
            </a:r>
            <a:endParaRPr b="1" lang="en-US" sz="48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202716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Examine your Reading Assignment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Compile key ideas from your assignment as a team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 rot="3402000">
            <a:off x="5822640" y="1949040"/>
            <a:ext cx="1912680" cy="41101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554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Shepherds Know Their Flock</a:t>
            </a:r>
            <a:endParaRPr b="1" lang="en-US" sz="4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268" name="" descr=""/>
            <p:cNvPicPr/>
            <p:nvPr/>
          </p:nvPicPr>
          <p:blipFill>
            <a:blip r:embed="rId3"/>
            <a:srcRect l="13847" t="0" r="0" b="0"/>
            <a:stretch/>
          </p:blipFill>
          <p:spPr>
            <a:xfrm>
              <a:off x="0" y="0"/>
              <a:ext cx="1422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rcRect l="0" t="0" r="17045" b="0"/>
            <a:stretch/>
          </p:blipFill>
          <p:spPr>
            <a:xfrm>
              <a:off x="1422360" y="0"/>
              <a:ext cx="185436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4800600" y="0"/>
              <a:ext cx="2514600" cy="16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6"/>
            <a:srcRect l="21762" t="0" r="5182" b="0"/>
            <a:stretch/>
          </p:blipFill>
          <p:spPr>
            <a:xfrm>
              <a:off x="7315200" y="0"/>
              <a:ext cx="1828800" cy="16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3276720" y="0"/>
              <a:ext cx="16603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0" y="1676520"/>
              <a:ext cx="9144000" cy="0"/>
            </a:xfrm>
            <a:prstGeom prst="line">
              <a:avLst/>
            </a:prstGeom>
            <a:ln w="28440">
              <a:solidFill>
                <a:srgbClr val="4883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 rot="3402000">
            <a:off x="5746320" y="2101680"/>
            <a:ext cx="1913040" cy="41097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The Shepherd’s Staff</a:t>
            </a: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Adult Class </a:t>
            </a:r>
            <a:br>
              <a:rPr sz="4400"/>
            </a:b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Leader Job Descriptions</a:t>
            </a:r>
            <a:endParaRPr b="1" lang="en-US" sz="4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eacher</a:t>
            </a: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– leads class to discover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utreach</a:t>
            </a: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– leads class to invite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ospitality</a:t>
            </a: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 – leads class to connect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Your class needs at least THREE workers.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Each worker builds relationship with up to five members.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Members help lead the class as it functions (prayer, administration, missions, ministry) 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3402000">
            <a:off x="5746320" y="2101680"/>
            <a:ext cx="1913040" cy="4109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1034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The Shepherd’s Secret Weapon</a:t>
            </a: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990720" y="-685800"/>
            <a:ext cx="7162560" cy="7620120"/>
            <a:chOff x="990720" y="-685800"/>
            <a:chExt cx="7162560" cy="7620120"/>
          </a:xfrm>
        </p:grpSpPr>
        <p:sp>
          <p:nvSpPr>
            <p:cNvPr id="83" name=""/>
            <p:cNvSpPr/>
            <p:nvPr/>
          </p:nvSpPr>
          <p:spPr>
            <a:xfrm>
              <a:off x="2819520" y="-685800"/>
              <a:ext cx="3124080" cy="5715000"/>
            </a:xfrm>
            <a:prstGeom prst="triangle">
              <a:avLst>
                <a:gd name="adj" fmla="val 50000"/>
              </a:avLst>
            </a:prstGeom>
            <a:noFill/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286000" y="5029200"/>
              <a:ext cx="533520" cy="1905120"/>
            </a:xfrm>
            <a:prstGeom prst="line">
              <a:avLst/>
            </a:prstGeom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5029200"/>
              <a:ext cx="533520" cy="1905120"/>
            </a:xfrm>
            <a:prstGeom prst="line">
              <a:avLst/>
            </a:prstGeom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0720" y="1219320"/>
              <a:ext cx="7162560" cy="4217760"/>
            </a:xfrm>
            <a:prstGeom prst="rect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eaeaea"/>
                </a:gs>
              </a:gsLst>
              <a:lin ang="5400000"/>
            </a:gra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62320" y="5465880"/>
              <a:ext cx="609480" cy="759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1320" y="5465880"/>
              <a:ext cx="609480" cy="759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1833480" y="1936800"/>
            <a:ext cx="532944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297ac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Arial Black"/>
              </a:rPr>
              <a:t>DISCOVER</a:t>
            </a:r>
            <a:endParaRPr b="1" lang="en-US" sz="1800" spc="1" strike="noStrike">
              <a:ln w="0">
                <a:noFill/>
              </a:ln>
              <a:solidFill>
                <a:srgbClr val="5297ac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29076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 Black"/>
              </a:rPr>
              <a:t>Someone who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590920" y="272880"/>
            <a:ext cx="3995640" cy="5274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590920" y="272880"/>
            <a:ext cx="4743360" cy="5274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90920" y="272880"/>
            <a:ext cx="4743360" cy="6313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814400" y="271440"/>
            <a:ext cx="5515200" cy="6313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814400" y="271440"/>
            <a:ext cx="5515200" cy="63136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268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What have you (re)discovered about the role of </a:t>
            </a:r>
            <a:br>
              <a:rPr sz="4400"/>
            </a:br>
            <a:br>
              <a:rPr sz="4400"/>
            </a:br>
            <a:r>
              <a:rPr b="1" lang="en-US" sz="7200" spc="-1" strike="noStrike">
                <a:solidFill>
                  <a:srgbClr val="ff6d6d"/>
                </a:solidFill>
                <a:latin typeface="Arial Black"/>
              </a:rPr>
              <a:t>TEACHER</a:t>
            </a: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1798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What have you (re)discovered about the role of </a:t>
            </a:r>
            <a:br>
              <a:rPr sz="4400"/>
            </a:br>
            <a:br>
              <a:rPr sz="4400"/>
            </a:br>
            <a:r>
              <a:rPr b="1" lang="en-US" sz="8000" spc="-1" strike="noStrike">
                <a:solidFill>
                  <a:srgbClr val="ff6d6d"/>
                </a:solidFill>
                <a:latin typeface="Arial Black"/>
              </a:rPr>
              <a:t>SHEPHERD</a:t>
            </a:r>
            <a:r>
              <a:rPr b="1" lang="en-US" sz="4400" spc="-1" strike="noStrike">
                <a:solidFill>
                  <a:srgbClr val="488396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488396"/>
              </a:solidFill>
              <a:latin typeface="Arial Black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2 Kings 23:1-3</a:t>
            </a: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Gather people together who need to hear God’s good news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Lead people to rediscover the power of God’s Word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Recommit to keep the promise between God and His people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Agree to the covenant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The Power of </a:t>
            </a:r>
            <a:r>
              <a:rPr b="1" lang="en-US" sz="4400" spc="-1" strike="noStrike">
                <a:solidFill>
                  <a:srgbClr val="ff6d6d"/>
                </a:solidFill>
                <a:latin typeface="Arial Black"/>
              </a:rPr>
              <a:t>Scripture</a:t>
            </a: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The Significance of </a:t>
            </a:r>
            <a:r>
              <a:rPr b="1" lang="en-US" sz="4400" spc="-1" strike="noStrike">
                <a:solidFill>
                  <a:srgbClr val="ff6d6d"/>
                </a:solidFill>
                <a:latin typeface="Arial Black"/>
              </a:rPr>
              <a:t>Stories</a:t>
            </a: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The Focus of </a:t>
            </a:r>
            <a:r>
              <a:rPr b="1" lang="en-US" sz="4400" spc="-1" strike="noStrike">
                <a:solidFill>
                  <a:srgbClr val="ff6d6d"/>
                </a:solidFill>
                <a:latin typeface="Arial Black"/>
              </a:rPr>
              <a:t>Shepherding</a:t>
            </a: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828800" y="533520"/>
            <a:ext cx="532908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297ac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Arial Black"/>
              </a:rPr>
              <a:t>DISCOVER</a:t>
            </a:r>
            <a:endParaRPr b="1" lang="en-US" sz="1800" spc="1" strike="noStrike">
              <a:ln w="0">
                <a:noFill/>
              </a:ln>
              <a:solidFill>
                <a:srgbClr val="5297ac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0"/>
            <a:ext cx="9147240" cy="1663560"/>
            <a:chOff x="0" y="0"/>
            <a:chExt cx="9147240" cy="1663560"/>
          </a:xfrm>
        </p:grpSpPr>
        <p:sp>
          <p:nvSpPr>
            <p:cNvPr id="319" name=""/>
            <p:cNvSpPr txBox="1"/>
            <p:nvPr/>
          </p:nvSpPr>
          <p:spPr>
            <a:xfrm>
              <a:off x="5562720" y="455760"/>
              <a:ext cx="3581280" cy="72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dddddd">
                        <a:alpha val="50000"/>
                      </a:srgbClr>
                    </a:outerShdw>
                  </a:effectLst>
                  <a:latin typeface="Arial Black"/>
                </a:rPr>
                <a:t>TRIAD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dddddd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0" y="0"/>
              <a:ext cx="9147240" cy="1663560"/>
              <a:chOff x="0" y="0"/>
              <a:chExt cx="9147240" cy="166356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TH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0" y="457200"/>
                <a:ext cx="556272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5297ac"/>
                    </a:solidFill>
                    <a:effectLst>
                      <a:outerShdw dist="17819" dir="2700000" blurRad="0" rotWithShape="0">
                        <a:srgbClr val="dddddd"/>
                      </a:outerShdw>
                    </a:effectLst>
                    <a:latin typeface="Arial Black"/>
                  </a:rPr>
                  <a:t>DISCOVER</a:t>
                </a:r>
                <a:endParaRPr b="1" lang="en-US" sz="1800" spc="1" strike="noStrike">
                  <a:ln w="0">
                    <a:noFill/>
                  </a:ln>
                  <a:solidFill>
                    <a:srgbClr val="5297ac"/>
                  </a:solidFill>
                  <a:effectLst>
                    <a:outerShdw dist="17819" dir="2700000" blurRad="0" rotWithShape="0">
                      <a:srgbClr val="dddddd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5565600" y="455760"/>
                <a:ext cx="3581640" cy="723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dddddd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RIAD</a:t>
                </a:r>
                <a:endParaRPr b="0" lang="en-US" sz="1800" spc="1" strike="noStrike">
                  <a:ln w="9360">
                    <a:solidFill>
                      <a:srgbClr val="dddddd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2120" y="1295280"/>
                <a:ext cx="662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THREE FACETS OF A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DYNAMIC SUNDAY SCHOOL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 CLA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5" name="" descr=""/>
          <p:cNvPicPr/>
          <p:nvPr/>
        </p:nvPicPr>
        <p:blipFill>
          <a:blip r:embed="rId1"/>
          <a:srcRect l="0" t="2858" r="0" b="1425"/>
          <a:stretch/>
        </p:blipFill>
        <p:spPr>
          <a:xfrm>
            <a:off x="4056120" y="1676520"/>
            <a:ext cx="5087880" cy="52578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990720" y="-685800"/>
            <a:ext cx="7162560" cy="7620120"/>
            <a:chOff x="990720" y="-685800"/>
            <a:chExt cx="7162560" cy="7620120"/>
          </a:xfrm>
        </p:grpSpPr>
        <p:sp>
          <p:nvSpPr>
            <p:cNvPr id="94" name=""/>
            <p:cNvSpPr/>
            <p:nvPr/>
          </p:nvSpPr>
          <p:spPr>
            <a:xfrm>
              <a:off x="2819520" y="-685800"/>
              <a:ext cx="3124080" cy="5715000"/>
            </a:xfrm>
            <a:prstGeom prst="triangle">
              <a:avLst>
                <a:gd name="adj" fmla="val 50000"/>
              </a:avLst>
            </a:prstGeom>
            <a:noFill/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86000" y="5029200"/>
              <a:ext cx="533520" cy="1905120"/>
            </a:xfrm>
            <a:prstGeom prst="line">
              <a:avLst/>
            </a:prstGeom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3600" y="5029200"/>
              <a:ext cx="533520" cy="1905120"/>
            </a:xfrm>
            <a:prstGeom prst="line">
              <a:avLst/>
            </a:prstGeom>
            <a:ln w="190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1219320"/>
              <a:ext cx="7162560" cy="4217760"/>
            </a:xfrm>
            <a:prstGeom prst="rect">
              <a:avLst/>
            </a:prstGeom>
            <a:gradFill rotWithShape="0">
              <a:gsLst>
                <a:gs pos="0">
                  <a:srgbClr val="fbfbfb"/>
                </a:gs>
                <a:gs pos="100000">
                  <a:srgbClr val="eaeaea"/>
                </a:gs>
              </a:gsLst>
              <a:lin ang="5400000"/>
            </a:gradFill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62320" y="5465880"/>
              <a:ext cx="609480" cy="759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5465880"/>
              <a:ext cx="609480" cy="759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066680" y="236232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 Black"/>
              </a:rPr>
              <a:t>… </a:t>
            </a:r>
            <a:r>
              <a:rPr b="1" lang="en-US" sz="4800" spc="-1" strike="noStrike">
                <a:solidFill>
                  <a:srgbClr val="808080"/>
                </a:solidFill>
                <a:latin typeface="Arial Black"/>
              </a:rPr>
              <a:t>a dream for your Sunday Sch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The Power of </a:t>
            </a:r>
            <a:r>
              <a:rPr b="1" lang="en-US" sz="4400" spc="-1" strike="noStrike">
                <a:solidFill>
                  <a:srgbClr val="ff6d6d"/>
                </a:solidFill>
                <a:latin typeface="Arial Black"/>
              </a:rPr>
              <a:t>Scripture</a:t>
            </a: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The Significance of </a:t>
            </a:r>
            <a:r>
              <a:rPr b="1" lang="en-US" sz="4400" spc="-1" strike="noStrike">
                <a:solidFill>
                  <a:srgbClr val="ff6d6d"/>
                </a:solidFill>
                <a:latin typeface="Arial Black"/>
              </a:rPr>
              <a:t>Stories</a:t>
            </a: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The Focus of </a:t>
            </a:r>
            <a:r>
              <a:rPr b="1" lang="en-US" sz="4400" spc="-1" strike="noStrike">
                <a:solidFill>
                  <a:srgbClr val="ff6d6d"/>
                </a:solidFill>
                <a:latin typeface="Arial Black"/>
              </a:rPr>
              <a:t>Shepherding</a:t>
            </a:r>
            <a:endParaRPr b="1" lang="en-US" sz="44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800" y="533520"/>
            <a:ext cx="532908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5297ac"/>
                </a:solidFill>
                <a:effectLst>
                  <a:outerShdw dist="17819" dir="2700000" blurRad="0" rotWithShape="0">
                    <a:srgbClr val="dddddd"/>
                  </a:outerShdw>
                </a:effectLst>
                <a:latin typeface="Arial Black"/>
              </a:rPr>
              <a:t>DISCOVER</a:t>
            </a:r>
            <a:endParaRPr b="1" lang="en-US" sz="1800" spc="1" strike="noStrike">
              <a:ln w="0">
                <a:noFill/>
              </a:ln>
              <a:solidFill>
                <a:srgbClr val="5297ac"/>
              </a:solidFill>
              <a:effectLst>
                <a:outerShdw dist="17819" dir="2700000" blurRad="0" rotWithShape="0">
                  <a:srgbClr val="ddddd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88396"/>
                </a:solidFill>
                <a:latin typeface="Arial Black"/>
              </a:rPr>
              <a:t>Read and summarize</a:t>
            </a:r>
            <a:endParaRPr b="1" lang="en-US" sz="54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2 Chronicles 33:21-34:7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2 Chronicles 34:8-13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2 Chronicles 34:14-25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Black"/>
              </a:rPr>
              <a:t>2 Chronicles 34:26-33</a:t>
            </a:r>
            <a:endParaRPr b="1" lang="en-US" sz="3200" spc="-1" strike="noStrike">
              <a:solidFill>
                <a:srgbClr val="80808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8396"/>
                </a:solidFill>
                <a:latin typeface="Arial Black"/>
              </a:rPr>
              <a:t>Purpose of Discovering</a:t>
            </a:r>
            <a:br>
              <a:rPr sz="4800"/>
            </a:br>
            <a:r>
              <a:rPr b="1" lang="en-US" sz="3600" spc="-1" strike="noStrike">
                <a:solidFill>
                  <a:srgbClr val="488396"/>
                </a:solidFill>
                <a:latin typeface="Arial Black"/>
              </a:rPr>
              <a:t>2 Chronicles 33:21-34:7</a:t>
            </a:r>
            <a:endParaRPr b="1" lang="en-US" sz="36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Are we rediscovering </a:t>
            </a:r>
            <a:br>
              <a:rPr sz="4000"/>
            </a:b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the need to 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8080"/>
                </a:solidFill>
                <a:uFillTx/>
                <a:latin typeface="Arial Black"/>
              </a:rPr>
              <a:t>______________________________</a:t>
            </a: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?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747960"/>
            <a:ext cx="754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d6d"/>
                </a:solidFill>
                <a:latin typeface="Arial Black"/>
              </a:rPr>
              <a:t>remove obstacles in our lif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8396"/>
                </a:solidFill>
                <a:latin typeface="Arial Black"/>
              </a:rPr>
              <a:t>Purpose of Discovering</a:t>
            </a:r>
            <a:br>
              <a:rPr sz="4800"/>
            </a:br>
            <a:r>
              <a:rPr b="1" lang="en-US" sz="4000" spc="-1" strike="noStrike">
                <a:solidFill>
                  <a:srgbClr val="488396"/>
                </a:solidFill>
                <a:latin typeface="Arial Black"/>
              </a:rPr>
              <a:t>2 Chronicles 34:8-13</a:t>
            </a:r>
            <a:endParaRPr b="1" lang="en-US" sz="4000" spc="-1" strike="noStrike">
              <a:solidFill>
                <a:srgbClr val="48839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Are we rediscovering </a:t>
            </a:r>
            <a:br>
              <a:rPr sz="4000"/>
            </a:b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the need to 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808080"/>
                </a:solidFill>
                <a:uFillTx/>
                <a:latin typeface="Arial Black"/>
              </a:rPr>
              <a:t>______________________________</a:t>
            </a:r>
            <a:r>
              <a:rPr b="1" lang="en-US" sz="4000" spc="-1" strike="noStrike">
                <a:solidFill>
                  <a:srgbClr val="808080"/>
                </a:solidFill>
                <a:latin typeface="Arial Black"/>
              </a:rPr>
              <a:t>?</a:t>
            </a:r>
            <a:endParaRPr b="1" lang="en-US" sz="4000" spc="-1" strike="noStrike">
              <a:solidFill>
                <a:srgbClr val="80808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09880"/>
            <a:ext cx="8305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6d6d"/>
                </a:solidFill>
                <a:latin typeface="Arial Black"/>
              </a:rPr>
              <a:t>repair the temple with integr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64520" y="5943600"/>
            <a:ext cx="1779480" cy="457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4920" y="6095880"/>
            <a:ext cx="533160" cy="5335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21:33:24Z</dcterms:created>
  <dc:creator> </dc:creator>
  <dc:description/>
  <dc:language>en-US</dc:language>
  <cp:lastModifiedBy>DAPPLE</cp:lastModifiedBy>
  <dcterms:modified xsi:type="dcterms:W3CDTF">2008-01-15T17:22:19Z</dcterms:modified>
  <cp:revision>29</cp:revision>
  <dc:subject/>
  <dc:title>Welcome!</dc:title>
</cp:coreProperties>
</file>