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2844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7280" y="1962000"/>
            <a:ext cx="7086600" cy="19400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744480"/>
            <a:ext cx="777240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5760" indent="-628560">
              <a:spcBef>
                <a:spcPts val="2100"/>
              </a:spcBef>
              <a:buClr>
                <a:srgbClr val="003366"/>
              </a:buClr>
              <a:buFont typeface="Arial"/>
              <a:buAutoNum type="arabicPeriod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Teachers 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085760" indent="-628560">
              <a:spcBef>
                <a:spcPts val="1400"/>
              </a:spcBef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eartbeat of the Sunday School mov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br>
              <a:rPr sz="3200"/>
            </a:b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nday School movement has not been built by ministers, but by men and women committed to following God’s call to teach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5760" indent="-628560">
              <a:lnSpc>
                <a:spcPct val="95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730080"/>
            <a:ext cx="777240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5760" indent="-628560">
              <a:spcBef>
                <a:spcPts val="2100"/>
              </a:spcBef>
              <a:buClr>
                <a:srgbClr val="003366"/>
              </a:buClr>
              <a:buFont typeface="Arial"/>
              <a:buAutoNum type="arabicPeriod" startAt="2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Learners 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085760" indent="-628560">
              <a:spcBef>
                <a:spcPts val="1400"/>
              </a:spcBef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ocus of the Sunday School mov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br>
              <a:rPr sz="3200"/>
            </a:b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cus is for this group to not only gain a head knowledge of the Bible, but to see their lives trans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5760" indent="-628560">
              <a:lnSpc>
                <a:spcPct val="95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738360"/>
            <a:ext cx="777240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5760" indent="-628560">
              <a:spcBef>
                <a:spcPts val="2100"/>
              </a:spcBef>
              <a:buClr>
                <a:srgbClr val="003366"/>
              </a:buClr>
              <a:buFont typeface="Arial"/>
              <a:buAutoNum type="arabicPeriod" startAt="3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The Class 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085760" indent="-628560">
              <a:spcBef>
                <a:spcPts val="1400"/>
              </a:spcBef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enius of the Sunday School mov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br>
              <a:rPr sz="3200"/>
            </a:b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oup of people who gather together, to learn from the Bible, in the context of a fun and caring fellowship of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5760" indent="-628560">
              <a:lnSpc>
                <a:spcPct val="95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735120"/>
            <a:ext cx="777240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5760" indent="-628560">
              <a:spcBef>
                <a:spcPts val="2100"/>
              </a:spcBef>
              <a:buClr>
                <a:srgbClr val="003366"/>
              </a:buClr>
              <a:buFont typeface="Arial"/>
              <a:buAutoNum type="arabicPeriod" startAt="4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Discovery 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085760" indent="-628560">
              <a:spcBef>
                <a:spcPts val="1400"/>
              </a:spcBef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rk of a dynamic Sunday School clas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br>
              <a:rPr sz="3200"/>
            </a:b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learning that changes conduct significantly is learning that is self-discovered. Never tell anyone anything he can discover for him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5760" indent="-628560">
              <a:lnSpc>
                <a:spcPct val="95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28600" y="1228680"/>
            <a:ext cx="95727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4572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Limiting questions have a set of correct answer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277920" y="190440"/>
            <a:ext cx="9312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5760" indent="-628560" algn="ctr">
              <a:lnSpc>
                <a:spcPct val="95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Three Types of Question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5262480"/>
            <a:ext cx="91440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457200" algn="ctr">
              <a:lnSpc>
                <a:spcPct val="95000"/>
              </a:lnSpc>
              <a:spcBef>
                <a:spcPts val="1137"/>
              </a:spcBef>
              <a:tabLst>
                <a:tab algn="l" pos="0"/>
                <a:tab algn="l" pos="91440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:  How do you think it feels to be bulli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57240" y="1884240"/>
            <a:ext cx="91440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457200" algn="ctr">
              <a:lnSpc>
                <a:spcPct val="95000"/>
              </a:lnSpc>
              <a:spcBef>
                <a:spcPts val="1137"/>
              </a:spcBef>
              <a:tabLst>
                <a:tab algn="l" pos="0"/>
                <a:tab algn="l" pos="91440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: 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are the two major divisions of the Bi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72080"/>
            <a:ext cx="91440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457200" algn="ctr">
              <a:lnSpc>
                <a:spcPct val="95000"/>
              </a:lnSpc>
              <a:spcBef>
                <a:spcPts val="1137"/>
              </a:spcBef>
              <a:tabLst>
                <a:tab algn="l" pos="0"/>
                <a:tab algn="l" pos="91440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:  Did God create the worl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200160" y="4591080"/>
            <a:ext cx="937260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4572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Open questions do not have one correct answer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228600" y="2933640"/>
            <a:ext cx="914400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45720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Closed questions can be answered with a “yes” or “no.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81040" y="2219400"/>
            <a:ext cx="7962840" cy="33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5760" indent="-628560">
              <a:lnSpc>
                <a:spcPct val="95000"/>
              </a:lnSpc>
              <a:spcBef>
                <a:spcPts val="1488"/>
              </a:spcBef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54"/>
                </a:solidFill>
                <a:latin typeface="Arial"/>
              </a:rPr>
              <a:t>Concise</a:t>
            </a:r>
            <a:r>
              <a:rPr b="1" lang="en-US" sz="3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54"/>
                </a:solidFill>
                <a:latin typeface="Arial"/>
              </a:rPr>
              <a:t>Challeng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085760" indent="-628560">
              <a:lnSpc>
                <a:spcPct val="95000"/>
              </a:lnSpc>
              <a:spcBef>
                <a:spcPts val="1488"/>
              </a:spcBef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54"/>
                </a:solidFill>
                <a:latin typeface="Arial"/>
              </a:rPr>
              <a:t>Clear</a:t>
            </a:r>
            <a:r>
              <a:rPr b="1" lang="en-US" sz="3400" spc="-1" strike="noStrike">
                <a:solidFill>
                  <a:srgbClr val="000054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54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54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54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54"/>
                </a:solidFill>
                <a:latin typeface="Arial"/>
              </a:rPr>
              <a:t>Creative</a:t>
            </a:r>
            <a:r>
              <a:rPr b="1" lang="en-US" sz="3400" spc="-1" strike="noStrike">
                <a:solidFill>
                  <a:srgbClr val="000054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085760" indent="-628560">
              <a:lnSpc>
                <a:spcPct val="95000"/>
              </a:lnSpc>
              <a:spcBef>
                <a:spcPts val="1488"/>
              </a:spcBef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54"/>
                </a:solidFill>
                <a:latin typeface="Arial"/>
              </a:rPr>
              <a:t>Complete</a:t>
            </a:r>
            <a:r>
              <a:rPr b="1" lang="en-US" sz="3400" spc="-1" strike="noStrike">
                <a:solidFill>
                  <a:srgbClr val="000054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54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54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54"/>
                </a:solidFill>
                <a:latin typeface="Arial"/>
              </a:rPr>
              <a:t>Controversi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085760" indent="-628560">
              <a:lnSpc>
                <a:spcPct val="95000"/>
              </a:lnSpc>
              <a:spcBef>
                <a:spcPts val="1488"/>
              </a:spcBef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54"/>
                </a:solidFill>
                <a:latin typeface="Arial"/>
              </a:rPr>
              <a:t>Connected</a:t>
            </a:r>
            <a:r>
              <a:rPr b="1" lang="en-US" sz="3400" spc="-1" strike="noStrike">
                <a:solidFill>
                  <a:srgbClr val="000054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54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54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54"/>
                </a:solidFill>
                <a:latin typeface="Arial"/>
              </a:rPr>
              <a:t>Considera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085760" indent="-628560" algn="ctr">
              <a:lnSpc>
                <a:spcPct val="95000"/>
              </a:lnSpc>
              <a:spcBef>
                <a:spcPts val="1488"/>
              </a:spcBef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54"/>
                </a:solidFill>
                <a:latin typeface="Arial"/>
              </a:rPr>
              <a:t>Conversation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3080" y="542880"/>
            <a:ext cx="84582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5760" indent="-628560" algn="ctr">
              <a:lnSpc>
                <a:spcPct val="95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9 Qualities of Great of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86080" y="244800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tor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33520" y="1457280"/>
            <a:ext cx="4476960" cy="314316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895320"/>
            <a:ext cx="6400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Take a few minutes to discuss, </a:t>
            </a:r>
            <a:br>
              <a:rPr sz="4800"/>
            </a:b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as a group, </a:t>
            </a:r>
            <a:br>
              <a:rPr sz="4800"/>
            </a:b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hymns and songs that tell stor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2600280"/>
            <a:ext cx="7925040" cy="24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5760" indent="-628560">
              <a:lnSpc>
                <a:spcPct val="95000"/>
              </a:lnSpc>
              <a:spcBef>
                <a:spcPts val="1488"/>
              </a:spcBef>
              <a:buClr>
                <a:srgbClr val="000000"/>
              </a:buClr>
              <a:buFont typeface="Arial"/>
              <a:buAutoNum type="arabicPeriod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54"/>
                </a:solidFill>
                <a:latin typeface="Arial"/>
              </a:rPr>
              <a:t>Who is involved in this stor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085760" indent="-628560">
              <a:lnSpc>
                <a:spcPct val="95000"/>
              </a:lnSpc>
              <a:spcBef>
                <a:spcPts val="1488"/>
              </a:spcBef>
              <a:buClr>
                <a:srgbClr val="000000"/>
              </a:buClr>
              <a:buFont typeface="Arial"/>
              <a:buAutoNum type="arabicPeriod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54"/>
                </a:solidFill>
                <a:latin typeface="Arial"/>
              </a:rPr>
              <a:t>What happened in the stor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085760" indent="-628560">
              <a:lnSpc>
                <a:spcPct val="95000"/>
              </a:lnSpc>
              <a:spcBef>
                <a:spcPts val="1488"/>
              </a:spcBef>
              <a:buClr>
                <a:srgbClr val="000000"/>
              </a:buClr>
              <a:buFont typeface="Arial"/>
              <a:buAutoNum type="arabicPeriod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54"/>
                </a:solidFill>
                <a:latin typeface="Arial"/>
              </a:rPr>
              <a:t>How did this story impact m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085760" indent="-628560">
              <a:lnSpc>
                <a:spcPct val="95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23880"/>
            <a:ext cx="845820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5760" indent="-628560" algn="ctr">
              <a:lnSpc>
                <a:spcPct val="95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3300"/>
                </a:solidFill>
                <a:latin typeface="Arial"/>
              </a:rPr>
              <a:t>Creating Your Own Story in Three Part Harmony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220968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hepher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33680" y="1095480"/>
            <a:ext cx="5448240" cy="377172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51080" y="695160"/>
            <a:ext cx="2840040" cy="4604040"/>
          </a:xfrm>
          <a:prstGeom prst="rect">
            <a:avLst/>
          </a:prstGeom>
          <a:ln w="9360">
            <a:solidFill>
              <a:srgbClr val="0033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52560" y="41904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The Shepherd’s He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71360" y="1495440"/>
            <a:ext cx="931536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5760" indent="-62856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arabicPeriod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54"/>
                </a:solidFill>
                <a:latin typeface="Arial"/>
              </a:rPr>
              <a:t>Focuses on teaching people the Bi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085760" indent="-62856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arabicPeriod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54"/>
                </a:solidFill>
                <a:latin typeface="Arial"/>
              </a:rPr>
              <a:t>Will cut the learners more slack than the prophet or exhor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085760" indent="-62856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arabicPeriod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54"/>
                </a:solidFill>
                <a:latin typeface="Arial"/>
              </a:rPr>
              <a:t>Loves people and is protective of those under his c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085760" indent="-62856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arabicPeriod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54"/>
                </a:solidFill>
                <a:latin typeface="Arial"/>
              </a:rPr>
              <a:t>Usually remembers names, faces, and voices wel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085760" indent="-628560">
              <a:lnSpc>
                <a:spcPct val="95000"/>
              </a:lnSpc>
              <a:spcBef>
                <a:spcPts val="1312"/>
              </a:spcBef>
              <a:buClr>
                <a:srgbClr val="000000"/>
              </a:buClr>
              <a:buFont typeface="Arial"/>
              <a:buAutoNum type="arabicPeriod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54"/>
                </a:solidFill>
                <a:latin typeface="Arial"/>
              </a:rPr>
              <a:t>Tends to be self-sacrific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085760" indent="-628560">
              <a:lnSpc>
                <a:spcPct val="95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20560" y="0"/>
            <a:ext cx="81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Raising the Bar: Creating a Learner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0" y="1647720"/>
            <a:ext cx="9458280" cy="41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9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4"/>
                </a:solidFill>
                <a:latin typeface="Arial"/>
              </a:rPr>
              <a:t>Vital Inform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45720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4"/>
                </a:solidFill>
                <a:latin typeface="Arial"/>
              </a:rPr>
              <a:t>Name and Contact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4"/>
                </a:solidFill>
                <a:latin typeface="Arial"/>
              </a:rPr>
              <a:t>Birth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4"/>
                </a:solidFill>
                <a:latin typeface="Arial"/>
              </a:rPr>
              <a:t>Other significant dates (dates of brother’s birth, game day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4"/>
                </a:solidFill>
                <a:latin typeface="Arial"/>
              </a:rPr>
              <a:t>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20560" y="0"/>
            <a:ext cx="81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Raising the Bar: Creating a Learner Data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7120" y="2247840"/>
            <a:ext cx="84297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457200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4"/>
                </a:solidFill>
                <a:latin typeface="Arial"/>
              </a:rPr>
              <a:t>Extracurricular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4"/>
                </a:solidFill>
                <a:latin typeface="Arial"/>
              </a:rPr>
              <a:t>Familial Information (names of parents and sibling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4"/>
                </a:solidFill>
                <a:latin typeface="Arial"/>
              </a:rPr>
              <a:t>Has the child accepted Chr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4"/>
                </a:solidFill>
                <a:latin typeface="Arial"/>
              </a:rPr>
              <a:t>Has the child been baptiz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240" y="1571760"/>
            <a:ext cx="53438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4"/>
                </a:solidFill>
                <a:latin typeface="Arial"/>
              </a:rPr>
              <a:t>Vital Inform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Raising the Bar: Creating a Learner Databa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676520"/>
            <a:ext cx="876312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628920">
              <a:lnSpc>
                <a:spcPct val="105000"/>
              </a:lnSpc>
              <a:spcBef>
                <a:spcPts val="2024"/>
              </a:spcBef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4"/>
                </a:solidFill>
                <a:latin typeface="Arial"/>
              </a:rPr>
              <a:t>Optional Information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 indent="-62892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4"/>
                </a:solidFill>
                <a:latin typeface="Arial"/>
              </a:rPr>
              <a:t>Child’s Temper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 indent="-62892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4"/>
                </a:solidFill>
                <a:latin typeface="Arial"/>
              </a:rPr>
              <a:t>Love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 indent="-62892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4"/>
                </a:solidFill>
                <a:latin typeface="Arial"/>
              </a:rPr>
              <a:t>Favorite Th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 indent="-62892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4"/>
                </a:solidFill>
                <a:latin typeface="Arial"/>
              </a:rPr>
              <a:t>Pet Pee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28880" indent="-62892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4"/>
                </a:solidFill>
                <a:latin typeface="Arial"/>
              </a:rPr>
              <a:t>Spiritual Gifts / Tal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The Sunday School teacher who implements the Discover Triad will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343080" y="1981080"/>
            <a:ext cx="9487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5760" indent="-628560"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Lead a group of children to enjoy fellowship around an open Bi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085760" indent="-628560"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Teach through allowing discussion of God’s Wo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085760" indent="-628560"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Encourage his class through meaningful stor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085760" indent="-628560"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are for each child through a system of shepherd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76240" y="942840"/>
            <a:ext cx="2819520" cy="228600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38760" y="1019160"/>
            <a:ext cx="2819520" cy="228600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381480"/>
            <a:ext cx="2819160" cy="228600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1160" y="1781280"/>
            <a:ext cx="2305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crip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143680" y="1781280"/>
            <a:ext cx="2304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t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448080" y="4219560"/>
            <a:ext cx="2305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hepherd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med">
    <p:wheel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57280" y="1962000"/>
            <a:ext cx="7086600" cy="19400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71480" y="514440"/>
            <a:ext cx="7543800" cy="61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Purpose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lead Children’s Sunday School teachers to discover the three facets of a dynamic Sunday School clas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76560" y="3409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crip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76560" y="40957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t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7960" y="485784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a96"/>
                </a:solidFill>
                <a:latin typeface="Arial"/>
              </a:rPr>
              <a:t>Shepher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00280" y="3430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Find the missing letters in 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the following words:</a:t>
            </a: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33480" y="2085840"/>
            <a:ext cx="3657600" cy="32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 sc___rt___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xplor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___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___v___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___nti___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___re___iv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71960" y="2057400"/>
            <a:ext cx="35053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t___rmin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___liz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r___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95360" y="10476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Discover -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52560" y="1171440"/>
            <a:ext cx="441972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522360"/>
                <a:tab algn="l" pos="861840"/>
                <a:tab algn="l" pos="1436760"/>
                <a:tab algn="l" pos="182880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Ascertai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522360"/>
                <a:tab algn="l" pos="861840"/>
                <a:tab algn="l" pos="1436760"/>
                <a:tab algn="l" pos="182880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Explo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522360"/>
                <a:tab algn="l" pos="861840"/>
                <a:tab algn="l" pos="1436760"/>
                <a:tab algn="l" pos="182880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Hea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522360"/>
                <a:tab algn="l" pos="861840"/>
                <a:tab algn="l" pos="1436760"/>
                <a:tab algn="l" pos="182880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Reve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522360"/>
                <a:tab algn="l" pos="861840"/>
                <a:tab algn="l" pos="1436760"/>
                <a:tab algn="l" pos="182880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Identif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522360"/>
                <a:tab algn="l" pos="861840"/>
                <a:tab algn="l" pos="1436760"/>
                <a:tab algn="l" pos="182880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Percei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29280" y="1171440"/>
            <a:ext cx="4419360" cy="37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522360"/>
                <a:tab algn="l" pos="861840"/>
                <a:tab algn="l" pos="1436760"/>
                <a:tab algn="l" pos="182880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Se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522360"/>
                <a:tab algn="l" pos="861840"/>
                <a:tab algn="l" pos="1436760"/>
                <a:tab algn="l" pos="182880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Determ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522360"/>
                <a:tab algn="l" pos="861840"/>
                <a:tab algn="l" pos="1436760"/>
                <a:tab algn="l" pos="182880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Realiz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522360"/>
                <a:tab algn="l" pos="861840"/>
                <a:tab algn="l" pos="1436760"/>
                <a:tab algn="l" pos="182880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Gras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522360"/>
                <a:tab algn="l" pos="861840"/>
                <a:tab algn="l" pos="1436760"/>
                <a:tab algn="l" pos="182880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G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76240" y="942840"/>
            <a:ext cx="2819520" cy="228600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38760" y="1019160"/>
            <a:ext cx="2819520" cy="228600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3381480"/>
            <a:ext cx="2819160" cy="228600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81160" y="1781280"/>
            <a:ext cx="2305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crip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43680" y="1781280"/>
            <a:ext cx="2304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t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448080" y="4219560"/>
            <a:ext cx="2305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hepherd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med">
    <p:wheel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05120" y="1600200"/>
            <a:ext cx="4495680" cy="365760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971800" y="2971800"/>
            <a:ext cx="2685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crip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med">
    <p:wheel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3816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harps and Flats of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914400" y="5143680"/>
            <a:ext cx="36576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876240"/>
            <a:ext cx="3810240" cy="67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upports Southern Baptist doct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562040"/>
            <a:ext cx="3809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asily adaptable to different-sized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2263680"/>
            <a:ext cx="3810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ctivities are read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5235480"/>
            <a:ext cx="38102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ubstitute teachers can quickly and easily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2933640"/>
            <a:ext cx="3810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st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3330720"/>
            <a:ext cx="3810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ible Study for teachers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924360"/>
            <a:ext cx="3810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aching procedures are clearly wri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533840"/>
            <a:ext cx="3810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prehensive plan for teaching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3859200"/>
            <a:ext cx="3657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acks emphasis on lif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876240"/>
            <a:ext cx="3657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ocuses on individual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1325520"/>
            <a:ext cx="3657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oes not emphasize Bible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1969920"/>
            <a:ext cx="3657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acks clear lesson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2655720"/>
            <a:ext cx="3657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earner guides lack exciting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3390840"/>
            <a:ext cx="3657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ecture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71600" y="1695600"/>
            <a:ext cx="6400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reating the Harmonious Sunday School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4:31:15Z</dcterms:created>
  <dc:creator>DGILBER</dc:creator>
  <dc:description/>
  <dc:language>en-US</dc:language>
  <cp:lastModifiedBy>dkassis</cp:lastModifiedBy>
  <dcterms:modified xsi:type="dcterms:W3CDTF">2008-03-03T13:46:48Z</dcterms:modified>
  <cp:revision>14</cp:revision>
  <dc:subject/>
  <dc:title>Slide 1</dc:title>
</cp:coreProperties>
</file>