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484-06C8-4434-9801-9416F4F4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BA0-80C1-419D-AF33-E32E1AD6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D41-F18A-4495-BA4D-1F014BDC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23C-EFB6-4A23-BBDE-89E82B51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AC8-0E31-4371-A8DE-69C7BC6A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945-750C-4BB0-BF39-FCC232AF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B67-EB2E-4576-99C9-0C6FED7A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99F-042A-4C58-8E76-D6BD7576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D90-D9EF-46C5-A1E2-793566FC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6B0-445F-466D-AB7E-0D36BEB3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5FC-F3F9-4569-BEDE-A6A8BC6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B3A-2610-4BCA-B42B-3DEA8FFB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7782-730D-4F7A-9E18-64A4FFCA6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886200" y="990720"/>
            <a:ext cx="4038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286000" y="1371600"/>
            <a:ext cx="6095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as many ideas as you can on different ways you can reach and minister to children who do not attend your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286000" y="1066680"/>
            <a:ext cx="61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where two or three are gathered together in My name, I am there amo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ew 18: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62120" y="533520"/>
            <a:ext cx="77724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gin working on the handout in your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ce you are finished, share your answers with another conferee and see if you have a common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you have found someone with a common answer, link arms and see if you can find another person with the same answer as your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457200" y="838080"/>
            <a:ext cx="7543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nnect to God’s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Bible story and Bible truth relate to life application in a child’s lif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286000" y="1447920"/>
            <a:ext cx="563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 Goo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Lif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Children Accou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286000" y="1066680"/>
            <a:ext cx="60958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nnect to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about a favorite teacher that you had as a chi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do you remember about that tea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s it something they taught you or an experience that you sha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286000" y="838080"/>
            <a:ext cx="57913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en Teaching Becomes Min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mutual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children you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Kind D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 in Happ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often or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in times of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286000" y="838080"/>
            <a:ext cx="57913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en Teaching Becomes Min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feeling of security for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the spiritual needs of famil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respect for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children’s names and use them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incere compl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y with a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286000" y="1066680"/>
            <a:ext cx="5791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ree in a 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you going to build a relationship this year with a chi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286000" y="990720"/>
            <a:ext cx="58672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nnect to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are you going to create a “level playing field” for the children who attend your Sunday School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0:46:39Z</dcterms:created>
  <dc:creator>G. Dwayne McCrary</dc:creator>
  <dc:description/>
  <dc:language>en-US</dc:language>
  <cp:lastModifiedBy>G. Dwayne McCrary</cp:lastModifiedBy>
  <dcterms:modified xsi:type="dcterms:W3CDTF">2009-01-07T21:34:44Z</dcterms:modified>
  <cp:revision>10</cp:revision>
  <dc:subject/>
  <dc:title>Slide 1</dc:title>
</cp:coreProperties>
</file>