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540C-D3FD-4D76-B8C5-FE840EE1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67BC-F86B-47EC-A268-5A27CC84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520-38C0-407A-BB37-A1CF13EE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7A7D-A17B-40D2-9011-5E1F903A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DF2-CCC0-4A7F-92E6-A74B0063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EAC-05B3-45E9-A361-B9BFE1E2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8BD8-5607-4752-B594-B0F21CF8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0F43-1A08-45F0-AC50-30D44B8C4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BEE-7E01-4C4A-B696-8D34463B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555-52E8-4EA3-8FDC-EE4D5293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20E2-126D-40C6-83EF-EE73B6BD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721-5F37-414D-8DCC-8C0B8F1E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D6D-E2C0-4DF5-99CD-824C1A16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D4F-8F45-4112-B99A-01F52D96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D18-1059-4F91-AB1A-6377669F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D85-2CE6-442B-B6F0-36080511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C3DA-0A63-433F-A10E-05A41567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CED-422D-48B5-A2BE-7895C487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4A3-C994-4F33-9117-1C0CF779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244-ABEA-415C-B511-3CA98A8A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030-B194-498E-8CF6-787B9ABA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157-D242-47C9-90E1-027902F9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469-5111-49F8-AAFB-F67F2EBB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315-B799-407E-BF4E-2396AD23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8DF-1FD1-4F1B-8995-9D999DA1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EE5-7F72-4344-8F50-3B4809EF0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196-28CB-4593-A1F8-0B882840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67CC-1BB9-40A8-B8E8-A3DC845E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6016-DA03-40F5-B37C-6A83404F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1CE-7A9F-49E7-A407-3DAB9B5C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192-A28C-4F62-B88A-655F9BC3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8E1-A57E-4A2D-8718-7487E40E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4EC-CE5A-4E88-A3DF-A935B0F0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C7-E7FF-49DD-96C5-AF0A4FAB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8C4-6BDD-419C-8D90-79ADC5FE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135-20B4-46C7-B1D7-0715D90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91E-4B7C-4AAA-8261-3023E3E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762-71E1-4774-8CA5-A089B59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7E4-5ACB-4541-A479-59C24D7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71D-F473-47A3-A0FA-E823F44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B38-D6A2-4E1D-8E44-0EAFD83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BEC-1D18-43D8-8B33-C11821D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846-0365-4A4E-B41E-D2CD11D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E40-2D16-4504-9487-5279330A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onnect3: Power of One Sunday Schoo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chool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ch session stands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mmon ingredients in al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ible Truth and Concept 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chool Class with 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“latte”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do you like your cla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ca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hot of Caram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usting of Cinna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mportant Ingredients for a Preschool Class with a “latte” lo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itted Caring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 Appropriate Space, Equipment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, Preparation and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OMMUNITY- Connecting with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On the Menu Boar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xtra Flavors/ Add 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heck under your chair for an Extra Flavor/Add Ins c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in your group, take a few minutes to share what is on the card. Your group can have one spokesperson or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wing Up Care Grou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are Groups can take place in the preschool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achers are the care group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vide the class by the number of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vide the prospects evenly among the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5181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NOW WE’RE “PERK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et’s get to “brewing”!  As a group brainstorm ministry opportunities within the care groups.  Be prepared to shar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OMMISSION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onnecting to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ow does this relate to preschool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ission Menu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ink ab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o is enrolled in your c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do you know about the parent, grandparent or guardi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o they atten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ave you met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are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Menu Boar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Today’s Flavor -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Mis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ook over Handout #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mission-Connecting to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ith your specific age group in mi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rainstorm ways to be intention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ission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 reaching out to preschool fami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at are un-churche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ease be prepar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hare one specific approach and the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ecessary to be Mis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  <a:ea typeface="Tahoma"/>
              </a:rPr>
              <a:t>Welco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Mission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Menu Bo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All Great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verything on the menu is g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o how do I cho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84836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Pray…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Seek God’s Guidance…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Wisdom of other Teacher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nd a need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randparents raising grand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re there other grandparents raising grandchildre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ther preschool classes in your chu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Connecting with other Preschool leaders is a pl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You discover there is a need with the grandparents who are raising grandchildren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better serve, prepare a brief survey to discover some specific nee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hat is the toughest part of parenting your grandchild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s this a short term or long term commi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hat would help you the most as you seek to be both grandparent and pa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ease share any additional needs or conce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formation gathered from the survey will give you facts that will help you develop a workshop or seminar to best meet the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nlist trained professionals to lead this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organization could you contact to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TRA!! How about opening this event to prospects and others in your commun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MMM.  Something special is “brewing her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al Menu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great education minister once told me that the best way to reach the heart of a family for Chri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s to reach out to them during a time of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Menu Board T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ake a moment and think about the preschoolers to whom you min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are some of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are some of their families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Keeping all that in min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hat have we shared that would help you minister to the preschooler and his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ow, take your Menu Board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nd write ou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dea that will help you in be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ten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n reaching out to this preschooler and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– COMMUNITY -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3504960"/>
            <a:ext cx="5867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eschool Teachers never underestima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importance of you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r role as a care group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God will use your willingnes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e intention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i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Your willingness to serve…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a small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What God will do wit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your willingness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price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lease take a moment to write in a response to the question on the tear sheet nearest the age group you t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What comes to mind when you hear the word ‘class’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he name of the group is not as important as the purpose of the group- Bible Tea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CONNECT3: THE POWER OF ONE SUNDAY SCHOO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vid Francis shares how each Sunday School class can become intentional in how they connect with people on thre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lass – Community –  Com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Menu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member your first visit to a coffee sh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id you understand the “lingo” for or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Just imagine someone coming into your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ould the “lingo” you speak be the one he understa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la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Sunday School – Open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courage people to join in at any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ach session is stand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eschool Sunday School Curriculum designed for open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Overvie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ook over Unit Overview for your age group.  Choose week 1 for the current month.  Work as a group to fill in the information requ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45:38Z</dcterms:created>
  <dc:creator>G. Dwayne McCrary</dc:creator>
  <dc:description/>
  <dc:language>en-US</dc:language>
  <cp:lastModifiedBy>G. Dwayne McCrary</cp:lastModifiedBy>
  <dcterms:modified xsi:type="dcterms:W3CDTF">2008-12-02T18:56:41Z</dcterms:modified>
  <cp:revision>23</cp:revision>
  <dc:subject/>
  <dc:title>Slide 1</dc:title>
</cp:coreProperties>
</file>