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6781680" y="5856120"/>
          <a:ext cx="2133720" cy="78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856120"/>
                    <a:ext cx="21337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0" y="0"/>
          <a:ext cx="327672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2767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981080" y="2590920"/>
          <a:ext cx="5867640" cy="21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590920"/>
                    <a:ext cx="586764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45880" y="140184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0240" y="284940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9640" y="441972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0760" y="1376280"/>
            <a:ext cx="34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857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ayer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0760" y="440676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ay for the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838840" y="0"/>
          <a:ext cx="330516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38840" y="0"/>
                    <a:ext cx="330516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2045880" y="140184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30240" y="284940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9640" y="441972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840" y="137628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ass 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2857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nistr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44067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spec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838840" y="0"/>
          <a:ext cx="330516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38840" y="0"/>
                    <a:ext cx="330516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045880" y="140184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0240" y="284940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18148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91840" y="137628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ass 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289548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acher, secretary, ministry leader, prayer coordinator, care group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10779600">
            <a:off x="4190760" y="5181120"/>
            <a:ext cx="26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spec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Demographic Snapshot </a:t>
            </a:r>
            <a:br>
              <a:rPr sz="44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: Magazine Publishers of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1990 to 2000, the number of teens ages 12-19 rose from 27.5 million to 32 million and are expected to climb to 33.5 million b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ens are ethnically diverse with 33 percent belonging to a minority racial or ethnic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the Hispanic/Latino Teen market is 4.6 million and will grow to a size 62 percent larger than today by 20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BC Baptisms (ages 12-17)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urce: Annual Church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19520" y="2438280"/>
          <a:ext cx="3429000" cy="320832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,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9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,0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,2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,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,7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Youth Ministry Snapsho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urce: Annual Church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2514600"/>
          <a:ext cx="8229600" cy="3620880"/>
        </p:xfrm>
        <a:graphic>
          <a:graphicData uri="http://schemas.openxmlformats.org/drawingml/2006/table">
            <a:tbl>
              <a:tblPr/>
              <a:tblGrid>
                <a:gridCol w="762120"/>
                <a:gridCol w="990360"/>
                <a:gridCol w="1143000"/>
                <a:gridCol w="1371600"/>
                <a:gridCol w="838440"/>
                <a:gridCol w="1066680"/>
                <a:gridCol w="1143000"/>
                <a:gridCol w="914400"/>
              </a:tblGrid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-voc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nte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tatus gi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,8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,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,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,5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,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9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,6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9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,7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,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,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,8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,2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uilding a Biblical Model of Stud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0200" y="4267080"/>
            <a:ext cx="3012120" cy="1935360"/>
            <a:chOff x="160200" y="4267080"/>
            <a:chExt cx="3012120" cy="19353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922320" y="4267080"/>
              <a:ext cx="160020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60200" y="58341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33"/>
                  </a:solidFill>
                  <a:latin typeface="Comic Sans MS"/>
                </a:rPr>
                <a:t>Lord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64720" y="5815080"/>
              <a:ext cx="14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33"/>
                  </a:solidFill>
                  <a:latin typeface="Comic Sans MS"/>
                </a:rPr>
                <a:t>Discip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153600" y="4267080"/>
            <a:ext cx="3081600" cy="1916280"/>
            <a:chOff x="3153600" y="4267080"/>
            <a:chExt cx="3081600" cy="19162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3809880" y="4267080"/>
              <a:ext cx="1617840" cy="15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153600" y="5815080"/>
              <a:ext cx="13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00"/>
                  </a:solidFill>
                  <a:latin typeface="Comic Sans MS"/>
                </a:rPr>
                <a:t>Char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83880" y="581508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00"/>
                  </a:solidFill>
                  <a:latin typeface="Comic Sans MS"/>
                </a:rPr>
                <a:t>Disc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188040" y="4267080"/>
            <a:ext cx="2980800" cy="1916280"/>
            <a:chOff x="6188040" y="4267080"/>
            <a:chExt cx="2980800" cy="1916280"/>
          </a:xfrm>
        </p:grpSpPr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6781680" y="4267080"/>
              <a:ext cx="16369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188040" y="5815080"/>
              <a:ext cx="173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Comic Sans MS"/>
                </a:rPr>
                <a:t>Relationshi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99840" y="5815080"/>
              <a:ext cx="12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Comic Sans MS"/>
                </a:rPr>
                <a:t>Influ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41440" y="685800"/>
            <a:ext cx="8221680" cy="3581280"/>
            <a:chOff x="541440" y="685800"/>
            <a:chExt cx="8221680" cy="3581280"/>
          </a:xfrm>
        </p:grpSpPr>
        <p:grpSp>
          <p:nvGrpSpPr>
            <p:cNvPr id="135" name=""/>
            <p:cNvGrpSpPr/>
            <p:nvPr/>
          </p:nvGrpSpPr>
          <p:grpSpPr>
            <a:xfrm>
              <a:off x="541440" y="685800"/>
              <a:ext cx="2325600" cy="3581280"/>
              <a:chOff x="541440" y="685800"/>
              <a:chExt cx="2325600" cy="3581280"/>
            </a:xfrm>
          </p:grpSpPr>
          <p:pic>
            <p:nvPicPr>
              <p:cNvPr id="136" name="" descr=""/>
              <p:cNvPicPr/>
              <p:nvPr/>
            </p:nvPicPr>
            <p:blipFill>
              <a:blip r:embed="rId4"/>
              <a:srcRect l="0" t="0" r="0" b="26630"/>
              <a:stretch/>
            </p:blipFill>
            <p:spPr>
              <a:xfrm>
                <a:off x="617400" y="1295280"/>
                <a:ext cx="2249640" cy="236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98640" y="685800"/>
                <a:ext cx="15238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440" y="3581280"/>
                <a:ext cx="220968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693720" y="3581280"/>
                <a:ext cx="1984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Upward Develop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429000" y="685800"/>
              <a:ext cx="2287440" cy="3581280"/>
              <a:chOff x="3429000" y="685800"/>
              <a:chExt cx="2287440" cy="35812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7"/>
              <a:srcRect l="0" t="0" r="0" b="25486"/>
              <a:stretch/>
            </p:blipFill>
            <p:spPr>
              <a:xfrm>
                <a:off x="3429000" y="1295280"/>
                <a:ext cx="2266920" cy="236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733920" y="685800"/>
                <a:ext cx="1676160" cy="49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5320" y="3581280"/>
                <a:ext cx="221112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3505320" y="3581280"/>
                <a:ext cx="211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Inward Develop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324480" y="685800"/>
              <a:ext cx="2438640" cy="3576600"/>
              <a:chOff x="6324480" y="685800"/>
              <a:chExt cx="2438640" cy="3576600"/>
            </a:xfrm>
          </p:grpSpPr>
          <p:pic>
            <p:nvPicPr>
              <p:cNvPr id="146" name="" descr=""/>
              <p:cNvPicPr/>
              <p:nvPr/>
            </p:nvPicPr>
            <p:blipFill>
              <a:blip r:embed="rId10"/>
              <a:srcRect l="0" t="0" r="0" b="28359"/>
              <a:stretch/>
            </p:blipFill>
            <p:spPr>
              <a:xfrm>
                <a:off x="6400800" y="1295280"/>
                <a:ext cx="228276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629400" y="685800"/>
                <a:ext cx="17524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12"/>
              <a:srcRect l="6607" t="76277" r="0" b="0"/>
              <a:stretch/>
            </p:blipFill>
            <p:spPr>
              <a:xfrm>
                <a:off x="6324480" y="3505320"/>
                <a:ext cx="2438640" cy="75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400800" y="3581280"/>
                <a:ext cx="2212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Outward Develop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022400"/>
            <a:ext cx="2362320" cy="141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00400" y="9144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Arial Black"/>
              </a:rPr>
              <a:t>GROUP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666880"/>
            <a:ext cx="4343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bbe0e3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Found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bbe0e3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Ong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bbe0e3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Evangel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2666880"/>
            <a:ext cx="4724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bbe0e3"/>
              </a:buClr>
              <a:buFont typeface="Arial Blac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Bible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bbe0e3"/>
              </a:buClr>
              <a:buFont typeface="Arial Blac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Intentional m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bbe0e3"/>
              </a:buClr>
              <a:buFont typeface="Arial Blac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Multipl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5838840" y="0"/>
          <a:ext cx="330516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38840" y="0"/>
                    <a:ext cx="330516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 txBox="1"/>
          <p:nvPr/>
        </p:nvSpPr>
        <p:spPr>
          <a:xfrm>
            <a:off x="1371600" y="1066680"/>
            <a:ext cx="3505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Arial Black"/>
              </a:rPr>
              <a:t>Becoming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66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4600" y="3429000"/>
            <a:ext cx="3505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mun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5838840" y="0"/>
          <a:ext cx="330516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38840" y="0"/>
                    <a:ext cx="330516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441600" y="230184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86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5 students in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572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ntional contact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phone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text messa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aceboo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ace-to-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447920" y="1447920"/>
          <a:ext cx="6095880" cy="40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09588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889280" y="3063960"/>
            <a:ext cx="50450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cc"/>
                </a:solidFill>
                <a:latin typeface="Comic Sans MS"/>
              </a:rPr>
              <a:t>FIRST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Comic Sans MS"/>
              </a:rPr>
              <a:t>Las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Comic Sans MS"/>
              </a:rPr>
              <a:t>Favorite B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327672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2767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200400" y="990720"/>
            <a:ext cx="613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is your favorite place to hang 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21076800">
            <a:off x="685440" y="2819520"/>
            <a:ext cx="58388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838840" y="0"/>
          <a:ext cx="330516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38840" y="0"/>
                    <a:ext cx="330516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045880" y="140184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0240" y="284940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9640" y="441972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2560" y="137628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ry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285768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oin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840" y="44067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45880" y="140184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30240" y="284940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9640" y="441972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88600" y="137628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Great Con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8576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Great Comma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0400" y="440676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Great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045880" y="140184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30240" y="284940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9640" y="441972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2560" y="1376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2857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2200" y="440676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838840" y="0"/>
          <a:ext cx="330516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38840" y="0"/>
                    <a:ext cx="330516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45880" y="140184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30240" y="284940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9640" y="441972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92560" y="137628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2857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91480" y="440676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ss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838840" y="0"/>
          <a:ext cx="330516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38840" y="0"/>
                    <a:ext cx="330516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45880" y="140184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30240" y="284940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9640" y="441972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0400" y="137628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ver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857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440676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45880" y="140184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30240" y="284940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9640" y="441972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0760" y="137628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we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857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they did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0400" y="4406760"/>
            <a:ext cx="31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ere we 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2:54:23Z</dcterms:created>
  <dc:creator>Lynn H. Pryor</dc:creator>
  <dc:description/>
  <dc:language>en-US</dc:language>
  <cp:lastModifiedBy>SSPILLM</cp:lastModifiedBy>
  <dcterms:modified xsi:type="dcterms:W3CDTF">2009-01-14T13:23:29Z</dcterms:modified>
  <cp:revision>9</cp:revision>
  <dc:subject/>
  <dc:title>Slide 1</dc:title>
</cp:coreProperties>
</file>