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3CE-5787-4CCB-BD65-5DC145ED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3B3-F8B8-43FA-935F-0D393CF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4DA-BF3A-4C55-A4EF-615357D4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E57-A9A3-4051-86A2-C8922B96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9CA-EE84-4AC2-B5A3-5AC0E787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B80-A5B5-4749-A2CE-6B1A27E8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75F-9BFD-43F5-A3C9-B0D6EFD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294-B61C-427A-810D-237CE881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12C-EE0A-4810-B678-2656887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018-1E4F-433B-B84B-9361087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C0D-5A87-4942-A168-2718453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7BA-21B9-4C5E-BAA1-7E8D6BD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435EB-70F5-4D6B-B3AE-476926A34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18:41:20Z</dcterms:created>
  <dc:creator>Edward Crawford</dc:creator>
  <dc:description/>
  <dc:language>en-US</dc:language>
  <cp:lastModifiedBy>Amy Lyon</cp:lastModifiedBy>
  <dcterms:modified xsi:type="dcterms:W3CDTF">2021-05-05T00:32:44Z</dcterms:modified>
  <cp:revision>33</cp:revision>
  <dc:subject/>
  <dc:title>PowerPoint Presentation</dc:title>
</cp:coreProperties>
</file>