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90920" y="609480"/>
            <a:ext cx="58672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-228600" y="3240"/>
            <a:ext cx="9372600" cy="6854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7772400" y="6310440"/>
            <a:ext cx="1143000" cy="3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4876920"/>
            <a:ext cx="7010280" cy="173988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Three Dimensional Strategy to Help Members and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lfill the Great Commiss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33520" y="152280"/>
            <a:ext cx="8381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The 3D Sunday School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52280" y="3809880"/>
            <a:ext cx="7772400" cy="304812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>
                <a:alpha val="9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if somebody overpowers one person, two can resist him. A cord of three strands is not easily broke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clesiastes 4:12 (HCS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228600"/>
            <a:ext cx="8381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The 3D Adult Sunday School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3581280"/>
            <a:ext cx="7619760" cy="304812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large the site of your tent, and let your tent curtains be stretched out; do not hold back; lengthen your ropes, and drive your pegs deep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Isaiah 54:2 (HCS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228600"/>
            <a:ext cx="8381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The 3D Adult Sunday School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29200" y="2476440"/>
            <a:ext cx="4114800" cy="429228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three groups based on the color of your rop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yourself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as a group to list ways rope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152280"/>
            <a:ext cx="8381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The 3D Sunday School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4a301a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 Two are better than one because they have a good reward for their efforts. 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 For if either falls, his companion can lift him up; but pity the one who falls without another to lift him up. 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 Also, if two lie down together, they can keep warm; but how can one person alone keep warm? 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 And if somebody overpowers one person, two can resist him. A cord of three strands is not easily bro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362320" y="426960"/>
            <a:ext cx="6400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cclesiastes 4:9-12 (HCS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09480" y="1600200"/>
            <a:ext cx="2743200" cy="2244600"/>
            <a:chOff x="609480" y="1600200"/>
            <a:chExt cx="2743200" cy="2244600"/>
          </a:xfrm>
        </p:grpSpPr>
        <p:sp>
          <p:nvSpPr>
            <p:cNvPr id="47" name=""/>
            <p:cNvSpPr/>
            <p:nvPr/>
          </p:nvSpPr>
          <p:spPr>
            <a:xfrm>
              <a:off x="609480" y="1600200"/>
              <a:ext cx="2743200" cy="2244600"/>
            </a:xfrm>
            <a:custGeom>
              <a:avLst/>
              <a:gdLst>
                <a:gd name="textAreaLeft" fmla="*/ 145440 w 2743200"/>
                <a:gd name="textAreaRight" fmla="*/ 2597760 w 2743200"/>
                <a:gd name="textAreaTop" fmla="*/ 145440 h 2244600"/>
                <a:gd name="textAreaBottom" fmla="*/ 2099160 h 2244600"/>
              </a:gdLst>
              <a:ahLst/>
              <a:rect l="textAreaLeft" t="textAreaTop" r="textAreaRight" b="textAreaBottom"/>
              <a:pathLst>
                <a:path w="26397" h="21600">
                  <a:moveTo>
                    <a:pt x="0" y="0"/>
                  </a:moveTo>
                  <a:lnTo>
                    <a:pt x="26397" y="0"/>
                  </a:lnTo>
                  <a:lnTo>
                    <a:pt x="26397" y="21600"/>
                  </a:lnTo>
                  <a:lnTo>
                    <a:pt x="0" y="21600"/>
                  </a:lnTo>
                  <a:close/>
                </a:path>
                <a:path fill="lightenLess" w="26397" h="21600">
                  <a:moveTo>
                    <a:pt x="0" y="0"/>
                  </a:moveTo>
                  <a:lnTo>
                    <a:pt x="26397" y="0"/>
                  </a:lnTo>
                  <a:lnTo>
                    <a:pt x="24997" y="1400"/>
                  </a:lnTo>
                  <a:lnTo>
                    <a:pt x="1400" y="1400"/>
                  </a:lnTo>
                  <a:close/>
                </a:path>
                <a:path fill="darken" w="26397" h="21600">
                  <a:moveTo>
                    <a:pt x="26397" y="0"/>
                  </a:moveTo>
                  <a:lnTo>
                    <a:pt x="26397" y="21600"/>
                  </a:lnTo>
                  <a:lnTo>
                    <a:pt x="24997" y="20200"/>
                  </a:lnTo>
                  <a:lnTo>
                    <a:pt x="24997" y="1400"/>
                  </a:lnTo>
                  <a:close/>
                </a:path>
                <a:path fill="darkenLess" w="26397" h="21600">
                  <a:moveTo>
                    <a:pt x="263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997" y="20200"/>
                  </a:lnTo>
                  <a:close/>
                </a:path>
                <a:path fill="lighten" w="263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7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43000" y="2209680"/>
              <a:ext cx="205740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a13e0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Invi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562720" y="1600200"/>
            <a:ext cx="2743200" cy="2244600"/>
            <a:chOff x="5562720" y="1600200"/>
            <a:chExt cx="2743200" cy="2244600"/>
          </a:xfrm>
        </p:grpSpPr>
        <p:sp>
          <p:nvSpPr>
            <p:cNvPr id="50" name=""/>
            <p:cNvSpPr/>
            <p:nvPr/>
          </p:nvSpPr>
          <p:spPr>
            <a:xfrm>
              <a:off x="5562720" y="1600200"/>
              <a:ext cx="2743200" cy="2244600"/>
            </a:xfrm>
            <a:custGeom>
              <a:avLst/>
              <a:gdLst>
                <a:gd name="textAreaLeft" fmla="*/ 145440 w 2743200"/>
                <a:gd name="textAreaRight" fmla="*/ 2597760 w 2743200"/>
                <a:gd name="textAreaTop" fmla="*/ 145440 h 2244600"/>
                <a:gd name="textAreaBottom" fmla="*/ 2099160 h 2244600"/>
              </a:gdLst>
              <a:ahLst/>
              <a:rect l="textAreaLeft" t="textAreaTop" r="textAreaRight" b="textAreaBottom"/>
              <a:pathLst>
                <a:path w="26397" h="21600">
                  <a:moveTo>
                    <a:pt x="0" y="0"/>
                  </a:moveTo>
                  <a:lnTo>
                    <a:pt x="26397" y="0"/>
                  </a:lnTo>
                  <a:lnTo>
                    <a:pt x="26397" y="21600"/>
                  </a:lnTo>
                  <a:lnTo>
                    <a:pt x="0" y="21600"/>
                  </a:lnTo>
                  <a:close/>
                </a:path>
                <a:path fill="lightenLess" w="26397" h="21600">
                  <a:moveTo>
                    <a:pt x="0" y="0"/>
                  </a:moveTo>
                  <a:lnTo>
                    <a:pt x="26397" y="0"/>
                  </a:lnTo>
                  <a:lnTo>
                    <a:pt x="24997" y="1400"/>
                  </a:lnTo>
                  <a:lnTo>
                    <a:pt x="1400" y="1400"/>
                  </a:lnTo>
                  <a:close/>
                </a:path>
                <a:path fill="darken" w="26397" h="21600">
                  <a:moveTo>
                    <a:pt x="26397" y="0"/>
                  </a:moveTo>
                  <a:lnTo>
                    <a:pt x="26397" y="21600"/>
                  </a:lnTo>
                  <a:lnTo>
                    <a:pt x="24997" y="20200"/>
                  </a:lnTo>
                  <a:lnTo>
                    <a:pt x="24997" y="1400"/>
                  </a:lnTo>
                  <a:close/>
                </a:path>
                <a:path fill="darkenLess" w="26397" h="21600">
                  <a:moveTo>
                    <a:pt x="263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997" y="20200"/>
                  </a:lnTo>
                  <a:close/>
                </a:path>
                <a:path fill="lighten" w="263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7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1320" y="2286000"/>
              <a:ext cx="228600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a13e0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iscov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124080" y="4114800"/>
            <a:ext cx="2743200" cy="2244600"/>
            <a:chOff x="3124080" y="4114800"/>
            <a:chExt cx="2743200" cy="2244600"/>
          </a:xfrm>
        </p:grpSpPr>
        <p:sp>
          <p:nvSpPr>
            <p:cNvPr id="53" name=""/>
            <p:cNvSpPr/>
            <p:nvPr/>
          </p:nvSpPr>
          <p:spPr>
            <a:xfrm>
              <a:off x="3124080" y="4114800"/>
              <a:ext cx="2743200" cy="2244600"/>
            </a:xfrm>
            <a:custGeom>
              <a:avLst/>
              <a:gdLst>
                <a:gd name="textAreaLeft" fmla="*/ 145440 w 2743200"/>
                <a:gd name="textAreaRight" fmla="*/ 2597760 w 2743200"/>
                <a:gd name="textAreaTop" fmla="*/ 145440 h 2244600"/>
                <a:gd name="textAreaBottom" fmla="*/ 2099160 h 2244600"/>
              </a:gdLst>
              <a:ahLst/>
              <a:rect l="textAreaLeft" t="textAreaTop" r="textAreaRight" b="textAreaBottom"/>
              <a:pathLst>
                <a:path w="26397" h="21600">
                  <a:moveTo>
                    <a:pt x="0" y="0"/>
                  </a:moveTo>
                  <a:lnTo>
                    <a:pt x="26397" y="0"/>
                  </a:lnTo>
                  <a:lnTo>
                    <a:pt x="26397" y="21600"/>
                  </a:lnTo>
                  <a:lnTo>
                    <a:pt x="0" y="21600"/>
                  </a:lnTo>
                  <a:close/>
                </a:path>
                <a:path fill="lightenLess" w="26397" h="21600">
                  <a:moveTo>
                    <a:pt x="0" y="0"/>
                  </a:moveTo>
                  <a:lnTo>
                    <a:pt x="26397" y="0"/>
                  </a:lnTo>
                  <a:lnTo>
                    <a:pt x="24997" y="1400"/>
                  </a:lnTo>
                  <a:lnTo>
                    <a:pt x="1400" y="1400"/>
                  </a:lnTo>
                  <a:close/>
                </a:path>
                <a:path fill="darken" w="26397" h="21600">
                  <a:moveTo>
                    <a:pt x="26397" y="0"/>
                  </a:moveTo>
                  <a:lnTo>
                    <a:pt x="26397" y="21600"/>
                  </a:lnTo>
                  <a:lnTo>
                    <a:pt x="24997" y="20200"/>
                  </a:lnTo>
                  <a:lnTo>
                    <a:pt x="24997" y="1400"/>
                  </a:lnTo>
                  <a:close/>
                </a:path>
                <a:path fill="darkenLess" w="26397" h="21600">
                  <a:moveTo>
                    <a:pt x="263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997" y="20200"/>
                  </a:lnTo>
                  <a:close/>
                </a:path>
                <a:path fill="lighten" w="263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7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81280" y="4724280"/>
              <a:ext cx="205740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a13e0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Connec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2438280" y="152280"/>
            <a:ext cx="6477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The 3D Sunday School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23720" y="228600"/>
            <a:ext cx="5867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 Inviting Class…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4876560"/>
          </a:xfrm>
          <a:prstGeom prst="rect">
            <a:avLst/>
          </a:prstGeom>
          <a:solidFill>
            <a:srgbClr val="ee7c1c">
              <a:alpha val="97000"/>
            </a:srgbClr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xc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out inviting other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 is an inviting place for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unchurch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gular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comes guests a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 ti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roll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a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a clear Bible stud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a clear plan for welcoming and following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taught members to be 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vit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8991720" cy="541044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ven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gether to create small group experiences in which people discover the truths of the Bi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 and group experience makes peopl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tte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centered on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udy of God’s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 seek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ng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dults in learning and doesn’t just expect learners to come and liste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s adults how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u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ible for thems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llenges both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liev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grow and challenges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understand and respond to the gospe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s on smaller groups so Bible study is learned in the context of strong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lationshi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ol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mbers in the Bible study exper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e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formation—it doesn’t just hope for 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Discovering Class. .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8839080" cy="563868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s bot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rothe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ve (a love of brothers)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spita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the love of strange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together to provide people opportunity to connect throug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llowshi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n environment where all people—particularly newcomers—can connect and be cared for as someon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pe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s visitors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la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greet and register them when they arr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rs nam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roups for ministry and encour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throug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throug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ellowshi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members to the life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ur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162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Connecting Class. .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52280" y="838080"/>
            <a:ext cx="9296280" cy="6019920"/>
          </a:xfrm>
          <a:prstGeom prst="rect">
            <a:avLst/>
          </a:prstGeom>
          <a:solidFill>
            <a:srgbClr val="ee7c1c">
              <a:alpha val="88000"/>
            </a:srgbClr>
          </a:solidFill>
          <a:ln w="9360">
            <a:solidFill>
              <a:srgbClr val="000000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7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Is Your Clas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67360" y="914400"/>
            <a:ext cx="197172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91919">
                <a:alpha val="8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048200" y="2514600"/>
            <a:ext cx="198108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91919">
                <a:alpha val="85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65320" y="3962520"/>
            <a:ext cx="1968480" cy="277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91919">
                <a:alpha val="85000"/>
              </a:srgbClr>
            </a:outerShdw>
          </a:effectLst>
        </p:spPr>
      </p:pic>
      <p:sp>
        <p:nvSpPr>
          <p:cNvPr id="67" name=""/>
          <p:cNvSpPr/>
          <p:nvPr/>
        </p:nvSpPr>
        <p:spPr>
          <a:xfrm>
            <a:off x="5257800" y="1050840"/>
            <a:ext cx="14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und and gagg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4267080"/>
            <a:ext cx="26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ely staying above wa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57150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ing new heigh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06280" y="946080"/>
            <a:ext cx="1851120" cy="259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85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2362320" y="105084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lding on by a th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114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4648320"/>
            <a:ext cx="8381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The 3D Adult Sunday School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7:51:39Z</dcterms:created>
  <dc:creator>Wade Williams</dc:creator>
  <dc:description/>
  <dc:language>en-US</dc:language>
  <cp:lastModifiedBy>Microsoft Office</cp:lastModifiedBy>
  <dcterms:modified xsi:type="dcterms:W3CDTF">2006-03-13T22:07:58Z</dcterms:modified>
  <cp:revision>36</cp:revision>
  <dc:subject/>
  <dc:title>sixtysix</dc:title>
</cp:coreProperties>
</file>