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442-A1B9-4B9C-ADEE-972208D4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232-8CC8-47AC-9F07-93F9213C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053-D7AE-4588-B53D-408C3A60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510-072C-4ED7-BDF3-E113371E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01E-7236-4518-98F1-7A76BAB1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3423-3ED3-480A-8F09-6E59B59F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C430-0E32-4256-81C9-9A6E15D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DF28-0854-4EC8-A44E-C4D0F81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750A-6D66-4063-8EAE-FD3F4B4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B255-F7FC-44EA-A8E3-A5A26CE8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9466-7B64-4E1E-A1EC-D52CBB12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FD7-01BC-44F6-A8D1-420EE11B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F6F-8E7F-4C87-BA4B-A3D9A9AB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1D9-FE38-4457-9FE5-1C6F3C6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7A2-EE1D-4D99-A4F7-1FFD3192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8317-EB3F-460F-9888-30DB191E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6597-29CA-4E4A-A0A5-7A27E6A3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BB9-6114-4DBE-9F68-279B631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F47-606C-496C-9496-7D7F086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299-144F-4CB3-A71A-8E167443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6A2-73BB-4660-9FEF-F3DA0DB1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C03-9150-404F-B4FE-0FE2AA80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AE6-4E76-45D9-91E1-00A66EED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3BC-E731-47B5-BFB5-9C1AD39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7F36-2E28-400C-9E77-55B230FB198F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AC4-F1FA-4033-8AF5-1FFD7AE528E3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5943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92468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estras tropas deben ver que creemos que el Rey está en control de la batalla. 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0" i="1" lang="en-US" sz="5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Él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 puesto en nuestras manos la batalla por las almas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30492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828800"/>
            <a:ext cx="8229600" cy="472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981080"/>
            <a:ext cx="7543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-3000">
                <a:solidFill>
                  <a:srgbClr val="ffffff"/>
                </a:solidFill>
                <a:latin typeface="Arial Black"/>
                <a:ea typeface="Times New Roman"/>
              </a:rPr>
              <a:t>es para el joven que en el presente no asiste a una clase o grupo pequeño.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854680" y="88920"/>
            <a:ext cx="2679840" cy="1816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95280" y="549360"/>
            <a:ext cx="512748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Escuela Dominical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025880"/>
            <a:ext cx="8077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6e6e6"/>
                </a:solidFill>
                <a:latin typeface="Arial Black"/>
                <a:ea typeface="Times New Roman"/>
              </a:rPr>
              <a:t>El Rey le ha dado a sus jóvenes puntos de contactos con esos jóvenes. Hay una pequeña luz de esperanza en esa esfera de oscuridad y ese es su campo de batal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81080" y="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382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Times New Roman"/>
              </a:rPr>
              <a:t>El edificio de la iglesia o “fuerte” no es donde la verdadera batalla toma lugar. Comienza en el campo y entonces se mueve al lugar donde el cuerpo tiene compañerismo, planifica la estrategia y adoran juntos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762120" y="3048120"/>
            <a:ext cx="53341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4724280" y="2819520"/>
            <a:ext cx="4419360" cy="4038480"/>
            <a:chOff x="4724280" y="2819520"/>
            <a:chExt cx="4419360" cy="4038480"/>
          </a:xfrm>
        </p:grpSpPr>
        <p:sp>
          <p:nvSpPr>
            <p:cNvPr id="125" name=""/>
            <p:cNvSpPr/>
            <p:nvPr/>
          </p:nvSpPr>
          <p:spPr>
            <a:xfrm>
              <a:off x="4724280" y="2819520"/>
              <a:ext cx="4307400" cy="39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e6e6e6"/>
                  </a:solidFill>
                  <a:latin typeface="Arial Narrow"/>
                  <a:ea typeface="Times New Roman"/>
                </a:rPr>
                <a:t>Así como un oficial eficiente va a la batalla con sus tropas, así debe el líder eficiente caminar en el territorio de la zona de la batalla, en otras palabras, donde se encuentran los perdidos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83720" y="2819520"/>
              <a:ext cx="385992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77480" y="115920"/>
            <a:ext cx="60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a estrategia para la batalla 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l entrenamiento de las trop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1125360"/>
            <a:ext cx="28191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vi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00" y="2708280"/>
            <a:ext cx="3429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scubre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64000" y="4800600"/>
            <a:ext cx="3246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ec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47676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uántos jóvenes deben estar en su lista para entrenarlos eficientemente y ser jóvenes de la Gran comisión para el Rey?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52280"/>
            <a:ext cx="2210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vi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14520"/>
            <a:ext cx="8382240" cy="198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dea 1: 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Vea el segundo párrafo de la página 31 del libro </a:t>
            </a:r>
            <a:r>
              <a:rPr b="0" i="1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La Escuela Dominical 3D.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-468360" y="0"/>
            <a:ext cx="9144000" cy="6858000"/>
            <a:chOff x="-46836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-468360" y="0"/>
              <a:ext cx="9144000" cy="6858000"/>
            </a:xfrm>
            <a:prstGeom prst="rect">
              <a:avLst/>
            </a:prstGeom>
            <a:solidFill>
              <a:srgbClr val="0d1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5520" y="2684520"/>
              <a:ext cx="7304040" cy="31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</a:t>
              </a:r>
              <a:r>
                <a:rPr b="0" lang="en-US" sz="4400" spc="-1" strike="noStrike">
                  <a:solidFill>
                    <a:srgbClr val="e6e6e6"/>
                  </a:solidFill>
                  <a:latin typeface="Times New Roman"/>
                  <a:ea typeface="Times New Roman"/>
                </a:rPr>
                <a:t>¿Cuál es el desafío para hacer que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6e6e6"/>
                  </a:solidFill>
                  <a:latin typeface="Times New Roman"/>
                  <a:ea typeface="Times New Roman"/>
                </a:rPr>
                <a:t>esto suceda?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32080" y="240984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914400"/>
            <a:ext cx="38116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7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715000" y="3821040"/>
            <a:ext cx="3429000" cy="2975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5280" y="115920"/>
            <a:ext cx="2819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vi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6600" y="1828800"/>
            <a:ext cx="8807400" cy="198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dea 2: </a:t>
            </a:r>
            <a:r>
              <a:rPr b="0" lang="en-US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¿Conoce usted los nombres de tres amigos que no quiere que mueran y no vayan al cie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15228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e anónimamente for dos meses. El Rey le dirigirá cómo ora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822320"/>
            <a:ext cx="59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Dígale al joven que le pregunte a sus amigos cómo usted podría orar específica-mente por ellos. Ore por otro período de tiempo. Así como Dios lo guía, continue haciendo esta pregunta durante los próximos dos me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516720" y="4259160"/>
            <a:ext cx="2627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049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ídale al joven que lo lleve a conocer su amigo.                  Planee el encuentr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78136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Encuéntrese con el joven perdido. Pídale a su joven que observe señales y evidencias de que su amigo está abierto                              a la presentación del evan-                          gelio. Vaya con su joven y                       juntos presenten al Rey y                              la esperanza de su rei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580000" y="4309920"/>
            <a:ext cx="3564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0880" y="152280"/>
            <a:ext cx="2819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vi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2205000"/>
            <a:ext cx="8381880" cy="259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dea 3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ea conciencia del verdadero propósito del Rey para nuestras vidas y el ciclo de vida de una clase de la Escuela Dominic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68360" y="2057400"/>
            <a:ext cx="8136000" cy="15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Escuela Dominical 3D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8380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nueva clase significa más salones para invitar a otros jóvenes..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e sean parte del re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3200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6e6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para ministrales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411480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e6e6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para ser entrenados como discípulos para llevar a cabo la misión del re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8a3d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8a3d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60680" y="157176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4880" y="905040"/>
            <a:ext cx="74833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Una nueva clase crece más rápidamente que una clase antigua y establecida.</a:t>
            </a:r>
            <a:r>
              <a:rPr b="1" i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0880" y="152280"/>
            <a:ext cx="4478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scubr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828800"/>
            <a:ext cx="8382240" cy="192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Georgia"/>
                <a:ea typeface="Times New Roman"/>
              </a:rPr>
              <a:t>Un currículo eficaz es para entrenar a los miembros del reino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103640"/>
            <a:ext cx="8300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  <a:ea typeface="Times New Roman"/>
              </a:rPr>
              <a:t>Las ayudas para la preparación personal deben usarse para que los líderes midan su propia vida a la luz de la verdad bíblica para la semana.</a:t>
            </a:r>
            <a:r>
              <a:rPr b="0" lang="en-US" sz="4000" spc="-1" strike="noStrike">
                <a:solidFill>
                  <a:srgbClr val="e6e6e6"/>
                </a:solidFill>
                <a:latin typeface="Arial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240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El uso del currículo que incluye dirección para descubrir y la enseñanza basada en actividades tiene muchos beneficios.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0638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El usar una variedad de métodos de enseñanza para guiar a los jóvenes a descubrir la verdad los ayuda a que ellos puedan aprender mejor.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420040" cy="189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e6e6"/>
                </a:solidFill>
                <a:latin typeface="Arial"/>
                <a:ea typeface="Times New Roman"/>
              </a:rPr>
              <a:t>La carne de la lección DEBEN ser las </a:t>
            </a:r>
            <a:r>
              <a:rPr b="1" i="1" lang="en-US" sz="4800" spc="-1" strike="noStrike">
                <a:solidFill>
                  <a:srgbClr val="e6e6e6"/>
                </a:solidFill>
                <a:latin typeface="Arial"/>
                <a:ea typeface="Times New Roman"/>
              </a:rPr>
              <a:t>Escrituras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19920" y="2057400"/>
            <a:ext cx="2666880" cy="2971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057400"/>
            <a:ext cx="2590560" cy="3048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52280"/>
            <a:ext cx="3276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e6e6e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ecta</a:t>
            </a:r>
            <a:endParaRPr b="0" lang="en-US" sz="2400" spc="1" strike="noStrike">
              <a:ln w="0">
                <a:noFill/>
              </a:ln>
              <a:solidFill>
                <a:srgbClr val="e6e6e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057400"/>
            <a:ext cx="298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8a3d6"/>
                </a:solidFill>
                <a:latin typeface="Arial"/>
              </a:rPr>
              <a:t>Grupo 1.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244976"/>
                </a:solidFill>
                <a:latin typeface="Arial"/>
              </a:rPr>
              <a:t>¿Qué hay en esto para mí?</a:t>
            </a:r>
            <a:r>
              <a:rPr b="1" i="1" lang="en-US" sz="4000" spc="-1" strike="noStrike">
                <a:solidFill>
                  <a:srgbClr val="78a3d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057400"/>
            <a:ext cx="274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8a3d6"/>
                </a:solidFill>
                <a:latin typeface="Arial"/>
              </a:rPr>
              <a:t>Grupo 3.</a:t>
            </a:r>
            <a:r>
              <a:rPr b="1" i="1" lang="en-US" sz="4800" spc="-1" strike="noStrike">
                <a:solidFill>
                  <a:srgbClr val="78a3d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44976"/>
                </a:solidFill>
                <a:latin typeface="Arial"/>
              </a:rPr>
              <a:t>¿Pertenezco verdadera- men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2057400"/>
            <a:ext cx="2667240" cy="45720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1989000"/>
            <a:ext cx="2819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8a3d6"/>
                </a:solidFill>
                <a:latin typeface="Arial"/>
              </a:rPr>
              <a:t>Grupo 2.</a:t>
            </a:r>
            <a:r>
              <a:rPr b="1" i="1" lang="en-US" sz="4800" spc="-1" strike="noStrike">
                <a:solidFill>
                  <a:srgbClr val="78a3d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44976"/>
                </a:solidFill>
                <a:latin typeface="Arial"/>
              </a:rPr>
              <a:t>¿Qué tengo que hacer para ser un verdadero miembro de esta clase? </a:t>
            </a:r>
            <a:r>
              <a:rPr b="1" i="1" lang="en-US" sz="4800" spc="-1" strike="noStrike">
                <a:solidFill>
                  <a:srgbClr val="78a3d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33520" y="228600"/>
            <a:ext cx="430668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Qué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80680" y="2924280"/>
            <a:ext cx="628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necesito hacer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</a:rPr>
              <a:t>para crecer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08000" y="2997360"/>
            <a:ext cx="712800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Arial"/>
                <a:ea typeface="Times New Roman"/>
              </a:rPr>
              <a:t>Es su motivo o misión principal en la Escuela Dominical?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228600"/>
            <a:ext cx="4306680" cy="26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Cuál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77300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La mujer barrió . . .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El pastor buscó por la perdida . . .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6e6e6"/>
                </a:solidFill>
                <a:latin typeface="Arial"/>
                <a:ea typeface="Times New Roman"/>
              </a:rPr>
              <a:t>y el Padre vigiló diligentemente.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5720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baseline="2000">
                <a:solidFill>
                  <a:srgbClr val="ffffff"/>
                </a:solidFill>
                <a:latin typeface="Arial"/>
                <a:ea typeface="Times New Roman"/>
              </a:rPr>
              <a:t>Lucas 1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400" y="2349000"/>
            <a:ext cx="7315200" cy="29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i no ha recibido las instrucciones de lo que hay que hacer, pregúntele a un compañero del reino de la Luz.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304920"/>
            <a:ext cx="5943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¡Bienvenido!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-674640" y="0"/>
            <a:ext cx="10287000" cy="6832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2819160"/>
            <a:ext cx="60199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es ese joven que el Rey está buscando y le pide a usted que se una en la búsqueda? 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228600"/>
            <a:ext cx="4306680" cy="26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Quié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829480" y="0"/>
            <a:ext cx="3314520" cy="50846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601992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 ese compañero en el   reino que el Rey quiere que se una a usted. . 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lo entrene usted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  <a:ea typeface="Times New Roman"/>
              </a:rPr>
              <a:t>para que él o ella pueda ser  el líder de la nueva clase que nacerá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228600"/>
            <a:ext cx="4267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¿Quié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5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52480" y="2438280"/>
            <a:ext cx="5943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276640"/>
            <a:ext cx="7631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Trabajar en una estrategia intencional para llevar a cabo la misión de nuestro Rey en la lucha por las almas de los hombres. 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620640"/>
            <a:ext cx="721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meta de esta noche: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2060640"/>
            <a:ext cx="9144000" cy="4461120"/>
            <a:chOff x="0" y="2060640"/>
            <a:chExt cx="9144000" cy="4461120"/>
          </a:xfrm>
        </p:grpSpPr>
        <p:sp>
          <p:nvSpPr>
            <p:cNvPr id="92" name=""/>
            <p:cNvSpPr/>
            <p:nvPr/>
          </p:nvSpPr>
          <p:spPr>
            <a:xfrm>
              <a:off x="0" y="2060640"/>
              <a:ext cx="9144000" cy="4284360"/>
            </a:xfrm>
            <a:prstGeom prst="rect">
              <a:avLst/>
            </a:prstGeom>
            <a:solidFill>
              <a:srgbClr val="0d1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2128680"/>
              <a:ext cx="8305920" cy="43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6e6e6"/>
                  </a:solidFill>
                  <a:latin typeface="Times New Roman"/>
                  <a:ea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Toda potestad me es dada en el cielo y en la tierra. Por tanto, id, y haced discípulos a todas las naciones, bautizándolos en el nombre del Padre, y del Hijo, y del Espíritu Santo; enseñándoles que guarden todas las cosas que os he mandado; y he aquí yo estoy con vosotros todos los días, hasta el fin del mundo. Amén”.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6e6e6"/>
                  </a:solidFill>
                  <a:latin typeface="Times New Roman"/>
                  <a:ea typeface="Times New Roman"/>
                </a:rPr>
                <a:t>—</a:t>
              </a:r>
              <a:r>
                <a:rPr b="0" i="1" lang="en-US" sz="1800" spc="-1" strike="noStrike">
                  <a:solidFill>
                    <a:srgbClr val="e6e6e6"/>
                  </a:solidFill>
                  <a:latin typeface="Times New Roman"/>
                  <a:ea typeface="Times New Roman"/>
                </a:rPr>
                <a:t>Mateo 28. 18b-2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380880" y="228600"/>
            <a:ext cx="714384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s órdenes para nuestra batalla: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590920"/>
            <a:ext cx="8076960" cy="2971800"/>
          </a:xfrm>
          <a:prstGeom prst="rect">
            <a:avLst/>
          </a:prstGeom>
          <a:noFill/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8954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e6e6e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Población de jóvenes en los EEU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para el año 2010                                           31 mill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986120" cy="2514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480" y="18288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4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¿Cómo lo hemos hecho? –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4920" y="22860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 campo de batall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962520"/>
            <a:ext cx="7918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e6e6e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Jóvenes matriculados actualmente en e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Estudio  Bíblico de la CBS:                            1,039,7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841400" cy="312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228600"/>
            <a:ext cx="5790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l campo de batalla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8288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r>
              <a:rPr b="0" i="1" lang="en-US" sz="4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¿Cómo lo hemos hecho? –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590920"/>
            <a:ext cx="8076960" cy="3886200"/>
          </a:xfrm>
          <a:prstGeom prst="rect">
            <a:avLst/>
          </a:prstGeom>
          <a:noFill/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954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e6e6e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Jóvenes bautizados por las iglesias </a:t>
            </a:r>
            <a:br>
              <a:rPr sz="2400"/>
            </a:b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  de la CBS en  2004                             84,0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9625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e6e6e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Iglesia que bautizó más jóvenes        627 (T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e6e6e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6e6e6"/>
                </a:solidFill>
                <a:latin typeface="Arial"/>
              </a:rPr>
              <a:t>Jóvenes bautizados por la iglesia #10     120 (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5950080"/>
            <a:ext cx="84582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6e6e6"/>
                </a:solidFill>
                <a:latin typeface="Arial"/>
                <a:ea typeface="Times New Roman"/>
              </a:rPr>
              <a:t>(Cantidades informadas en el Informe Anual de la Iglesia de 2004 por las iglesias de 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6e6e6"/>
                </a:solidFill>
                <a:latin typeface="Arial"/>
                <a:ea typeface="Times New Roman"/>
              </a:rPr>
              <a:t>Convención Bautista del Su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11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43280" y="2276640"/>
            <a:ext cx="525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¡Los miembros que están en su clase no son </a:t>
            </a:r>
            <a:r>
              <a:rPr b="0" i="1" lang="en-US" sz="4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solamente</a:t>
            </a:r>
            <a:r>
              <a:rPr b="0" i="1" lang="en-US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el campo de batalla o nuestra misió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00000" y="333360"/>
            <a:ext cx="748836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 esfera de nuestra misión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¡Nuestro         nos ha dado una esfera de influencia mucho más grande de lo que pensamos!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3349080" y="836640"/>
            <a:ext cx="153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9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21:00:42Z</dcterms:created>
  <dc:creator>LifeWay Christian Resources</dc:creator>
  <dc:description/>
  <dc:language>en-US</dc:language>
  <cp:lastModifiedBy>kyoung</cp:lastModifiedBy>
  <dcterms:modified xsi:type="dcterms:W3CDTF">2006-08-24T19:09:35Z</dcterms:modified>
  <cp:revision>105</cp:revision>
  <dc:subject/>
  <dc:title>La Escuela Dominical 3D-Jóvenes</dc:title>
</cp:coreProperties>
</file>