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90920" y="609480"/>
            <a:ext cx="58672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45788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90920" y="609480"/>
            <a:ext cx="58672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26665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4578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4578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590920" y="609480"/>
            <a:ext cx="58672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26665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26665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4578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4578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4578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590920" y="609480"/>
            <a:ext cx="58672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90920" y="609480"/>
            <a:ext cx="58672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90920" y="609480"/>
            <a:ext cx="58672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26665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90920" y="609480"/>
            <a:ext cx="58672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590920" y="609480"/>
            <a:ext cx="586728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90920" y="609480"/>
            <a:ext cx="58672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6665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4578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90920" y="609480"/>
            <a:ext cx="58672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26665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4578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90920" y="609480"/>
            <a:ext cx="58672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6665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45788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90920" y="609480"/>
            <a:ext cx="58672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7240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7524720" y="6308640"/>
            <a:ext cx="1368360" cy="37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79280" y="4365720"/>
            <a:ext cx="7921800" cy="2288520"/>
          </a:xfrm>
          <a:prstGeom prst="rect">
            <a:avLst/>
          </a:prstGeom>
          <a:solidFill>
            <a:srgbClr val="ee7c1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na estrategia tridimensional para ayudar a los miembros y a los líderes a cumplir la Gran Comisión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380880" y="152280"/>
            <a:ext cx="8382240" cy="12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168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La Escuela Dominical 3D</a:t>
            </a:r>
            <a:endParaRPr b="0" lang="en-US" sz="2400" spc="1" strike="noStrike">
              <a:ln w="3168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3573360"/>
            <a:ext cx="7591320" cy="2592360"/>
          </a:xfrm>
          <a:prstGeom prst="rect">
            <a:avLst/>
          </a:prstGeom>
          <a:solidFill>
            <a:srgbClr val="ee7c1c"/>
          </a:solidFill>
          <a:ln w="0">
            <a:noFill/>
          </a:ln>
          <a:effectLst>
            <a:outerShdw dist="17819" dir="2700000" blurRad="0" rotWithShape="0">
              <a:srgbClr val="808080">
                <a:alpha val="9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 si alguno prevaleciere contra uno, dos le resistirán; y cordón de tres dobleces no se rompe pronto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—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lesiastés 4.12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25280" y="260280"/>
            <a:ext cx="8893440" cy="103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168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La Escuela Dominical 3D: Adultos</a:t>
            </a:r>
            <a:endParaRPr b="0" lang="en-US" sz="2400" spc="1" strike="noStrike">
              <a:ln w="3168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3068640"/>
            <a:ext cx="7620120" cy="3048120"/>
          </a:xfrm>
          <a:prstGeom prst="rect">
            <a:avLst/>
          </a:prstGeom>
          <a:solidFill>
            <a:srgbClr val="ee7c1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nsancha el sitio de tu tienda, y las cortinas de tus habitaciones sean extendidas; no seas escasa; alarga tus cuerdas, y refuerza tus estacas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—Isaías 54.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42920" y="189000"/>
            <a:ext cx="8893080" cy="103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168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La Escuela Dominical 3D: Adultos</a:t>
            </a:r>
            <a:endParaRPr b="0" lang="en-US" sz="2400" spc="1" strike="noStrike">
              <a:ln w="3168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643280" y="2492280"/>
            <a:ext cx="4403880" cy="3804840"/>
          </a:xfrm>
          <a:prstGeom prst="rect">
            <a:avLst/>
          </a:prstGeom>
          <a:solidFill>
            <a:srgbClr val="ee7c1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ce tres grupos basándose en el color de su sog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énte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o grupo, enumere las maneras en que la soga pueda usars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80880" y="152280"/>
            <a:ext cx="8382240" cy="12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168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La Escuela Dominical 3D</a:t>
            </a:r>
            <a:endParaRPr b="0" lang="en-US" sz="2400" spc="1" strike="noStrike">
              <a:ln w="3168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229600" cy="4800600"/>
          </a:xfrm>
          <a:prstGeom prst="rect">
            <a:avLst/>
          </a:prstGeom>
          <a:solidFill>
            <a:srgbClr val="ee7c1c"/>
          </a:solidFill>
          <a:ln w="0">
            <a:noFill/>
          </a:ln>
          <a:effectLst>
            <a:outerShdw dist="17819" dir="2700000" blurRad="0" rotWithShape="0">
              <a:srgbClr val="4a301a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 Mejores son dos que uno; porque tienen mejor paga de su trabajo.</a:t>
            </a:r>
            <a:r>
              <a:rPr b="1" i="1" lang="en-US" sz="3200" spc="-1" strike="noStrike" baseline="30000">
                <a:solidFill>
                  <a:srgbClr val="ffffff"/>
                </a:solidFill>
                <a:latin typeface="Times New Roman"/>
              </a:rPr>
              <a:t>10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 Porque si cayeren, el uno levantará a su compañero; pero ¡ay del solo! Que cuando cayere, no habrá segundo que lo levante. </a:t>
            </a:r>
            <a:r>
              <a:rPr b="1" i="1" lang="en-US" sz="3200" spc="-1" strike="noStrike" baseline="30000">
                <a:solidFill>
                  <a:srgbClr val="ffffff"/>
                </a:solidFill>
                <a:latin typeface="Times New Roman"/>
              </a:rPr>
              <a:t>11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 También  si dos durmieren juntos, se calentarán mutuamente; mas ¿cómo se calentará uno solo?  </a:t>
            </a:r>
            <a:r>
              <a:rPr b="1" i="1" lang="en-US" sz="3200" spc="-1" strike="noStrike" baseline="30000">
                <a:solidFill>
                  <a:srgbClr val="ffffff"/>
                </a:solidFill>
                <a:latin typeface="Times New Roman"/>
              </a:rPr>
              <a:t>12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 Y si alguno prevaleciere contra uno, dos le resistirán; y cordón de tres dobleces no se rompe pron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0" y="42696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clesiastés 4.9-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609480" y="1600200"/>
            <a:ext cx="2743200" cy="2244600"/>
            <a:chOff x="609480" y="1600200"/>
            <a:chExt cx="2743200" cy="2244600"/>
          </a:xfrm>
        </p:grpSpPr>
        <p:sp>
          <p:nvSpPr>
            <p:cNvPr id="47" name=""/>
            <p:cNvSpPr/>
            <p:nvPr/>
          </p:nvSpPr>
          <p:spPr>
            <a:xfrm>
              <a:off x="609480" y="1600200"/>
              <a:ext cx="2743200" cy="2244600"/>
            </a:xfrm>
            <a:custGeom>
              <a:avLst/>
              <a:gdLst>
                <a:gd name="textAreaLeft" fmla="*/ 145440 w 2743200"/>
                <a:gd name="textAreaRight" fmla="*/ 2597760 w 2743200"/>
                <a:gd name="textAreaTop" fmla="*/ 145440 h 2244600"/>
                <a:gd name="textAreaBottom" fmla="*/ 2099160 h 2244600"/>
              </a:gdLst>
              <a:ahLst/>
              <a:rect l="textAreaLeft" t="textAreaTop" r="textAreaRight" b="textAreaBottom"/>
              <a:pathLst>
                <a:path w="26397" h="21600">
                  <a:moveTo>
                    <a:pt x="0" y="0"/>
                  </a:moveTo>
                  <a:lnTo>
                    <a:pt x="26397" y="0"/>
                  </a:lnTo>
                  <a:lnTo>
                    <a:pt x="26397" y="21600"/>
                  </a:lnTo>
                  <a:lnTo>
                    <a:pt x="0" y="21600"/>
                  </a:lnTo>
                  <a:close/>
                </a:path>
                <a:path fill="lightenLess" w="26397" h="21600">
                  <a:moveTo>
                    <a:pt x="0" y="0"/>
                  </a:moveTo>
                  <a:lnTo>
                    <a:pt x="26397" y="0"/>
                  </a:lnTo>
                  <a:lnTo>
                    <a:pt x="24997" y="1400"/>
                  </a:lnTo>
                  <a:lnTo>
                    <a:pt x="1400" y="1400"/>
                  </a:lnTo>
                  <a:close/>
                </a:path>
                <a:path fill="darken" w="26397" h="21600">
                  <a:moveTo>
                    <a:pt x="26397" y="0"/>
                  </a:moveTo>
                  <a:lnTo>
                    <a:pt x="26397" y="21600"/>
                  </a:lnTo>
                  <a:lnTo>
                    <a:pt x="24997" y="20200"/>
                  </a:lnTo>
                  <a:lnTo>
                    <a:pt x="24997" y="1400"/>
                  </a:lnTo>
                  <a:close/>
                </a:path>
                <a:path fill="darkenLess" w="26397" h="21600">
                  <a:moveTo>
                    <a:pt x="2639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997" y="20200"/>
                  </a:lnTo>
                  <a:close/>
                </a:path>
                <a:path fill="lighten" w="2639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ee7c1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143000" y="2209680"/>
              <a:ext cx="2057400" cy="764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a13e0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Invita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5394240" y="1600200"/>
            <a:ext cx="2911680" cy="2244600"/>
            <a:chOff x="5394240" y="1600200"/>
            <a:chExt cx="2911680" cy="2244600"/>
          </a:xfrm>
        </p:grpSpPr>
        <p:sp>
          <p:nvSpPr>
            <p:cNvPr id="50" name=""/>
            <p:cNvSpPr/>
            <p:nvPr/>
          </p:nvSpPr>
          <p:spPr>
            <a:xfrm>
              <a:off x="5394240" y="1600200"/>
              <a:ext cx="2911680" cy="2244600"/>
            </a:xfrm>
            <a:custGeom>
              <a:avLst/>
              <a:gdLst>
                <a:gd name="textAreaLeft" fmla="*/ 145440 w 2911680"/>
                <a:gd name="textAreaRight" fmla="*/ 2766240 w 2911680"/>
                <a:gd name="textAreaTop" fmla="*/ 145440 h 2244600"/>
                <a:gd name="textAreaBottom" fmla="*/ 2099160 h 2244600"/>
              </a:gdLst>
              <a:ahLst/>
              <a:rect l="textAreaLeft" t="textAreaTop" r="textAreaRight" b="textAreaBottom"/>
              <a:pathLst>
                <a:path w="28018" h="21600">
                  <a:moveTo>
                    <a:pt x="0" y="0"/>
                  </a:moveTo>
                  <a:lnTo>
                    <a:pt x="28018" y="0"/>
                  </a:lnTo>
                  <a:lnTo>
                    <a:pt x="28018" y="21600"/>
                  </a:lnTo>
                  <a:lnTo>
                    <a:pt x="0" y="21600"/>
                  </a:lnTo>
                  <a:close/>
                </a:path>
                <a:path fill="lightenLess" w="28018" h="21600">
                  <a:moveTo>
                    <a:pt x="0" y="0"/>
                  </a:moveTo>
                  <a:lnTo>
                    <a:pt x="28018" y="0"/>
                  </a:lnTo>
                  <a:lnTo>
                    <a:pt x="26618" y="1400"/>
                  </a:lnTo>
                  <a:lnTo>
                    <a:pt x="1400" y="1400"/>
                  </a:lnTo>
                  <a:close/>
                </a:path>
                <a:path fill="darken" w="28018" h="21600">
                  <a:moveTo>
                    <a:pt x="28018" y="0"/>
                  </a:moveTo>
                  <a:lnTo>
                    <a:pt x="28018" y="21600"/>
                  </a:lnTo>
                  <a:lnTo>
                    <a:pt x="26618" y="20200"/>
                  </a:lnTo>
                  <a:lnTo>
                    <a:pt x="26618" y="1400"/>
                  </a:lnTo>
                  <a:close/>
                </a:path>
                <a:path fill="darkenLess" w="28018" h="21600">
                  <a:moveTo>
                    <a:pt x="2801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618" y="20200"/>
                  </a:lnTo>
                  <a:close/>
                </a:path>
                <a:path fill="lighten" w="2801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ee7c1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651640" y="2286000"/>
              <a:ext cx="2425680" cy="764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a13e0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Descubr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003480" y="4149720"/>
            <a:ext cx="2871720" cy="2244600"/>
            <a:chOff x="3003480" y="4149720"/>
            <a:chExt cx="2871720" cy="2244600"/>
          </a:xfrm>
        </p:grpSpPr>
        <p:sp>
          <p:nvSpPr>
            <p:cNvPr id="53" name=""/>
            <p:cNvSpPr/>
            <p:nvPr/>
          </p:nvSpPr>
          <p:spPr>
            <a:xfrm>
              <a:off x="3003480" y="4149720"/>
              <a:ext cx="2871720" cy="2244600"/>
            </a:xfrm>
            <a:custGeom>
              <a:avLst/>
              <a:gdLst>
                <a:gd name="textAreaLeft" fmla="*/ 145440 w 2871720"/>
                <a:gd name="textAreaRight" fmla="*/ 2726280 w 2871720"/>
                <a:gd name="textAreaTop" fmla="*/ 145440 h 2244600"/>
                <a:gd name="textAreaBottom" fmla="*/ 2099160 h 2244600"/>
              </a:gdLst>
              <a:ahLst/>
              <a:rect l="textAreaLeft" t="textAreaTop" r="textAreaRight" b="textAreaBottom"/>
              <a:pathLst>
                <a:path w="27634" h="21600">
                  <a:moveTo>
                    <a:pt x="0" y="0"/>
                  </a:moveTo>
                  <a:lnTo>
                    <a:pt x="27634" y="0"/>
                  </a:lnTo>
                  <a:lnTo>
                    <a:pt x="27634" y="21600"/>
                  </a:lnTo>
                  <a:lnTo>
                    <a:pt x="0" y="21600"/>
                  </a:lnTo>
                  <a:close/>
                </a:path>
                <a:path fill="lightenLess" w="27634" h="21600">
                  <a:moveTo>
                    <a:pt x="0" y="0"/>
                  </a:moveTo>
                  <a:lnTo>
                    <a:pt x="27634" y="0"/>
                  </a:lnTo>
                  <a:lnTo>
                    <a:pt x="26234" y="1400"/>
                  </a:lnTo>
                  <a:lnTo>
                    <a:pt x="1400" y="1400"/>
                  </a:lnTo>
                  <a:close/>
                </a:path>
                <a:path fill="darken" w="27634" h="21600">
                  <a:moveTo>
                    <a:pt x="27634" y="0"/>
                  </a:moveTo>
                  <a:lnTo>
                    <a:pt x="27634" y="21600"/>
                  </a:lnTo>
                  <a:lnTo>
                    <a:pt x="26234" y="20200"/>
                  </a:lnTo>
                  <a:lnTo>
                    <a:pt x="26234" y="1400"/>
                  </a:lnTo>
                  <a:close/>
                </a:path>
                <a:path fill="darkenLess" w="27634" h="21600">
                  <a:moveTo>
                    <a:pt x="2763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234" y="20200"/>
                  </a:lnTo>
                  <a:close/>
                </a:path>
                <a:path fill="lighten" w="2763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ee7c1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276720" y="4759200"/>
              <a:ext cx="2369880" cy="764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a13e0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Conecta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 txBox="1"/>
          <p:nvPr/>
        </p:nvSpPr>
        <p:spPr>
          <a:xfrm>
            <a:off x="380880" y="152280"/>
            <a:ext cx="8382240" cy="12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168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La Escuela Dominical 3D</a:t>
            </a:r>
            <a:endParaRPr b="0" lang="en-US" sz="2400" spc="1" strike="noStrike">
              <a:ln w="3168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na clase que invita…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76000" y="1196640"/>
            <a:ext cx="6095880" cy="5111640"/>
          </a:xfrm>
          <a:prstGeom prst="rect">
            <a:avLst/>
          </a:prstGeom>
          <a:solidFill>
            <a:srgbClr val="ee7c1c">
              <a:alpha val="97000"/>
            </a:srgbClr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en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ntusiasmo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ra invitar a otros.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s miembros se comprometen a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rabajar junto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ra invitar a las amistades que no tienen iglesia.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 reún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egularment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ibe a los invitados en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ualquier moment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 una clase qu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atricul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ene un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la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claro de estudio bíbli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ene un plan claro para recibir y darle seguimiento a los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nvit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 enseñado a los miembros a ser “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nvitador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”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17000" y="1258920"/>
            <a:ext cx="8991720" cy="5410080"/>
          </a:xfrm>
          <a:prstGeom prst="rect">
            <a:avLst/>
          </a:prstGeom>
          <a:solidFill>
            <a:srgbClr val="ee7c1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xperi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 grupos pequeños donde las personas descubren las verdades de la Biblia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 una experiencia de grupo y de medio ambiente que hacen posible que las person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quiera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isti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centraliza en l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fectiv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l estudio de la Palabra de Dio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volucr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 los adultos en el aprendizaje y los líderes no esperan a que los participantes solo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veng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scuch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seña a los adultos cómo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studi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a Biblia por si mismo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afía a lo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reyent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 crecer y desafía a lo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erdid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 comprender y responder al evangelio.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foca los grupos pequeños para que el estudio bíblico se aprenda en el contexto d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elac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uerte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olucra a lo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iembr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 la experiencia de estudio bíbli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aestro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sper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a transformación y no tan solo una esperanz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250560" y="-100440"/>
            <a:ext cx="8591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Una clase que descubre. . 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79280" y="1029960"/>
            <a:ext cx="8839440" cy="5638680"/>
          </a:xfrm>
          <a:prstGeom prst="rect">
            <a:avLst/>
          </a:prstGeom>
          <a:solidFill>
            <a:srgbClr val="ee7c1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actica el amor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rater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amor a los hermanos) y l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hospita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el amor a los extraños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baja con la clase para proveer oportunidades a las personas de conectarse mediante e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mpañerism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 e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inisterio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 el ambiente donde todas las personas, particularmente los recién llegados, puedan conectarse y ser cuidados como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lguien especia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pera visitantes y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lanific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ra saludarlos e inscribirlos cuando llega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dentificac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on los nombres de las persona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ganiz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rup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uidado para ministrar y anima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ecta mediante l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orac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ecta mediante las actividades d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mpañerism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ecta a los miembros con la vida de l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glesi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0" y="-17136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na clase que conecta. . 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838080"/>
            <a:ext cx="9144000" cy="6019920"/>
          </a:xfrm>
          <a:prstGeom prst="rect">
            <a:avLst/>
          </a:prstGeom>
          <a:solidFill>
            <a:srgbClr val="ee7c1c">
              <a:alpha val="88000"/>
            </a:srgbClr>
          </a:solidFill>
          <a:ln w="9360">
            <a:solidFill>
              <a:srgbClr val="000000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¿Cómo está su clase?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67360" y="914400"/>
            <a:ext cx="1971720" cy="2971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191919">
                <a:alpha val="85000"/>
              </a:srgbClr>
            </a:outerShdw>
          </a:effectLst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048200" y="2514600"/>
            <a:ext cx="1981080" cy="2971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191919">
                <a:alpha val="85000"/>
              </a:srgbClr>
            </a:outerShdw>
          </a:effectLst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165320" y="3962520"/>
            <a:ext cx="1968480" cy="2773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191919">
                <a:alpha val="85000"/>
              </a:srgbClr>
            </a:outerShdw>
          </a:effectLst>
        </p:spPr>
      </p:pic>
      <p:sp>
        <p:nvSpPr>
          <p:cNvPr id="67" name=""/>
          <p:cNvSpPr/>
          <p:nvPr/>
        </p:nvSpPr>
        <p:spPr>
          <a:xfrm>
            <a:off x="5257800" y="1050840"/>
            <a:ext cx="145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¿Atada y limitad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72200" y="4267080"/>
            <a:ext cx="260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¿Apenas arriba del agua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76720" y="5715000"/>
            <a:ext cx="236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¿Escalando a nuevas altura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206280" y="946080"/>
            <a:ext cx="1851120" cy="2590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85000"/>
              </a:srgbClr>
            </a:outerShdw>
          </a:effectLst>
        </p:spPr>
      </p:pic>
      <p:sp>
        <p:nvSpPr>
          <p:cNvPr id="71" name=""/>
          <p:cNvSpPr/>
          <p:nvPr/>
        </p:nvSpPr>
        <p:spPr>
          <a:xfrm>
            <a:off x="2195640" y="1557360"/>
            <a:ext cx="170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¿Sostenida por un hil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4114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Parte do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08000" y="5157720"/>
            <a:ext cx="8893080" cy="103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168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La Escuela Dominical 3D: Adultos</a:t>
            </a:r>
            <a:endParaRPr b="0" lang="en-US" sz="2400" spc="1" strike="noStrike">
              <a:ln w="3168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5T17:51:39Z</dcterms:created>
  <dc:creator>LifeWay Christian Resources</dc:creator>
  <dc:description/>
  <dc:language>en-US</dc:language>
  <cp:lastModifiedBy>kyoung</cp:lastModifiedBy>
  <dcterms:modified xsi:type="dcterms:W3CDTF">2006-08-28T21:23:58Z</dcterms:modified>
  <cp:revision>67</cp:revision>
  <dc:subject/>
  <dc:title>La Escuela Dominical 3D-Adultos</dc:title>
</cp:coreProperties>
</file>